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8.wmf" ContentType="image/x-wmf"/>
  <Override PartName="/ppt/media/image12.jpeg" ContentType="image/jpeg"/>
  <Override PartName="/ppt/media/image18.wmf" ContentType="image/x-wmf"/>
  <Override PartName="/ppt/media/image16.jpeg" ContentType="image/jpe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4.wmf" ContentType="image/x-wmf"/>
  <Override PartName="/ppt/media/image17.jpeg" ContentType="image/jpeg"/>
  <Override PartName="/ppt/media/image3.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9F152-7278-4A92-8E2F-FB4953E7B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14400" y="134136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914400" y="381852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BEF28-E6D9-497C-AF00-27B2A92D2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91440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13144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9C33F-81BD-4F9B-BD42-CDB0A0077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91440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69684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7928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91440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69684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7928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471ED-6DFA-4DA7-9BF0-5360D450E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45A5F-71D8-483D-8857-82D3BFC2B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914400" y="1341360"/>
            <a:ext cx="8229600" cy="4741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9243C-2C14-468D-B0BD-57EDEEF06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914400" y="1341360"/>
            <a:ext cx="82296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B42F9-FA00-40FA-A2F8-8B1A40887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91440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3144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3C242-B619-4E86-AD41-3BE7A298F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483FB-D219-44DA-A9BD-E6E093E0E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258920" y="259920"/>
            <a:ext cx="7345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8C828-BA17-4D6A-A5CB-AE0DB9599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13144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91440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42D77-C70F-4BED-A7B8-5F020DC68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914400" y="1341360"/>
            <a:ext cx="8229600" cy="4741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CC994-24F1-4E80-B9D2-B1F81032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91440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513144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D5D1C-F629-4070-8EB3-178DF9B7F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14400" y="381852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ADB4A-1DCB-4A95-9823-34651CE95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914400" y="134136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914400" y="381852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A4FA3-3981-4B5D-B1E2-A7698240B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91440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513144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11676-70F5-4FF8-80F8-A3137ABB5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91440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69684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47928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91440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69684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47928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C1244-2952-4341-94FA-C52056E90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914400" y="1341360"/>
            <a:ext cx="82296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23B6C-340D-4D3C-930F-4D3AE8207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91440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3144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793CE-4BE9-4D0A-ADCC-EE8CB4662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D408E-14A1-4B95-AF3A-EB0EB9342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58920" y="259920"/>
            <a:ext cx="7345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52E4-1F1F-4D1E-810D-39F5290B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144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91440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CEAB7-360F-4F04-BC9F-1BF3F7B3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91440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3144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3074-CAE6-44F9-8867-5E9217614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914400" y="381852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6B29-948D-4176-8691-BF5B2FB2B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0" name="Picture 2" descr="logoverano"/>
          <p:cNvPicPr/>
          <p:nvPr/>
        </p:nvPicPr>
        <p:blipFill>
          <a:blip r:embed="rId2"/>
          <a:srcRect l="0" t="0" r="51972" b="0"/>
          <a:stretch/>
        </p:blipFill>
        <p:spPr>
          <a:xfrm>
            <a:off x="6141960" y="0"/>
            <a:ext cx="3002040" cy="6858000"/>
          </a:xfrm>
          <a:prstGeom prst="rect">
            <a:avLst/>
          </a:prstGeom>
          <a:ln w="0">
            <a:noFill/>
          </a:ln>
        </p:spPr>
      </p:pic>
      <p:sp>
        <p:nvSpPr>
          <p:cNvPr id="1" name="Rectangle 3"/>
          <p:cNvSpPr/>
          <p:nvPr/>
        </p:nvSpPr>
        <p:spPr>
          <a:xfrm>
            <a:off x="0" y="0"/>
            <a:ext cx="9144000" cy="6858000"/>
          </a:xfrm>
          <a:prstGeom prst="rect">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914400" y="1341360"/>
            <a:ext cx="8229600" cy="4741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5BAB-82CF-4FEE-8F74-CFBF9FA38344}"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7" name="AutoShape 9"/>
          <p:cNvSpPr/>
          <p:nvPr/>
        </p:nvSpPr>
        <p:spPr>
          <a:xfrm>
            <a:off x="4762440" y="2863800"/>
            <a:ext cx="2685960" cy="1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8" name="Picture 10" descr="logo-insp"/>
          <p:cNvPicPr/>
          <p:nvPr/>
        </p:nvPicPr>
        <p:blipFill>
          <a:blip r:embed="rId3"/>
          <a:stretch/>
        </p:blipFill>
        <p:spPr>
          <a:xfrm>
            <a:off x="108000" y="187200"/>
            <a:ext cx="145728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5" name="Picture 2" descr="logoverano"/>
          <p:cNvPicPr/>
          <p:nvPr/>
        </p:nvPicPr>
        <p:blipFill>
          <a:blip r:embed="rId2"/>
          <a:srcRect l="0" t="0" r="51972" b="0"/>
          <a:stretch/>
        </p:blipFill>
        <p:spPr>
          <a:xfrm>
            <a:off x="6141960" y="0"/>
            <a:ext cx="3002040" cy="6858000"/>
          </a:xfrm>
          <a:prstGeom prst="rect">
            <a:avLst/>
          </a:prstGeom>
          <a:ln w="0">
            <a:noFill/>
          </a:ln>
        </p:spPr>
      </p:pic>
      <p:sp>
        <p:nvSpPr>
          <p:cNvPr id="46" name="Rectangle 3"/>
          <p:cNvSpPr/>
          <p:nvPr/>
        </p:nvSpPr>
        <p:spPr>
          <a:xfrm>
            <a:off x="0" y="0"/>
            <a:ext cx="9144000" cy="6858000"/>
          </a:xfrm>
          <a:prstGeom prst="rect">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AutoShape 9"/>
          <p:cNvSpPr/>
          <p:nvPr/>
        </p:nvSpPr>
        <p:spPr>
          <a:xfrm>
            <a:off x="4762440" y="2863800"/>
            <a:ext cx="2685960" cy="1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48" name="Picture 10" descr="logo-insp"/>
          <p:cNvPicPr/>
          <p:nvPr/>
        </p:nvPicPr>
        <p:blipFill>
          <a:blip r:embed="rId3"/>
          <a:stretch/>
        </p:blipFill>
        <p:spPr>
          <a:xfrm>
            <a:off x="108000" y="187200"/>
            <a:ext cx="1457280" cy="505080"/>
          </a:xfrm>
          <a:prstGeom prst="rect">
            <a:avLst/>
          </a:prstGeom>
          <a:ln w="0">
            <a:noFill/>
          </a:ln>
        </p:spPr>
      </p:pic>
      <p:pic>
        <p:nvPicPr>
          <p:cNvPr id="49" name="Picture 3" descr="Programa de Actualización"/>
          <p:cNvPicPr/>
          <p:nvPr/>
        </p:nvPicPr>
        <p:blipFill>
          <a:blip r:embed="rId4"/>
          <a:stretch/>
        </p:blipFill>
        <p:spPr>
          <a:xfrm>
            <a:off x="7715160" y="6000840"/>
            <a:ext cx="1357560" cy="646200"/>
          </a:xfrm>
          <a:prstGeom prst="rect">
            <a:avLst/>
          </a:prstGeom>
          <a:ln w="0">
            <a:noFill/>
          </a:ln>
        </p:spPr>
      </p:pic>
      <p:sp>
        <p:nvSpPr>
          <p:cNvPr id="50"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914400" y="1341360"/>
            <a:ext cx="8229600" cy="4741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0145-049C-4405-9EE5-854601738744}"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hyperlink" Target="http://www.edgardorobledo.com/BurkeLitwin.jpg" TargetMode="External"/><Relationship Id="rId2" Type="http://schemas.openxmlformats.org/officeDocument/2006/relationships/hyperlink" Target="http://www.edgardorobledo.com/BurkeLitwin.jpg" TargetMode="External"/><Relationship Id="rId3" Type="http://schemas.openxmlformats.org/officeDocument/2006/relationships/hyperlink" Target="http://www.edgardorobledo.com/FrenchyBell.jpg" TargetMode="External"/><Relationship Id="rId4" Type="http://schemas.openxmlformats.org/officeDocument/2006/relationships/hyperlink" Target="http://www.edgardorobledo.com/FrenchyBell.jpg" TargetMode="External"/><Relationship Id="rId5" Type="http://schemas.openxmlformats.org/officeDocument/2006/relationships/hyperlink" Target="http://www.edgardorobledo.com/Hanna.jpg" TargetMode="External"/><Relationship Id="rId6" Type="http://schemas.openxmlformats.org/officeDocument/2006/relationships/hyperlink" Target="http://www.edgardorobledo.com/Lewin.jpg" TargetMode="External"/><Relationship Id="rId7" Type="http://schemas.openxmlformats.org/officeDocument/2006/relationships/hyperlink" Target="http://www.edgardorobledo.com/MAO.jpg" TargetMode="External"/><Relationship Id="rId8" Type="http://schemas.openxmlformats.org/officeDocument/2006/relationships/hyperlink" Target="http://www.edgardorobledo.com/ModeloSensing.jpg" TargetMode="External"/><Relationship Id="rId9" Type="http://schemas.openxmlformats.org/officeDocument/2006/relationships/hyperlink" Target="http://www.edgardorobledo.com/ModeloSensing.jpg" TargetMode="External"/><Relationship Id="rId10" Type="http://schemas.openxmlformats.org/officeDocument/2006/relationships/hyperlink" Target="http://www.edgardorobledo.com/PatrickWilliams.jpg" TargetMode="External"/><Relationship Id="rId11" Type="http://schemas.openxmlformats.org/officeDocument/2006/relationships/hyperlink" Target="http://www.edgardorobledo.com/PorrasyRobertson.jpg" TargetMode="External"/><Relationship Id="rId12" Type="http://schemas.openxmlformats.org/officeDocument/2006/relationships/hyperlink" Target="http://www.edgardorobledo.com/Weisbord.jpg" TargetMode="External"/><Relationship Id="rId1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476280"/>
            <a:ext cx="814392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c00000"/>
                </a:solidFill>
                <a:latin typeface="Arial"/>
              </a:rPr>
              <a:t>Gerencia de servicios de Salud</a:t>
            </a:r>
            <a:endParaRPr b="0" lang="en-US" sz="5400" spc="-1" strike="noStrike">
              <a:solidFill>
                <a:srgbClr val="000000"/>
              </a:solidFill>
              <a:latin typeface="Arial"/>
            </a:endParaRPr>
          </a:p>
        </p:txBody>
      </p:sp>
      <p:sp>
        <p:nvSpPr>
          <p:cNvPr id="92" name="Rectangle 5"/>
          <p:cNvSpPr/>
          <p:nvPr/>
        </p:nvSpPr>
        <p:spPr>
          <a:xfrm>
            <a:off x="324000" y="5132520"/>
            <a:ext cx="8569080" cy="672840"/>
          </a:xfrm>
          <a:prstGeom prst="rect">
            <a:avLst/>
          </a:prstGeom>
          <a:noFill/>
          <a:ln w="0">
            <a:noFill/>
          </a:ln>
        </p:spPr>
        <p:style>
          <a:lnRef idx="0"/>
          <a:fillRef idx="0"/>
          <a:effectRef idx="0"/>
          <a:fontRef idx="minor"/>
        </p:style>
        <p:txBody>
          <a:bodyPr lIns="92160" rIns="92160" tIns="46080" bIns="4608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Juan Francisco Molina Rodríguez</a:t>
            </a:r>
            <a:endParaRPr b="0" lang="en-US" sz="2000" spc="-1" strike="noStrike">
              <a:solidFill>
                <a:srgbClr val="000000"/>
              </a:solidFill>
              <a:latin typeface="Tahoma"/>
            </a:endParaRPr>
          </a:p>
        </p:txBody>
      </p:sp>
      <p:sp>
        <p:nvSpPr>
          <p:cNvPr id="93" name=""/>
          <p:cNvSpPr/>
          <p:nvPr/>
        </p:nvSpPr>
        <p:spPr>
          <a:xfrm>
            <a:off x="900000" y="3284640"/>
            <a:ext cx="734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00"/>
                </a:solidFill>
                <a:latin typeface="Arial"/>
              </a:rPr>
              <a:t>Teoría organizacional</a:t>
            </a:r>
            <a:endParaRPr b="0" lang="en-US" sz="44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920" y="43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Arial"/>
              </a:rPr>
              <a:t>Organizaciones</a:t>
            </a:r>
            <a:endParaRPr b="0" lang="en-US" sz="4400" spc="-1" strike="noStrike">
              <a:solidFill>
                <a:srgbClr val="000000"/>
              </a:solidFill>
              <a:latin typeface="Arial"/>
            </a:endParaRPr>
          </a:p>
        </p:txBody>
      </p:sp>
      <p:sp>
        <p:nvSpPr>
          <p:cNvPr id="231" name="PlaceHolder 2"/>
          <p:cNvSpPr>
            <a:spLocks noGrp="1"/>
          </p:cNvSpPr>
          <p:nvPr>
            <p:ph/>
          </p:nvPr>
        </p:nvSpPr>
        <p:spPr>
          <a:xfrm>
            <a:off x="914400" y="1197000"/>
            <a:ext cx="4038480" cy="474192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ctividad </a:t>
            </a:r>
            <a:endParaRPr b="0" lang="en-US" sz="2000" spc="-1" strike="noStrike">
              <a:solidFill>
                <a:srgbClr val="000000"/>
              </a:solidFill>
              <a:latin typeface="Arial"/>
            </a:endParaRPr>
          </a:p>
          <a:p>
            <a:pPr lvl="1" marL="713160" indent="-2743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tor primario</a:t>
            </a:r>
            <a:endParaRPr b="0" lang="en-US" sz="2000" spc="-1" strike="noStrike">
              <a:solidFill>
                <a:srgbClr val="000000"/>
              </a:solidFill>
              <a:latin typeface="Arial"/>
            </a:endParaRPr>
          </a:p>
          <a:p>
            <a:pPr lvl="1" marL="713160" indent="-2743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tor secundario</a:t>
            </a:r>
            <a:endParaRPr b="0" lang="en-US" sz="2000" spc="-1" strike="noStrike">
              <a:solidFill>
                <a:srgbClr val="000000"/>
              </a:solidFill>
              <a:latin typeface="Arial"/>
            </a:endParaRPr>
          </a:p>
          <a:p>
            <a:pPr lvl="1" marL="713160" indent="-2743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ctor terciario</a:t>
            </a: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Ámbito de actuación</a:t>
            </a:r>
            <a:endParaRPr b="0" lang="en-US" sz="2000" spc="-1" strike="noStrike">
              <a:solidFill>
                <a:srgbClr val="000000"/>
              </a:solidFill>
              <a:latin typeface="Arial"/>
            </a:endParaRPr>
          </a:p>
          <a:p>
            <a:pPr lvl="1" marL="713160" indent="-2743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cales</a:t>
            </a:r>
            <a:endParaRPr b="0" lang="en-US" sz="2000" spc="-1" strike="noStrike">
              <a:solidFill>
                <a:srgbClr val="000000"/>
              </a:solidFill>
              <a:latin typeface="Arial"/>
            </a:endParaRPr>
          </a:p>
          <a:p>
            <a:pPr lvl="1" marL="713160" indent="-2743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gionales</a:t>
            </a:r>
            <a:endParaRPr b="0" lang="en-US" sz="2000" spc="-1" strike="noStrike">
              <a:solidFill>
                <a:srgbClr val="000000"/>
              </a:solidFill>
              <a:latin typeface="Arial"/>
            </a:endParaRPr>
          </a:p>
          <a:p>
            <a:pPr lvl="1" marL="713160" indent="-2743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cionales</a:t>
            </a:r>
            <a:endParaRPr b="0" lang="en-US" sz="2000" spc="-1" strike="noStrike">
              <a:solidFill>
                <a:srgbClr val="000000"/>
              </a:solidFill>
              <a:latin typeface="Arial"/>
            </a:endParaRPr>
          </a:p>
          <a:p>
            <a:pPr lvl="1" marL="713160" indent="-2743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ternacionales</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alidad</a:t>
            </a:r>
            <a:endParaRPr b="0" lang="en-US" sz="2000" spc="-1" strike="noStrike">
              <a:solidFill>
                <a:srgbClr val="000000"/>
              </a:solidFill>
              <a:latin typeface="Arial"/>
            </a:endParaRPr>
          </a:p>
          <a:p>
            <a:pPr lvl="1" marL="713160" indent="-2743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 fin de lucro (lucrativas)</a:t>
            </a:r>
            <a:endParaRPr b="0" lang="en-US" sz="2000" spc="-1" strike="noStrike">
              <a:solidFill>
                <a:srgbClr val="000000"/>
              </a:solidFill>
              <a:latin typeface="Arial"/>
            </a:endParaRPr>
          </a:p>
          <a:p>
            <a:pPr lvl="1" marL="713160" indent="-27432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n fin de lucro (no lucrativas)</a:t>
            </a:r>
            <a:endParaRPr b="0" lang="en-US" sz="2000" spc="-1" strike="noStrike">
              <a:solidFill>
                <a:srgbClr val="000000"/>
              </a:solidFill>
              <a:latin typeface="Arial"/>
            </a:endParaRPr>
          </a:p>
        </p:txBody>
      </p:sp>
      <p:sp>
        <p:nvSpPr>
          <p:cNvPr id="232" name="PlaceHolder 3"/>
          <p:cNvSpPr>
            <a:spLocks noGrp="1"/>
          </p:cNvSpPr>
          <p:nvPr>
            <p:ph/>
          </p:nvPr>
        </p:nvSpPr>
        <p:spPr>
          <a:xfrm>
            <a:off x="4716000" y="1341360"/>
            <a:ext cx="4506840" cy="4741920"/>
          </a:xfrm>
          <a:prstGeom prst="rect">
            <a:avLst/>
          </a:prstGeom>
          <a:noFill/>
          <a:ln w="0">
            <a:noFill/>
          </a:ln>
        </p:spPr>
        <p:txBody>
          <a:bodyPr lIns="90000" rIns="90000" tIns="46800" bIns="46800" anchor="t">
            <a:normAutofit fontScale="84000"/>
          </a:bodyPr>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Tamaño </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equeñas</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dianas</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Grandes</a:t>
            </a:r>
            <a:endParaRPr b="0" lang="en-US" sz="2000" spc="-1" strike="noStrike">
              <a:solidFill>
                <a:srgbClr val="000000"/>
              </a:solidFill>
              <a:latin typeface="Arial"/>
            </a:endParaRPr>
          </a:p>
          <a:p>
            <a:pPr lvl="1" marL="62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Origen del capital</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úblicas</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ivadas </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mpresa</a:t>
            </a:r>
            <a:endParaRPr b="0" lang="en-US" sz="2000" spc="-1" strike="noStrike">
              <a:solidFill>
                <a:srgbClr val="000000"/>
              </a:solidFill>
              <a:latin typeface="Arial"/>
            </a:endParaRPr>
          </a:p>
          <a:p>
            <a:pPr lvl="1" marL="62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Forma jurídica </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ociedad anónima</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ociedad de responsabilidad limitada</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ociedades de hecho</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ooperativa</a:t>
            </a:r>
            <a:endParaRPr b="0" lang="en-US" sz="2000" spc="-1" strike="noStrike">
              <a:solidFill>
                <a:srgbClr val="000000"/>
              </a:solidFill>
              <a:latin typeface="Arial"/>
            </a:endParaRPr>
          </a:p>
          <a:p>
            <a:pPr lvl="1" marL="623880" indent="-23976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Públicas</a:t>
            </a:r>
            <a:endParaRPr b="0" lang="en-US" sz="2000" spc="-1" strike="noStrike">
              <a:solidFill>
                <a:srgbClr val="000000"/>
              </a:solidFill>
              <a:latin typeface="Arial"/>
            </a:endParaRPr>
          </a:p>
          <a:p>
            <a:pPr marL="288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24000" y="1172880"/>
            <a:ext cx="8518320" cy="53276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las empresas se les define como unidades productoras de bienes o servicios, se les puede clasificar en base a diferentes criterios : </a:t>
            </a:r>
            <a:endParaRPr b="0" lang="en-US" sz="20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DE ACUERDO A SUS OBJETIVOS :</a:t>
            </a:r>
            <a:r>
              <a:rPr b="1" lang="en-US" sz="2000" spc="-1" strike="noStrike">
                <a:solidFill>
                  <a:srgbClr val="333399"/>
                </a:solidFill>
                <a:latin typeface="Arial"/>
              </a:rPr>
              <a:t> Se clasifican en publicas (no lucran) y privadas (tienen como objetivo lucrar).</a:t>
            </a:r>
            <a:endParaRPr b="0" lang="en-US" sz="20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DE ACUERDO A SU FUNCIÓN : </a:t>
            </a:r>
            <a:r>
              <a:rPr b="1" lang="en-US" sz="2000" spc="-1" strike="noStrike">
                <a:solidFill>
                  <a:srgbClr val="333399"/>
                </a:solidFill>
                <a:latin typeface="Arial"/>
              </a:rPr>
              <a:t>Industriales (las que llevan a cabo cualquier cambio o alteración a la materia prima) , Comerciales (Las que distribuyen productos que otros fabrican) y de Servicios (Turismo, telefonía, Salud).</a:t>
            </a:r>
            <a:endParaRPr b="0" lang="en-US" sz="20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c00000"/>
                </a:solidFill>
                <a:latin typeface="Arial"/>
              </a:rPr>
              <a:t>EL QUE UTILIZA PROMYP : </a:t>
            </a:r>
            <a:r>
              <a:rPr b="1" lang="en-US" sz="2000" spc="-1" strike="noStrike">
                <a:solidFill>
                  <a:srgbClr val="333399"/>
                </a:solidFill>
                <a:latin typeface="Arial"/>
              </a:rPr>
              <a:t>El Programa de ayuda para la pequeña y mediana empresa y que clasifica a las empresas en micro, pequeña, mediana y grande empresa. </a:t>
            </a:r>
            <a:endParaRPr b="0" lang="en-US" sz="2000" spc="-1" strike="noStrike">
              <a:solidFill>
                <a:srgbClr val="000000"/>
              </a:solidFill>
              <a:latin typeface="Arial"/>
            </a:endParaRPr>
          </a:p>
        </p:txBody>
      </p:sp>
      <p:sp>
        <p:nvSpPr>
          <p:cNvPr id="234" name="Rectangle 2"/>
          <p:cNvSpPr/>
          <p:nvPr/>
        </p:nvSpPr>
        <p:spPr>
          <a:xfrm>
            <a:off x="1258920" y="0"/>
            <a:ext cx="73454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990000"/>
                </a:solidFill>
                <a:latin typeface="Arial"/>
              </a:rPr>
              <a:t>Teoría organizacion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914400" y="1341360"/>
            <a:ext cx="8229600" cy="4741920"/>
          </a:xfrm>
          <a:prstGeom prst="rect">
            <a:avLst/>
          </a:prstGeom>
          <a:noFill/>
          <a:ln w="0">
            <a:noFill/>
          </a:ln>
        </p:spPr>
        <p:txBody>
          <a:bodyPr lIns="90000" rIns="90000" tIns="46800" bIns="46800" anchor="t">
            <a:normAutofit/>
          </a:bodyPr>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l objetivo</a:t>
            </a:r>
            <a:r>
              <a:rPr b="0" lang="en-US" sz="2800" spc="-1" strike="noStrike">
                <a:solidFill>
                  <a:srgbClr val="000066"/>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specialización</a:t>
            </a:r>
            <a:r>
              <a:rPr b="0" lang="en-US" sz="2800" spc="-1" strike="noStrike">
                <a:solidFill>
                  <a:srgbClr val="000066"/>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Jerarquía</a:t>
            </a:r>
            <a:r>
              <a:rPr b="0" lang="en-US" sz="2800" spc="-1" strike="noStrike">
                <a:solidFill>
                  <a:srgbClr val="000066"/>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ridad de autoridad y responsabilidad</a:t>
            </a:r>
            <a:r>
              <a:rPr b="0" lang="en-US" sz="2800" spc="-1" strike="noStrike">
                <a:solidFill>
                  <a:srgbClr val="000066"/>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nidad de mando</a:t>
            </a:r>
            <a:r>
              <a:rPr b="0" lang="en-US" sz="2800" spc="-1" strike="noStrike">
                <a:solidFill>
                  <a:srgbClr val="000066"/>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fusión</a:t>
            </a:r>
            <a:r>
              <a:rPr b="0" lang="en-US" sz="2800" spc="-1" strike="noStrike">
                <a:solidFill>
                  <a:srgbClr val="000066"/>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mplitud o tramo de control</a:t>
            </a:r>
            <a:r>
              <a:rPr b="0" lang="en-US" sz="2800" spc="-1" strike="noStrike">
                <a:solidFill>
                  <a:srgbClr val="000066"/>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e la coordinación</a:t>
            </a:r>
            <a:endParaRPr b="0" lang="en-US" sz="2800" spc="-1" strike="noStrike">
              <a:solidFill>
                <a:srgbClr val="000000"/>
              </a:solidFill>
              <a:latin typeface="Arial"/>
            </a:endParaRPr>
          </a:p>
          <a:p>
            <a:pPr marL="609480" indent="-609480">
              <a:lnSpc>
                <a:spcPct val="9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ntinuidad</a:t>
            </a:r>
            <a:r>
              <a:rPr b="0" lang="en-US" sz="2800" spc="-1" strike="noStrike">
                <a:solidFill>
                  <a:srgbClr val="000066"/>
                </a:solidFill>
                <a:latin typeface="Arial"/>
              </a:rPr>
              <a:t> </a:t>
            </a:r>
            <a:endParaRPr b="0" lang="en-US" sz="2800" spc="-1" strike="noStrike">
              <a:solidFill>
                <a:srgbClr val="000000"/>
              </a:solidFill>
              <a:latin typeface="Arial"/>
            </a:endParaRPr>
          </a:p>
        </p:txBody>
      </p:sp>
      <p:sp>
        <p:nvSpPr>
          <p:cNvPr id="236" name="PlaceHolder 2"/>
          <p:cNvSpPr>
            <a:spLocks noGrp="1"/>
          </p:cNvSpPr>
          <p:nvPr>
            <p:ph type="title"/>
          </p:nvPr>
        </p:nvSpPr>
        <p:spPr>
          <a:xfrm>
            <a:off x="1258920" y="26316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INCIPIOS DE ORGANIZACION</a:t>
            </a:r>
            <a:r>
              <a:rPr b="0" lang="en-US" sz="4000" spc="-1" strike="noStrike">
                <a:solidFill>
                  <a:srgbClr val="99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8900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NCIPIOS DE ORGANIZACION</a:t>
            </a:r>
            <a:r>
              <a:rPr b="1" lang="en-US" sz="3600" spc="-1" strike="noStrike">
                <a:solidFill>
                  <a:srgbClr val="ff0000"/>
                </a:solidFill>
                <a:latin typeface="Arial"/>
              </a:rPr>
              <a:t> </a:t>
            </a:r>
            <a:endParaRPr b="0" lang="en-US" sz="3600" spc="-1" strike="noStrike">
              <a:solidFill>
                <a:srgbClr val="000000"/>
              </a:solidFill>
              <a:latin typeface="Arial"/>
            </a:endParaRPr>
          </a:p>
        </p:txBody>
      </p:sp>
      <p:sp>
        <p:nvSpPr>
          <p:cNvPr id="238"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lnSpc>
                <a:spcPct val="140000"/>
              </a:lnSpc>
              <a:spcBef>
                <a:spcPts val="601"/>
              </a:spcBef>
              <a:buClr>
                <a:srgbClr val="99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specialización</a:t>
            </a:r>
            <a:r>
              <a:rPr b="0" lang="en-US" sz="2400" spc="-1" strike="noStrike">
                <a:solidFill>
                  <a:srgbClr val="000066"/>
                </a:solidFill>
                <a:latin typeface="Arial"/>
              </a:rPr>
              <a:t>.- Cuanto más se divide el trabajo que dedica cada empleado a una actividad más limitada y concreta, se obtiene mayor eficiencia, precisión y destreza. Producir más y mejor con el mismo esfuerzo. </a:t>
            </a:r>
            <a:endParaRPr b="0" lang="en-US" sz="2400" spc="-1" strike="noStrike">
              <a:solidFill>
                <a:srgbClr val="000000"/>
              </a:solidFill>
              <a:latin typeface="Arial"/>
            </a:endParaRPr>
          </a:p>
          <a:p>
            <a:pPr marL="343080" indent="-343080">
              <a:lnSpc>
                <a:spcPct val="140000"/>
              </a:lnSpc>
              <a:spcBef>
                <a:spcPts val="601"/>
              </a:spcBef>
              <a:buClr>
                <a:srgbClr val="99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nidad de Mando</a:t>
            </a:r>
            <a:r>
              <a:rPr b="0" lang="en-US" sz="2400" spc="-1" strike="noStrike">
                <a:solidFill>
                  <a:srgbClr val="000066"/>
                </a:solidFill>
                <a:latin typeface="Arial"/>
              </a:rPr>
              <a:t>.- Para cada función debe existir un solo jefe y un solo programa de acción. </a:t>
            </a:r>
            <a:endParaRPr b="0" lang="en-US" sz="2400" spc="-1" strike="noStrike">
              <a:solidFill>
                <a:srgbClr val="000000"/>
              </a:solidFill>
              <a:latin typeface="Arial"/>
            </a:endParaRPr>
          </a:p>
          <a:p>
            <a:pPr marL="343080" indent="-343080">
              <a:lnSpc>
                <a:spcPct val="140000"/>
              </a:lnSpc>
              <a:spcBef>
                <a:spcPts val="601"/>
              </a:spcBef>
              <a:buClr>
                <a:srgbClr val="99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quilibrio de Autoridad-Responsabilidad</a:t>
            </a:r>
            <a:r>
              <a:rPr b="0" lang="en-US" sz="2400" spc="-1" strike="noStrike">
                <a:solidFill>
                  <a:srgbClr val="000066"/>
                </a:solidFill>
                <a:latin typeface="Arial"/>
              </a:rPr>
              <a:t>.- Debe precisarse el grado de responsabilidad que corresponde al jefe de cada nivel jerárquico, estableciéndose, al mismo tiempo, la autoridad correspondie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39640" y="1125360"/>
            <a:ext cx="8229600" cy="53280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quilibrio Dirección-Control</a:t>
            </a:r>
            <a:r>
              <a:rPr b="0" lang="en-US" sz="2400" spc="-1" strike="noStrike">
                <a:solidFill>
                  <a:srgbClr val="000066"/>
                </a:solidFill>
                <a:latin typeface="Arial"/>
              </a:rPr>
              <a:t>.- A cada grado de delegación debe corresponder el establecimiento de las funciones de control adecuadas para asegurar la unidad de mando. </a:t>
            </a:r>
            <a:endParaRPr b="0" lang="en-US" sz="2400" spc="-1" strike="noStrike">
              <a:solidFill>
                <a:srgbClr val="000000"/>
              </a:solidFill>
              <a:latin typeface="Arial"/>
            </a:endParaRPr>
          </a:p>
          <a:p>
            <a:pPr marL="343080" indent="-343080">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entralización</a:t>
            </a:r>
            <a:r>
              <a:rPr b="0" lang="en-US" sz="2400" spc="-1" strike="noStrike">
                <a:solidFill>
                  <a:srgbClr val="000066"/>
                </a:solidFill>
                <a:latin typeface="Arial"/>
              </a:rPr>
              <a:t>.- Todo lo que aumenta la importancia del papel de los subordinados es descentralización, todo lo que disminuye su importancia es centralización</a:t>
            </a:r>
            <a:endParaRPr b="0" lang="en-US" sz="2400" spc="-1" strike="noStrike">
              <a:solidFill>
                <a:srgbClr val="000000"/>
              </a:solidFill>
              <a:latin typeface="Arial"/>
            </a:endParaRPr>
          </a:p>
          <a:p>
            <a:pPr marL="343080" indent="-343080">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erarquía</a:t>
            </a:r>
            <a:r>
              <a:rPr b="0" lang="en-US" sz="2400" spc="-1" strike="noStrike">
                <a:solidFill>
                  <a:srgbClr val="000066"/>
                </a:solidFill>
                <a:latin typeface="Arial"/>
              </a:rPr>
              <a:t>.- Una organización debe contar con una serie de niveles jerárquicos desde la autoridad suprema hasta los puestos de menor importancia. Dentro de esto, la vía jerárquica es la ruta que sigue la autoridad y la comunicación al pasar por todos los niveles. Todos los integrantes de la organización participan en distintos grados y modalidades. </a:t>
            </a:r>
            <a:endParaRPr b="0" lang="en-US" sz="2400" spc="-1" strike="noStrike">
              <a:solidFill>
                <a:srgbClr val="000000"/>
              </a:solidFill>
              <a:latin typeface="Arial"/>
            </a:endParaRPr>
          </a:p>
          <a:p>
            <a:pPr marL="343080" indent="-343080">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n</a:t>
            </a:r>
            <a:r>
              <a:rPr b="0" lang="en-US" sz="2400" spc="-1" strike="noStrike">
                <a:solidFill>
                  <a:srgbClr val="000066"/>
                </a:solidFill>
                <a:latin typeface="Arial"/>
              </a:rPr>
              <a:t>.- "Un lugar para cada persona y cada persona en su lug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2"/>
          <p:cNvSpPr>
            <a:spLocks noGrp="1"/>
          </p:cNvSpPr>
          <p:nvPr>
            <p:ph type="title"/>
          </p:nvPr>
        </p:nvSpPr>
        <p:spPr>
          <a:xfrm>
            <a:off x="1258920" y="263160"/>
            <a:ext cx="734544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INCIPIOS DE ORGANIZACION</a:t>
            </a:r>
            <a:r>
              <a:rPr b="0" lang="en-US" sz="4000" spc="-1" strike="noStrike">
                <a:solidFill>
                  <a:srgbClr val="99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58920" y="263160"/>
            <a:ext cx="734544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INCIPIOS DE ORGANIZACION</a:t>
            </a:r>
            <a:r>
              <a:rPr b="1" lang="en-US" sz="4000" spc="-1" strike="noStrike">
                <a:solidFill>
                  <a:srgbClr val="990000"/>
                </a:solidFill>
                <a:latin typeface="Arial"/>
              </a:rPr>
              <a:t> </a:t>
            </a:r>
            <a:endParaRPr b="0" lang="en-US" sz="4000" spc="-1" strike="noStrike">
              <a:solidFill>
                <a:srgbClr val="000000"/>
              </a:solidFill>
              <a:latin typeface="Arial"/>
            </a:endParaRPr>
          </a:p>
        </p:txBody>
      </p:sp>
      <p:sp>
        <p:nvSpPr>
          <p:cNvPr id="242" name="PlaceHolder 2"/>
          <p:cNvSpPr>
            <a:spLocks noGrp="1"/>
          </p:cNvSpPr>
          <p:nvPr>
            <p:ph/>
          </p:nvPr>
        </p:nvSpPr>
        <p:spPr>
          <a:xfrm>
            <a:off x="468000" y="1197000"/>
            <a:ext cx="821844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istencia de Centros de Poder</a:t>
            </a:r>
            <a:r>
              <a:rPr b="0" lang="en-US" sz="2400" spc="-1" strike="noStrike">
                <a:solidFill>
                  <a:srgbClr val="000066"/>
                </a:solidFill>
                <a:latin typeface="Arial"/>
              </a:rPr>
              <a:t>.- En la organización deben existir uno o más centros de poder que controlan los esfuerzos de la empresa y la dirigen a sus fines. </a:t>
            </a:r>
            <a:endParaRPr b="0" lang="en-US" sz="2400" spc="-1" strike="noStrike">
              <a:solidFill>
                <a:srgbClr val="000000"/>
              </a:solidFill>
              <a:latin typeface="Arial"/>
            </a:endParaRPr>
          </a:p>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lización de Roles</a:t>
            </a:r>
            <a:r>
              <a:rPr b="0" lang="en-US" sz="2400" spc="-1" strike="noStrike">
                <a:solidFill>
                  <a:srgbClr val="000066"/>
                </a:solidFill>
                <a:latin typeface="Arial"/>
              </a:rPr>
              <a:t>.- Deben existir reglas formales preestablecidas sobre los derechos y deberes de los ocupantes de los puestos y el trabajo que habrán de desempeñar. </a:t>
            </a:r>
            <a:endParaRPr b="0" lang="en-US" sz="2400" spc="-1" strike="noStrike">
              <a:solidFill>
                <a:srgbClr val="000000"/>
              </a:solidFill>
              <a:latin typeface="Arial"/>
            </a:endParaRPr>
          </a:p>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Inhibir el Potencial del Trabajador</a:t>
            </a:r>
            <a:r>
              <a:rPr b="0" lang="en-US" sz="2400" spc="-1" strike="noStrike">
                <a:solidFill>
                  <a:srgbClr val="000066"/>
                </a:solidFill>
                <a:latin typeface="Arial"/>
              </a:rPr>
              <a:t>.- La organización no debe ser tan estructurada y controladora que inhiba al trabajador para madurar y aplicar todo su potencial. </a:t>
            </a:r>
            <a:endParaRPr b="0" lang="en-US" sz="2400" spc="-1" strike="noStrike">
              <a:solidFill>
                <a:srgbClr val="000000"/>
              </a:solidFill>
              <a:latin typeface="Arial"/>
            </a:endParaRPr>
          </a:p>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exibilidad</a:t>
            </a:r>
            <a:r>
              <a:rPr b="0" lang="en-US" sz="2400" spc="-1" strike="noStrike">
                <a:solidFill>
                  <a:srgbClr val="000066"/>
                </a:solidFill>
                <a:latin typeface="Arial"/>
              </a:rPr>
              <a:t>.- Los procesos y estados internos de la organización dependen de los requisitos externos y las necesidades de sus integra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nóstico Organizacional</a:t>
            </a:r>
            <a:endParaRPr b="0" lang="en-US" sz="4400" spc="-1" strike="noStrike">
              <a:solidFill>
                <a:srgbClr val="000000"/>
              </a:solidFill>
              <a:latin typeface="Arial"/>
            </a:endParaRPr>
          </a:p>
        </p:txBody>
      </p:sp>
      <p:pic>
        <p:nvPicPr>
          <p:cNvPr id="244" name="" descr=""/>
          <p:cNvPicPr/>
          <p:nvPr/>
        </p:nvPicPr>
        <p:blipFill>
          <a:blip r:embed="rId1"/>
          <a:stretch/>
        </p:blipFill>
        <p:spPr>
          <a:xfrm>
            <a:off x="2286000" y="3657600"/>
            <a:ext cx="4191120" cy="1600200"/>
          </a:xfrm>
          <a:prstGeom prst="rect">
            <a:avLst/>
          </a:prstGeom>
          <a:ln w="0">
            <a:noFill/>
          </a:ln>
        </p:spPr>
      </p:pic>
      <p:sp>
        <p:nvSpPr>
          <p:cNvPr id="2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92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nóstico Organizacional</a:t>
            </a:r>
            <a:endParaRPr b="0" lang="en-US" sz="4400" spc="-1" strike="noStrike">
              <a:solidFill>
                <a:srgbClr val="000000"/>
              </a:solidFill>
              <a:latin typeface="Arial"/>
            </a:endParaRPr>
          </a:p>
        </p:txBody>
      </p:sp>
      <p:sp>
        <p:nvSpPr>
          <p:cNvPr id="247" name=""/>
          <p:cNvSpPr/>
          <p:nvPr/>
        </p:nvSpPr>
        <p:spPr>
          <a:xfrm>
            <a:off x="2268720" y="1981080"/>
            <a:ext cx="688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Qué es el diágnóstico organizacional?</a:t>
            </a:r>
            <a:endParaRPr b="0" lang="en-US" sz="3200" spc="-1" strike="noStrike">
              <a:solidFill>
                <a:srgbClr val="000000"/>
              </a:solidFill>
              <a:latin typeface="Tahoma"/>
            </a:endParaRPr>
          </a:p>
        </p:txBody>
      </p:sp>
      <p:sp>
        <p:nvSpPr>
          <p:cNvPr id="248" name=""/>
          <p:cNvSpPr/>
          <p:nvPr/>
        </p:nvSpPr>
        <p:spPr>
          <a:xfrm>
            <a:off x="906120" y="3490920"/>
            <a:ext cx="818928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imes New Roman"/>
              </a:rPr>
              <a:t>Es una forma de conocer las diferentes fuerzas </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imes New Roman"/>
              </a:rPr>
              <a:t>y procesos a qué está sometida la organización,</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imes New Roman"/>
              </a:rPr>
              <a:t>para ser capaz de utilizarlos en provecho de los </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808080"/>
                </a:solidFill>
                <a:latin typeface="Times New Roman"/>
              </a:rPr>
              <a:t>fines que la organización haya definido para sí.</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9" name="" descr=""/>
          <p:cNvPicPr/>
          <p:nvPr/>
        </p:nvPicPr>
        <p:blipFill>
          <a:blip r:embed="rId1"/>
          <a:stretch/>
        </p:blipFill>
        <p:spPr>
          <a:xfrm>
            <a:off x="1038240" y="1371600"/>
            <a:ext cx="1324080" cy="18921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4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49"/>
                                        </p:tgtEl>
                                        <p:attrNameLst>
                                          <p:attrName>style.visibility</p:attrName>
                                        </p:attrNameLst>
                                      </p:cBhvr>
                                      <p:to>
                                        <p:strVal val="visible"/>
                                      </p:to>
                                    </p:set>
                                    <p:animEffect filter="dissolve" transition="in">
                                      <p:cBhvr additive="repl">
                                        <p:cTn id="52" dur="500"/>
                                        <p:tgtEl>
                                          <p:spTgt spid="24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47"/>
                                        </p:tgtEl>
                                        <p:attrNameLst>
                                          <p:attrName>style.visibility</p:attrName>
                                        </p:attrNameLst>
                                      </p:cBhvr>
                                      <p:to>
                                        <p:strVal val="visible"/>
                                      </p:to>
                                    </p:set>
                                    <p:anim calcmode="lin" valueType="num">
                                      <p:cBhvr additive="base">
                                        <p:cTn id="57" dur="500" fill="hold"/>
                                        <p:tgtEl>
                                          <p:spTgt spid="247"/>
                                        </p:tgtEl>
                                        <p:attrNameLst>
                                          <p:attrName>ppt_x</p:attrName>
                                        </p:attrNameLst>
                                      </p:cBhvr>
                                      <p:tavLst>
                                        <p:tav tm="0">
                                          <p:val>
                                            <p:strVal val="0-#ppt_w/2"/>
                                          </p:val>
                                        </p:tav>
                                        <p:tav tm="100000">
                                          <p:val>
                                            <p:strVal val="#ppt_x"/>
                                          </p:val>
                                        </p:tav>
                                      </p:tavLst>
                                    </p:anim>
                                    <p:anim calcmode="lin" valueType="num">
                                      <p:cBhvr additive="base">
                                        <p:cTn id="5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48"/>
                                        </p:tgtEl>
                                        <p:attrNameLst>
                                          <p:attrName>style.visibility</p:attrName>
                                        </p:attrNameLst>
                                      </p:cBhvr>
                                      <p:to>
                                        <p:strVal val="visible"/>
                                      </p:to>
                                    </p:set>
                                    <p:animEffect filter="dissolve" transition="in">
                                      <p:cBhvr additive="repl">
                                        <p:cTn id="6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92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nóstico Organizacional</a:t>
            </a:r>
            <a:endParaRPr b="0" lang="en-US" sz="4400" spc="-1" strike="noStrike">
              <a:solidFill>
                <a:srgbClr val="000000"/>
              </a:solidFill>
              <a:latin typeface="Arial"/>
            </a:endParaRPr>
          </a:p>
        </p:txBody>
      </p:sp>
      <p:sp>
        <p:nvSpPr>
          <p:cNvPr id="251" name=""/>
          <p:cNvSpPr/>
          <p:nvPr/>
        </p:nvSpPr>
        <p:spPr>
          <a:xfrm>
            <a:off x="916200" y="1647720"/>
            <a:ext cx="156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azones:</a:t>
            </a:r>
            <a:endParaRPr b="0" lang="en-US" sz="2800" spc="-1" strike="noStrike">
              <a:solidFill>
                <a:srgbClr val="000000"/>
              </a:solidFill>
              <a:latin typeface="Tahoma"/>
            </a:endParaRPr>
          </a:p>
        </p:txBody>
      </p:sp>
      <p:sp>
        <p:nvSpPr>
          <p:cNvPr id="252" name=""/>
          <p:cNvSpPr/>
          <p:nvPr/>
        </p:nvSpPr>
        <p:spPr>
          <a:xfrm>
            <a:off x="914400" y="2178000"/>
            <a:ext cx="8229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1.- El proceso natural del crecimiento de la organización.</a:t>
            </a:r>
            <a:endParaRPr b="0" lang="en-US" sz="2600" spc="-1" strike="noStrike">
              <a:solidFill>
                <a:srgbClr val="000000"/>
              </a:solidFill>
              <a:latin typeface="Tahoma"/>
            </a:endParaRPr>
          </a:p>
        </p:txBody>
      </p:sp>
      <p:sp>
        <p:nvSpPr>
          <p:cNvPr id="253" name=""/>
          <p:cNvSpPr/>
          <p:nvPr/>
        </p:nvSpPr>
        <p:spPr>
          <a:xfrm>
            <a:off x="914400" y="2940120"/>
            <a:ext cx="7764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2.- El proceso natural de deterioro de la organización.</a:t>
            </a:r>
            <a:endParaRPr b="0" lang="en-US" sz="2600" spc="-1" strike="noStrike">
              <a:solidFill>
                <a:srgbClr val="000000"/>
              </a:solidFill>
              <a:latin typeface="Tahoma"/>
            </a:endParaRPr>
          </a:p>
        </p:txBody>
      </p:sp>
      <p:sp>
        <p:nvSpPr>
          <p:cNvPr id="254" name=""/>
          <p:cNvSpPr/>
          <p:nvPr/>
        </p:nvSpPr>
        <p:spPr>
          <a:xfrm>
            <a:off x="914400" y="365760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3.- La empresa ha decidido encarar el problema de la productividad y la calidad.</a:t>
            </a:r>
            <a:endParaRPr b="0" lang="en-US" sz="2600" spc="-1" strike="noStrike">
              <a:solidFill>
                <a:srgbClr val="000000"/>
              </a:solidFill>
              <a:latin typeface="Tahoma"/>
            </a:endParaRPr>
          </a:p>
        </p:txBody>
      </p:sp>
      <p:sp>
        <p:nvSpPr>
          <p:cNvPr id="255" name=""/>
          <p:cNvSpPr/>
          <p:nvPr/>
        </p:nvSpPr>
        <p:spPr>
          <a:xfrm>
            <a:off x="914400" y="461628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4.- La organización ha sufrido cambios importantes.</a:t>
            </a:r>
            <a:endParaRPr b="0" lang="en-US" sz="2600" spc="-1" strike="noStrike">
              <a:solidFill>
                <a:srgbClr val="000000"/>
              </a:solidFill>
              <a:latin typeface="Tahoma"/>
            </a:endParaRPr>
          </a:p>
        </p:txBody>
      </p:sp>
      <p:sp>
        <p:nvSpPr>
          <p:cNvPr id="256" name=""/>
          <p:cNvSpPr/>
          <p:nvPr/>
        </p:nvSpPr>
        <p:spPr>
          <a:xfrm>
            <a:off x="914400" y="528624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5.- El aumento de la complejidad del entorno (político,</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económico y social).</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5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251"/>
                                        </p:tgtEl>
                                        <p:attrNameLst>
                                          <p:attrName>style.visibility</p:attrName>
                                        </p:attrNameLst>
                                      </p:cBhvr>
                                      <p:to>
                                        <p:strVal val="visible"/>
                                      </p:to>
                                    </p:set>
                                    <p:anim calcmode="lin" valueType="num">
                                      <p:cBhvr additive="base">
                                        <p:cTn id="74" dur="500" fill="hold"/>
                                        <p:tgtEl>
                                          <p:spTgt spid="251"/>
                                        </p:tgtEl>
                                        <p:attrNameLst>
                                          <p:attrName>ppt_x</p:attrName>
                                        </p:attrNameLst>
                                      </p:cBhvr>
                                      <p:tavLst>
                                        <p:tav tm="0">
                                          <p:val>
                                            <p:strVal val="0-#ppt_w/2"/>
                                          </p:val>
                                        </p:tav>
                                        <p:tav tm="100000">
                                          <p:val>
                                            <p:strVal val="#ppt_x"/>
                                          </p:val>
                                        </p:tav>
                                      </p:tavLst>
                                    </p:anim>
                                    <p:anim calcmode="lin" valueType="num">
                                      <p:cBhvr additive="base">
                                        <p:cTn id="75"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2"/>
                                        </p:tgtEl>
                                        <p:attrNameLst>
                                          <p:attrName>style.visibility</p:attrName>
                                        </p:attrNameLst>
                                      </p:cBhvr>
                                      <p:to>
                                        <p:strVal val="visible"/>
                                      </p:to>
                                    </p:set>
                                    <p:anim calcmode="lin" valueType="num">
                                      <p:cBhvr additive="base">
                                        <p:cTn id="80" dur="500" fill="hold"/>
                                        <p:tgtEl>
                                          <p:spTgt spid="252"/>
                                        </p:tgtEl>
                                        <p:attrNameLst>
                                          <p:attrName>ppt_x</p:attrName>
                                        </p:attrNameLst>
                                      </p:cBhvr>
                                      <p:tavLst>
                                        <p:tav tm="0">
                                          <p:val>
                                            <p:strVal val="0-#ppt_w/2"/>
                                          </p:val>
                                        </p:tav>
                                        <p:tav tm="100000">
                                          <p:val>
                                            <p:strVal val="#ppt_x"/>
                                          </p:val>
                                        </p:tav>
                                      </p:tavLst>
                                    </p:anim>
                                    <p:anim calcmode="lin" valueType="num">
                                      <p:cBhvr additive="base">
                                        <p:cTn id="81"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53"/>
                                        </p:tgtEl>
                                        <p:attrNameLst>
                                          <p:attrName>style.visibility</p:attrName>
                                        </p:attrNameLst>
                                      </p:cBhvr>
                                      <p:to>
                                        <p:strVal val="visible"/>
                                      </p:to>
                                    </p:set>
                                    <p:anim calcmode="lin" valueType="num">
                                      <p:cBhvr additive="base">
                                        <p:cTn id="86" dur="500" fill="hold"/>
                                        <p:tgtEl>
                                          <p:spTgt spid="253"/>
                                        </p:tgtEl>
                                        <p:attrNameLst>
                                          <p:attrName>ppt_x</p:attrName>
                                        </p:attrNameLst>
                                      </p:cBhvr>
                                      <p:tavLst>
                                        <p:tav tm="0">
                                          <p:val>
                                            <p:strVal val="0-#ppt_w/2"/>
                                          </p:val>
                                        </p:tav>
                                        <p:tav tm="100000">
                                          <p:val>
                                            <p:strVal val="#ppt_x"/>
                                          </p:val>
                                        </p:tav>
                                      </p:tavLst>
                                    </p:anim>
                                    <p:anim calcmode="lin" valueType="num">
                                      <p:cBhvr additive="base">
                                        <p:cTn id="8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254"/>
                                        </p:tgtEl>
                                        <p:attrNameLst>
                                          <p:attrName>style.visibility</p:attrName>
                                        </p:attrNameLst>
                                      </p:cBhvr>
                                      <p:to>
                                        <p:strVal val="visible"/>
                                      </p:to>
                                    </p:set>
                                    <p:anim calcmode="lin" valueType="num">
                                      <p:cBhvr additive="base">
                                        <p:cTn id="92" dur="500" fill="hold"/>
                                        <p:tgtEl>
                                          <p:spTgt spid="254"/>
                                        </p:tgtEl>
                                        <p:attrNameLst>
                                          <p:attrName>ppt_x</p:attrName>
                                        </p:attrNameLst>
                                      </p:cBhvr>
                                      <p:tavLst>
                                        <p:tav tm="0">
                                          <p:val>
                                            <p:strVal val="0-#ppt_w/2"/>
                                          </p:val>
                                        </p:tav>
                                        <p:tav tm="100000">
                                          <p:val>
                                            <p:strVal val="#ppt_x"/>
                                          </p:val>
                                        </p:tav>
                                      </p:tavLst>
                                    </p:anim>
                                    <p:anim calcmode="lin" valueType="num">
                                      <p:cBhvr additive="base">
                                        <p:cTn id="9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55"/>
                                        </p:tgtEl>
                                        <p:attrNameLst>
                                          <p:attrName>style.visibility</p:attrName>
                                        </p:attrNameLst>
                                      </p:cBhvr>
                                      <p:to>
                                        <p:strVal val="visible"/>
                                      </p:to>
                                    </p:set>
                                    <p:anim calcmode="lin" valueType="num">
                                      <p:cBhvr additive="base">
                                        <p:cTn id="98" dur="500" fill="hold"/>
                                        <p:tgtEl>
                                          <p:spTgt spid="255"/>
                                        </p:tgtEl>
                                        <p:attrNameLst>
                                          <p:attrName>ppt_x</p:attrName>
                                        </p:attrNameLst>
                                      </p:cBhvr>
                                      <p:tavLst>
                                        <p:tav tm="0">
                                          <p:val>
                                            <p:strVal val="0-#ppt_w/2"/>
                                          </p:val>
                                        </p:tav>
                                        <p:tav tm="100000">
                                          <p:val>
                                            <p:strVal val="#ppt_x"/>
                                          </p:val>
                                        </p:tav>
                                      </p:tavLst>
                                    </p:anim>
                                    <p:anim calcmode="lin" valueType="num">
                                      <p:cBhvr additive="base">
                                        <p:cTn id="99"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256"/>
                                        </p:tgtEl>
                                        <p:attrNameLst>
                                          <p:attrName>style.visibility</p:attrName>
                                        </p:attrNameLst>
                                      </p:cBhvr>
                                      <p:to>
                                        <p:strVal val="visible"/>
                                      </p:to>
                                    </p:set>
                                    <p:anim calcmode="lin" valueType="num">
                                      <p:cBhvr additive="base">
                                        <p:cTn id="104" dur="500" fill="hold"/>
                                        <p:tgtEl>
                                          <p:spTgt spid="256"/>
                                        </p:tgtEl>
                                        <p:attrNameLst>
                                          <p:attrName>ppt_x</p:attrName>
                                        </p:attrNameLst>
                                      </p:cBhvr>
                                      <p:tavLst>
                                        <p:tav tm="0">
                                          <p:val>
                                            <p:strVal val="0-#ppt_w/2"/>
                                          </p:val>
                                        </p:tav>
                                        <p:tav tm="100000">
                                          <p:val>
                                            <p:strVal val="#ppt_x"/>
                                          </p:val>
                                        </p:tav>
                                      </p:tavLst>
                                    </p:anim>
                                    <p:anim calcmode="lin" valueType="num">
                                      <p:cBhvr additive="base">
                                        <p:cTn id="105"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92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nóstico Organizacional</a:t>
            </a:r>
            <a:endParaRPr b="0" lang="en-US" sz="4400" spc="-1" strike="noStrike">
              <a:solidFill>
                <a:srgbClr val="000000"/>
              </a:solidFill>
              <a:latin typeface="Arial"/>
            </a:endParaRPr>
          </a:p>
        </p:txBody>
      </p:sp>
      <p:sp>
        <p:nvSpPr>
          <p:cNvPr id="258" name=""/>
          <p:cNvSpPr/>
          <p:nvPr/>
        </p:nvSpPr>
        <p:spPr>
          <a:xfrm>
            <a:off x="916200" y="1647720"/>
            <a:ext cx="156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azones:</a:t>
            </a:r>
            <a:endParaRPr b="0" lang="en-US" sz="2800" spc="-1" strike="noStrike">
              <a:solidFill>
                <a:srgbClr val="000000"/>
              </a:solidFill>
              <a:latin typeface="Tahoma"/>
            </a:endParaRPr>
          </a:p>
        </p:txBody>
      </p:sp>
      <p:sp>
        <p:nvSpPr>
          <p:cNvPr id="259" name=""/>
          <p:cNvSpPr/>
          <p:nvPr/>
        </p:nvSpPr>
        <p:spPr>
          <a:xfrm>
            <a:off x="914400" y="320040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6.- La organización requiere conocer su propia cultura.</a:t>
            </a:r>
            <a:endParaRPr b="0" lang="en-US" sz="2600" spc="-1" strike="noStrike">
              <a:solidFill>
                <a:srgbClr val="000000"/>
              </a:solidFill>
              <a:latin typeface="Tahoma"/>
            </a:endParaRPr>
          </a:p>
        </p:txBody>
      </p:sp>
      <p:sp>
        <p:nvSpPr>
          <p:cNvPr id="260" name=""/>
          <p:cNvSpPr/>
          <p:nvPr/>
        </p:nvSpPr>
        <p:spPr>
          <a:xfrm>
            <a:off x="914400" y="385452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7.- La organización desea mejorar su clima.</a:t>
            </a:r>
            <a:endParaRPr b="0" lang="en-US" sz="2600" spc="-1" strike="noStrike">
              <a:solidFill>
                <a:srgbClr val="000000"/>
              </a:solidFill>
              <a:latin typeface="Tahoma"/>
            </a:endParaRPr>
          </a:p>
        </p:txBody>
      </p:sp>
      <p:sp>
        <p:nvSpPr>
          <p:cNvPr id="261" name=""/>
          <p:cNvSpPr/>
          <p:nvPr/>
        </p:nvSpPr>
        <p:spPr>
          <a:xfrm>
            <a:off x="914400" y="457200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8.- La organización ha sido fundida con otra o ha sido comprada por una nueva empresa.</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257"/>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58"/>
                                        </p:tgtEl>
                                        <p:attrNameLst>
                                          <p:attrName>style.visibility</p:attrName>
                                        </p:attrNameLst>
                                      </p:cBhvr>
                                      <p:to>
                                        <p:strVal val="visible"/>
                                      </p:to>
                                    </p:set>
                                    <p:anim calcmode="lin" valueType="num">
                                      <p:cBhvr additive="base">
                                        <p:cTn id="116" dur="500" fill="hold"/>
                                        <p:tgtEl>
                                          <p:spTgt spid="258"/>
                                        </p:tgtEl>
                                        <p:attrNameLst>
                                          <p:attrName>ppt_x</p:attrName>
                                        </p:attrNameLst>
                                      </p:cBhvr>
                                      <p:tavLst>
                                        <p:tav tm="0">
                                          <p:val>
                                            <p:strVal val="0-#ppt_w/2"/>
                                          </p:val>
                                        </p:tav>
                                        <p:tav tm="100000">
                                          <p:val>
                                            <p:strVal val="#ppt_x"/>
                                          </p:val>
                                        </p:tav>
                                      </p:tavLst>
                                    </p:anim>
                                    <p:anim calcmode="lin" valueType="num">
                                      <p:cBhvr additive="base">
                                        <p:cTn id="117"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59"/>
                                        </p:tgtEl>
                                        <p:attrNameLst>
                                          <p:attrName>style.visibility</p:attrName>
                                        </p:attrNameLst>
                                      </p:cBhvr>
                                      <p:to>
                                        <p:strVal val="visible"/>
                                      </p:to>
                                    </p:set>
                                    <p:anim calcmode="lin" valueType="num">
                                      <p:cBhvr additive="base">
                                        <p:cTn id="122" dur="500" fill="hold"/>
                                        <p:tgtEl>
                                          <p:spTgt spid="259"/>
                                        </p:tgtEl>
                                        <p:attrNameLst>
                                          <p:attrName>ppt_x</p:attrName>
                                        </p:attrNameLst>
                                      </p:cBhvr>
                                      <p:tavLst>
                                        <p:tav tm="0">
                                          <p:val>
                                            <p:strVal val="0-#ppt_w/2"/>
                                          </p:val>
                                        </p:tav>
                                        <p:tav tm="100000">
                                          <p:val>
                                            <p:strVal val="#ppt_x"/>
                                          </p:val>
                                        </p:tav>
                                      </p:tavLst>
                                    </p:anim>
                                    <p:anim calcmode="lin" valueType="num">
                                      <p:cBhvr additive="base">
                                        <p:cTn id="12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60"/>
                                        </p:tgtEl>
                                        <p:attrNameLst>
                                          <p:attrName>style.visibility</p:attrName>
                                        </p:attrNameLst>
                                      </p:cBhvr>
                                      <p:to>
                                        <p:strVal val="visible"/>
                                      </p:to>
                                    </p:set>
                                    <p:anim calcmode="lin" valueType="num">
                                      <p:cBhvr additive="base">
                                        <p:cTn id="128" dur="500" fill="hold"/>
                                        <p:tgtEl>
                                          <p:spTgt spid="260"/>
                                        </p:tgtEl>
                                        <p:attrNameLst>
                                          <p:attrName>ppt_x</p:attrName>
                                        </p:attrNameLst>
                                      </p:cBhvr>
                                      <p:tavLst>
                                        <p:tav tm="0">
                                          <p:val>
                                            <p:strVal val="0-#ppt_w/2"/>
                                          </p:val>
                                        </p:tav>
                                        <p:tav tm="100000">
                                          <p:val>
                                            <p:strVal val="#ppt_x"/>
                                          </p:val>
                                        </p:tav>
                                      </p:tavLst>
                                    </p:anim>
                                    <p:anim calcmode="lin" valueType="num">
                                      <p:cBhvr additive="base">
                                        <p:cTn id="12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61"/>
                                        </p:tgtEl>
                                        <p:attrNameLst>
                                          <p:attrName>style.visibility</p:attrName>
                                        </p:attrNameLst>
                                      </p:cBhvr>
                                      <p:to>
                                        <p:strVal val="visible"/>
                                      </p:to>
                                    </p:set>
                                    <p:anim calcmode="lin" valueType="num">
                                      <p:cBhvr additive="base">
                                        <p:cTn id="134" dur="500" fill="hold"/>
                                        <p:tgtEl>
                                          <p:spTgt spid="261"/>
                                        </p:tgtEl>
                                        <p:attrNameLst>
                                          <p:attrName>ppt_x</p:attrName>
                                        </p:attrNameLst>
                                      </p:cBhvr>
                                      <p:tavLst>
                                        <p:tav tm="0">
                                          <p:val>
                                            <p:strVal val="0-#ppt_w/2"/>
                                          </p:val>
                                        </p:tav>
                                        <p:tav tm="100000">
                                          <p:val>
                                            <p:strVal val="#ppt_x"/>
                                          </p:val>
                                        </p:tav>
                                      </p:tavLst>
                                    </p:anim>
                                    <p:anim calcmode="lin" valueType="num">
                                      <p:cBhvr additive="base">
                                        <p:cTn id="135"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Arial"/>
              </a:rPr>
              <a:t>Teoría organizacional</a:t>
            </a:r>
            <a:endParaRPr b="0" lang="en-US" sz="4400" spc="-1" strike="noStrike">
              <a:solidFill>
                <a:srgbClr val="000000"/>
              </a:solidFill>
              <a:latin typeface="Arial"/>
            </a:endParaRPr>
          </a:p>
        </p:txBody>
      </p:sp>
      <p:sp>
        <p:nvSpPr>
          <p:cNvPr id="95" name="PlaceHolder 2"/>
          <p:cNvSpPr>
            <a:spLocks noGrp="1"/>
          </p:cNvSpPr>
          <p:nvPr>
            <p:ph/>
          </p:nvPr>
        </p:nvSpPr>
        <p:spPr>
          <a:xfrm>
            <a:off x="519120" y="1341360"/>
            <a:ext cx="8229600" cy="4741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Una organización es un grupo humano que trabaja para lograr un propósito comú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eter Druker en su libro “La sociedad poscapitalista “marca la diferencia entre organización y comunidad o sociedad en gene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 </a:t>
            </a:r>
            <a:r>
              <a:rPr b="0" lang="es-ES" sz="2400" spc="-1" strike="noStrike">
                <a:solidFill>
                  <a:srgbClr val="000066"/>
                </a:solidFill>
                <a:latin typeface="Arial"/>
              </a:rPr>
              <a:t>La organización esta hecha a propósito, con un objetivo en particular. Una organización se define por su lab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2400" spc="-1" strike="noStrike">
                <a:solidFill>
                  <a:srgbClr val="000066"/>
                </a:solidFill>
                <a:latin typeface="Arial"/>
              </a:rPr>
              <a:t>Comunidad y sociedad se definen por un lazo que mantiene unidos a los seres humanos, sea este lazo su lengua, su cultura, su historia o su geografí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92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nóstico Organizacional</a:t>
            </a:r>
            <a:endParaRPr b="0" lang="en-US" sz="4400" spc="-1" strike="noStrike">
              <a:solidFill>
                <a:srgbClr val="000000"/>
              </a:solidFill>
              <a:latin typeface="Arial"/>
            </a:endParaRPr>
          </a:p>
        </p:txBody>
      </p:sp>
      <p:sp>
        <p:nvSpPr>
          <p:cNvPr id="263" name=""/>
          <p:cNvSpPr/>
          <p:nvPr/>
        </p:nvSpPr>
        <p:spPr>
          <a:xfrm>
            <a:off x="914400" y="156852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 </a:t>
            </a:r>
            <a:r>
              <a:rPr b="1" lang="es-ES_tradnl" sz="2600" spc="-1" strike="noStrike">
                <a:solidFill>
                  <a:srgbClr val="000000"/>
                </a:solidFill>
                <a:latin typeface="Times New Roman"/>
              </a:rPr>
              <a:t>Subsistemas dentro de la organización</a:t>
            </a:r>
            <a:endParaRPr b="0" lang="en-US" sz="2600" spc="-1" strike="noStrike">
              <a:solidFill>
                <a:srgbClr val="000000"/>
              </a:solidFill>
              <a:latin typeface="Tahoma"/>
            </a:endParaRPr>
          </a:p>
        </p:txBody>
      </p:sp>
      <p:grpSp>
        <p:nvGrpSpPr>
          <p:cNvPr id="264" name=""/>
          <p:cNvGrpSpPr/>
          <p:nvPr/>
        </p:nvGrpSpPr>
        <p:grpSpPr>
          <a:xfrm>
            <a:off x="3270240" y="2158920"/>
            <a:ext cx="1809720" cy="542880"/>
            <a:chOff x="3270240" y="2158920"/>
            <a:chExt cx="1809720" cy="542880"/>
          </a:xfrm>
        </p:grpSpPr>
        <p:sp>
          <p:nvSpPr>
            <p:cNvPr id="265" name=""/>
            <p:cNvSpPr/>
            <p:nvPr/>
          </p:nvSpPr>
          <p:spPr>
            <a:xfrm>
              <a:off x="3784680" y="2158920"/>
              <a:ext cx="761760" cy="1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6" name=""/>
            <p:cNvSpPr/>
            <p:nvPr/>
          </p:nvSpPr>
          <p:spPr>
            <a:xfrm>
              <a:off x="4165560" y="229248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 name=""/>
            <p:cNvSpPr/>
            <p:nvPr/>
          </p:nvSpPr>
          <p:spPr>
            <a:xfrm>
              <a:off x="4165560" y="2425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8" name=""/>
            <p:cNvSpPr/>
            <p:nvPr/>
          </p:nvSpPr>
          <p:spPr>
            <a:xfrm>
              <a:off x="4689360" y="242568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9" name=""/>
            <p:cNvSpPr/>
            <p:nvPr/>
          </p:nvSpPr>
          <p:spPr>
            <a:xfrm>
              <a:off x="4317840" y="2558880"/>
              <a:ext cx="762120" cy="1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0" name=""/>
            <p:cNvSpPr/>
            <p:nvPr/>
          </p:nvSpPr>
          <p:spPr>
            <a:xfrm>
              <a:off x="3641760" y="2425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1" name=""/>
            <p:cNvSpPr/>
            <p:nvPr/>
          </p:nvSpPr>
          <p:spPr>
            <a:xfrm>
              <a:off x="3641760" y="243540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 name=""/>
            <p:cNvSpPr/>
            <p:nvPr/>
          </p:nvSpPr>
          <p:spPr>
            <a:xfrm>
              <a:off x="3270240" y="2568600"/>
              <a:ext cx="762120" cy="13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273" name=""/>
          <p:cNvSpPr/>
          <p:nvPr/>
        </p:nvSpPr>
        <p:spPr>
          <a:xfrm>
            <a:off x="982800" y="295596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 </a:t>
            </a:r>
            <a:r>
              <a:rPr b="1" lang="es-ES_tradnl" sz="2600" spc="-1" strike="noStrike">
                <a:solidFill>
                  <a:srgbClr val="000000"/>
                </a:solidFill>
                <a:latin typeface="Times New Roman"/>
              </a:rPr>
              <a:t>Relación entre los grupos</a:t>
            </a:r>
            <a:endParaRPr b="0" lang="en-US" sz="2600" spc="-1" strike="noStrike">
              <a:solidFill>
                <a:srgbClr val="000000"/>
              </a:solidFill>
              <a:latin typeface="Tahoma"/>
            </a:endParaRPr>
          </a:p>
        </p:txBody>
      </p:sp>
      <p:grpSp>
        <p:nvGrpSpPr>
          <p:cNvPr id="274" name=""/>
          <p:cNvGrpSpPr/>
          <p:nvPr/>
        </p:nvGrpSpPr>
        <p:grpSpPr>
          <a:xfrm>
            <a:off x="2340000" y="3648240"/>
            <a:ext cx="3490920" cy="1091880"/>
            <a:chOff x="2340000" y="3648240"/>
            <a:chExt cx="3490920" cy="1091880"/>
          </a:xfrm>
        </p:grpSpPr>
        <p:pic>
          <p:nvPicPr>
            <p:cNvPr id="275" name="" descr=""/>
            <p:cNvPicPr/>
            <p:nvPr/>
          </p:nvPicPr>
          <p:blipFill>
            <a:blip r:embed="rId1"/>
            <a:stretch/>
          </p:blipFill>
          <p:spPr>
            <a:xfrm>
              <a:off x="2340000" y="3676680"/>
              <a:ext cx="1444680" cy="879480"/>
            </a:xfrm>
            <a:prstGeom prst="rect">
              <a:avLst/>
            </a:prstGeom>
            <a:ln w="0">
              <a:noFill/>
            </a:ln>
          </p:spPr>
        </p:pic>
        <p:pic>
          <p:nvPicPr>
            <p:cNvPr id="276" name="" descr=""/>
            <p:cNvPicPr/>
            <p:nvPr/>
          </p:nvPicPr>
          <p:blipFill>
            <a:blip r:embed="rId2"/>
            <a:stretch/>
          </p:blipFill>
          <p:spPr>
            <a:xfrm>
              <a:off x="5051520" y="3648240"/>
              <a:ext cx="779400" cy="1091880"/>
            </a:xfrm>
            <a:prstGeom prst="rect">
              <a:avLst/>
            </a:prstGeom>
            <a:ln w="0">
              <a:noFill/>
            </a:ln>
          </p:spPr>
        </p:pic>
        <p:sp>
          <p:nvSpPr>
            <p:cNvPr id="277" name=""/>
            <p:cNvSpPr/>
            <p:nvPr/>
          </p:nvSpPr>
          <p:spPr>
            <a:xfrm>
              <a:off x="4032360" y="3852720"/>
              <a:ext cx="666720" cy="703440"/>
            </a:xfrm>
            <a:prstGeom prst="leftRight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278" name=""/>
          <p:cNvSpPr/>
          <p:nvPr/>
        </p:nvSpPr>
        <p:spPr>
          <a:xfrm>
            <a:off x="1030320" y="474012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 </a:t>
            </a:r>
            <a:r>
              <a:rPr b="1" lang="es-ES_tradnl" sz="2600" spc="-1" strike="noStrike">
                <a:solidFill>
                  <a:srgbClr val="000000"/>
                </a:solidFill>
                <a:latin typeface="Times New Roman"/>
              </a:rPr>
              <a:t>Perspectiva individual</a:t>
            </a:r>
            <a:endParaRPr b="0" lang="en-US" sz="2600" spc="-1" strike="noStrike">
              <a:solidFill>
                <a:srgbClr val="000000"/>
              </a:solidFill>
              <a:latin typeface="Tahoma"/>
            </a:endParaRPr>
          </a:p>
        </p:txBody>
      </p:sp>
      <p:pic>
        <p:nvPicPr>
          <p:cNvPr id="279" name="" descr=""/>
          <p:cNvPicPr/>
          <p:nvPr/>
        </p:nvPicPr>
        <p:blipFill>
          <a:blip r:embed="rId3"/>
          <a:stretch/>
        </p:blipFill>
        <p:spPr>
          <a:xfrm>
            <a:off x="4711680" y="4997520"/>
            <a:ext cx="600120" cy="15685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6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63"/>
                                        </p:tgtEl>
                                        <p:attrNameLst>
                                          <p:attrName>style.visibility</p:attrName>
                                        </p:attrNameLst>
                                      </p:cBhvr>
                                      <p:to>
                                        <p:strVal val="visible"/>
                                      </p:to>
                                    </p:set>
                                    <p:anim calcmode="lin" valueType="num">
                                      <p:cBhvr additive="base">
                                        <p:cTn id="146" dur="500" fill="hold"/>
                                        <p:tgtEl>
                                          <p:spTgt spid="263"/>
                                        </p:tgtEl>
                                        <p:attrNameLst>
                                          <p:attrName>ppt_x</p:attrName>
                                        </p:attrNameLst>
                                      </p:cBhvr>
                                      <p:tavLst>
                                        <p:tav tm="0">
                                          <p:val>
                                            <p:strVal val="0-#ppt_w/2"/>
                                          </p:val>
                                        </p:tav>
                                        <p:tav tm="100000">
                                          <p:val>
                                            <p:strVal val="#ppt_x"/>
                                          </p:val>
                                        </p:tav>
                                      </p:tavLst>
                                    </p:anim>
                                    <p:anim calcmode="lin" valueType="num">
                                      <p:cBhvr additive="base">
                                        <p:cTn id="147"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9" presetSubtype="10">
                                  <p:stCondLst>
                                    <p:cond delay="0"/>
                                  </p:stCondLst>
                                  <p:childTnLst>
                                    <p:set>
                                      <p:cBhvr>
                                        <p:cTn id="151" dur="1" fill="hold">
                                          <p:stCondLst>
                                            <p:cond delay="0"/>
                                          </p:stCondLst>
                                        </p:cTn>
                                        <p:tgtEl>
                                          <p:spTgt spid="264"/>
                                        </p:tgtEl>
                                        <p:attrNameLst>
                                          <p:attrName>style.visibility</p:attrName>
                                        </p:attrNameLst>
                                      </p:cBhvr>
                                      <p:to>
                                        <p:strVal val="visible"/>
                                      </p:to>
                                    </p:set>
                                    <p:anim calcmode="lin" valueType="num">
                                      <p:cBhvr additive="repl">
                                        <p:cTn id="152" dur="5000" fill="hold"/>
                                        <p:tgtEl>
                                          <p:spTgt spid="264"/>
                                        </p:tgtEl>
                                        <p:attrNameLst>
                                          <p:attrName>ppt_w</p:attrName>
                                        </p:attrNameLst>
                                      </p:cBhvr>
                                      <p:tavLst>
                                        <p:tav fmla="width*sin(2.5*pi*$)" tm="0">
                                          <p:val>
                                            <p:fltVal val="0"/>
                                          </p:val>
                                        </p:tav>
                                        <p:tav fmla="width*sin(2.5*pi*$)" tm="100000">
                                          <p:val>
                                            <p:fltVal val="1"/>
                                          </p:val>
                                        </p:tav>
                                      </p:tavLst>
                                    </p:anim>
                                    <p:anim calcmode="lin" valueType="num">
                                      <p:cBhvr additive="repl">
                                        <p:cTn id="153" dur="5000" fill="hold"/>
                                        <p:tgtEl>
                                          <p:spTgt spid="264"/>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73"/>
                                        </p:tgtEl>
                                        <p:attrNameLst>
                                          <p:attrName>style.visibility</p:attrName>
                                        </p:attrNameLst>
                                      </p:cBhvr>
                                      <p:to>
                                        <p:strVal val="visible"/>
                                      </p:to>
                                    </p:set>
                                    <p:anim calcmode="lin" valueType="num">
                                      <p:cBhvr additive="base">
                                        <p:cTn id="158" dur="500" fill="hold"/>
                                        <p:tgtEl>
                                          <p:spTgt spid="273"/>
                                        </p:tgtEl>
                                        <p:attrNameLst>
                                          <p:attrName>ppt_x</p:attrName>
                                        </p:attrNameLst>
                                      </p:cBhvr>
                                      <p:tavLst>
                                        <p:tav tm="0">
                                          <p:val>
                                            <p:strVal val="0-#ppt_w/2"/>
                                          </p:val>
                                        </p:tav>
                                        <p:tav tm="100000">
                                          <p:val>
                                            <p:strVal val="#ppt_x"/>
                                          </p:val>
                                        </p:tav>
                                      </p:tavLst>
                                    </p:anim>
                                    <p:anim calcmode="lin" valueType="num">
                                      <p:cBhvr additive="base">
                                        <p:cTn id="159"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9" presetSubtype="10">
                                  <p:stCondLst>
                                    <p:cond delay="0"/>
                                  </p:stCondLst>
                                  <p:childTnLst>
                                    <p:set>
                                      <p:cBhvr>
                                        <p:cTn id="163" dur="1" fill="hold">
                                          <p:stCondLst>
                                            <p:cond delay="0"/>
                                          </p:stCondLst>
                                        </p:cTn>
                                        <p:tgtEl>
                                          <p:spTgt spid="274"/>
                                        </p:tgtEl>
                                        <p:attrNameLst>
                                          <p:attrName>style.visibility</p:attrName>
                                        </p:attrNameLst>
                                      </p:cBhvr>
                                      <p:to>
                                        <p:strVal val="visible"/>
                                      </p:to>
                                    </p:set>
                                    <p:anim calcmode="lin" valueType="num">
                                      <p:cBhvr additive="repl">
                                        <p:cTn id="164" dur="5000" fill="hold"/>
                                        <p:tgtEl>
                                          <p:spTgt spid="274"/>
                                        </p:tgtEl>
                                        <p:attrNameLst>
                                          <p:attrName>ppt_w</p:attrName>
                                        </p:attrNameLst>
                                      </p:cBhvr>
                                      <p:tavLst>
                                        <p:tav fmla="width*sin(2.5*pi*$)" tm="0">
                                          <p:val>
                                            <p:fltVal val="0"/>
                                          </p:val>
                                        </p:tav>
                                        <p:tav fmla="width*sin(2.5*pi*$)" tm="100000">
                                          <p:val>
                                            <p:fltVal val="1"/>
                                          </p:val>
                                        </p:tav>
                                      </p:tavLst>
                                    </p:anim>
                                    <p:anim calcmode="lin" valueType="num">
                                      <p:cBhvr additive="repl">
                                        <p:cTn id="165" dur="5000" fill="hold"/>
                                        <p:tgtEl>
                                          <p:spTgt spid="274"/>
                                        </p:tgtEl>
                                        <p:attrNameLst>
                                          <p:attrName>ppt_h</p:attrName>
                                        </p:attrNameLst>
                                      </p:cBhvr>
                                      <p:tavLst>
                                        <p:tav tm="0">
                                          <p:val>
                                            <p:strVal val="#ppt_h"/>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78"/>
                                        </p:tgtEl>
                                        <p:attrNameLst>
                                          <p:attrName>style.visibility</p:attrName>
                                        </p:attrNameLst>
                                      </p:cBhvr>
                                      <p:to>
                                        <p:strVal val="visible"/>
                                      </p:to>
                                    </p:set>
                                    <p:anim calcmode="lin" valueType="num">
                                      <p:cBhvr additive="base">
                                        <p:cTn id="170" dur="500" fill="hold"/>
                                        <p:tgtEl>
                                          <p:spTgt spid="278"/>
                                        </p:tgtEl>
                                        <p:attrNameLst>
                                          <p:attrName>ppt_x</p:attrName>
                                        </p:attrNameLst>
                                      </p:cBhvr>
                                      <p:tavLst>
                                        <p:tav tm="0">
                                          <p:val>
                                            <p:strVal val="0-#ppt_w/2"/>
                                          </p:val>
                                        </p:tav>
                                        <p:tav tm="100000">
                                          <p:val>
                                            <p:strVal val="#ppt_x"/>
                                          </p:val>
                                        </p:tav>
                                      </p:tavLst>
                                    </p:anim>
                                    <p:anim calcmode="lin" valueType="num">
                                      <p:cBhvr additive="base">
                                        <p:cTn id="171"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9" presetSubtype="10">
                                  <p:stCondLst>
                                    <p:cond delay="0"/>
                                  </p:stCondLst>
                                  <p:childTnLst>
                                    <p:set>
                                      <p:cBhvr>
                                        <p:cTn id="175" dur="1" fill="hold">
                                          <p:stCondLst>
                                            <p:cond delay="0"/>
                                          </p:stCondLst>
                                        </p:cTn>
                                        <p:tgtEl>
                                          <p:spTgt spid="279"/>
                                        </p:tgtEl>
                                        <p:attrNameLst>
                                          <p:attrName>style.visibility</p:attrName>
                                        </p:attrNameLst>
                                      </p:cBhvr>
                                      <p:to>
                                        <p:strVal val="visible"/>
                                      </p:to>
                                    </p:set>
                                    <p:anim calcmode="lin" valueType="num">
                                      <p:cBhvr additive="repl">
                                        <p:cTn id="176" dur="5000" fill="hold"/>
                                        <p:tgtEl>
                                          <p:spTgt spid="279"/>
                                        </p:tgtEl>
                                        <p:attrNameLst>
                                          <p:attrName>ppt_w</p:attrName>
                                        </p:attrNameLst>
                                      </p:cBhvr>
                                      <p:tavLst>
                                        <p:tav fmla="width*sin(2.5*pi*$)" tm="0">
                                          <p:val>
                                            <p:fltVal val="0"/>
                                          </p:val>
                                        </p:tav>
                                        <p:tav fmla="width*sin(2.5*pi*$)" tm="100000">
                                          <p:val>
                                            <p:fltVal val="1"/>
                                          </p:val>
                                        </p:tav>
                                      </p:tavLst>
                                    </p:anim>
                                    <p:anim calcmode="lin" valueType="num">
                                      <p:cBhvr additive="repl">
                                        <p:cTn id="177" dur="50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892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nóstico Organizacional</a:t>
            </a:r>
            <a:endParaRPr b="0" lang="en-US" sz="4400" spc="-1" strike="noStrike">
              <a:solidFill>
                <a:srgbClr val="000000"/>
              </a:solidFill>
              <a:latin typeface="Arial"/>
            </a:endParaRPr>
          </a:p>
        </p:txBody>
      </p:sp>
      <p:sp>
        <p:nvSpPr>
          <p:cNvPr id="281" name=""/>
          <p:cNvSpPr/>
          <p:nvPr/>
        </p:nvSpPr>
        <p:spPr>
          <a:xfrm>
            <a:off x="1064880" y="1533600"/>
            <a:ext cx="544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delos de análisis organizacional</a:t>
            </a:r>
            <a:endParaRPr b="0" lang="en-US" sz="2800" spc="-1" strike="noStrike">
              <a:solidFill>
                <a:srgbClr val="000000"/>
              </a:solidFill>
              <a:latin typeface="Tahoma"/>
            </a:endParaRPr>
          </a:p>
        </p:txBody>
      </p:sp>
      <p:sp>
        <p:nvSpPr>
          <p:cNvPr id="282" name=""/>
          <p:cNvSpPr/>
          <p:nvPr/>
        </p:nvSpPr>
        <p:spPr>
          <a:xfrm>
            <a:off x="971640" y="214776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1.- Son modelos de funcionamiento organizacional.</a:t>
            </a:r>
            <a:endParaRPr b="0" lang="en-US" sz="2600" spc="-1" strike="noStrike">
              <a:solidFill>
                <a:srgbClr val="000000"/>
              </a:solidFill>
              <a:latin typeface="Tahoma"/>
            </a:endParaRPr>
          </a:p>
        </p:txBody>
      </p:sp>
      <p:sp>
        <p:nvSpPr>
          <p:cNvPr id="283" name=""/>
          <p:cNvSpPr/>
          <p:nvPr/>
        </p:nvSpPr>
        <p:spPr>
          <a:xfrm>
            <a:off x="971640" y="264312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2.- Representan a las organizaciones como sistemas </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sociales o sociotécnicos.</a:t>
            </a:r>
            <a:endParaRPr b="0" lang="en-US" sz="2600" spc="-1" strike="noStrike">
              <a:solidFill>
                <a:srgbClr val="000000"/>
              </a:solidFill>
              <a:latin typeface="Tahoma"/>
            </a:endParaRPr>
          </a:p>
        </p:txBody>
      </p:sp>
      <p:sp>
        <p:nvSpPr>
          <p:cNvPr id="284" name=""/>
          <p:cNvSpPr/>
          <p:nvPr/>
        </p:nvSpPr>
        <p:spPr>
          <a:xfrm>
            <a:off x="971640" y="348156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3.- Constituyen una abstracción.</a:t>
            </a:r>
            <a:endParaRPr b="0" lang="en-US" sz="2600" spc="-1" strike="noStrike">
              <a:solidFill>
                <a:srgbClr val="000000"/>
              </a:solidFill>
              <a:latin typeface="Tahoma"/>
            </a:endParaRPr>
          </a:p>
        </p:txBody>
      </p:sp>
      <p:sp>
        <p:nvSpPr>
          <p:cNvPr id="285" name=""/>
          <p:cNvSpPr/>
          <p:nvPr/>
        </p:nvSpPr>
        <p:spPr>
          <a:xfrm>
            <a:off x="971640" y="393876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4.- Son extremadamente selectivos, no consideran todas </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las variables del funcionamiento organizacional.</a:t>
            </a:r>
            <a:endParaRPr b="0" lang="en-US" sz="2600" spc="-1" strike="noStrike">
              <a:solidFill>
                <a:srgbClr val="000000"/>
              </a:solidFill>
              <a:latin typeface="Tahoma"/>
            </a:endParaRPr>
          </a:p>
        </p:txBody>
      </p:sp>
      <p:sp>
        <p:nvSpPr>
          <p:cNvPr id="286" name=""/>
          <p:cNvSpPr/>
          <p:nvPr/>
        </p:nvSpPr>
        <p:spPr>
          <a:xfrm>
            <a:off x="971640" y="483408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5.- Sirven como criterio orientador del análisis.</a:t>
            </a:r>
            <a:endParaRPr b="0" lang="en-US" sz="2600" spc="-1" strike="noStrike">
              <a:solidFill>
                <a:srgbClr val="000000"/>
              </a:solidFill>
              <a:latin typeface="Tahoma"/>
            </a:endParaRPr>
          </a:p>
        </p:txBody>
      </p:sp>
      <p:sp>
        <p:nvSpPr>
          <p:cNvPr id="287" name=""/>
          <p:cNvSpPr/>
          <p:nvPr/>
        </p:nvSpPr>
        <p:spPr>
          <a:xfrm>
            <a:off x="971640" y="538632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6.- Permiten llamar la atención sobre algunos procesos</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de la organizació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80"/>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81"/>
                                        </p:tgtEl>
                                        <p:attrNameLst>
                                          <p:attrName>style.visibility</p:attrName>
                                        </p:attrNameLst>
                                      </p:cBhvr>
                                      <p:to>
                                        <p:strVal val="visible"/>
                                      </p:to>
                                    </p:set>
                                    <p:anim calcmode="lin" valueType="num">
                                      <p:cBhvr additive="base">
                                        <p:cTn id="188" dur="500" fill="hold"/>
                                        <p:tgtEl>
                                          <p:spTgt spid="281"/>
                                        </p:tgtEl>
                                        <p:attrNameLst>
                                          <p:attrName>ppt_x</p:attrName>
                                        </p:attrNameLst>
                                      </p:cBhvr>
                                      <p:tavLst>
                                        <p:tav tm="0">
                                          <p:val>
                                            <p:strVal val="0-#ppt_w/2"/>
                                          </p:val>
                                        </p:tav>
                                        <p:tav tm="100000">
                                          <p:val>
                                            <p:strVal val="#ppt_x"/>
                                          </p:val>
                                        </p:tav>
                                      </p:tavLst>
                                    </p:anim>
                                    <p:anim calcmode="lin" valueType="num">
                                      <p:cBhvr additive="base">
                                        <p:cTn id="18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82"/>
                                        </p:tgtEl>
                                        <p:attrNameLst>
                                          <p:attrName>style.visibility</p:attrName>
                                        </p:attrNameLst>
                                      </p:cBhvr>
                                      <p:to>
                                        <p:strVal val="visible"/>
                                      </p:to>
                                    </p:set>
                                    <p:anim calcmode="lin" valueType="num">
                                      <p:cBhvr additive="base">
                                        <p:cTn id="194" dur="500" fill="hold"/>
                                        <p:tgtEl>
                                          <p:spTgt spid="282"/>
                                        </p:tgtEl>
                                        <p:attrNameLst>
                                          <p:attrName>ppt_x</p:attrName>
                                        </p:attrNameLst>
                                      </p:cBhvr>
                                      <p:tavLst>
                                        <p:tav tm="0">
                                          <p:val>
                                            <p:strVal val="0-#ppt_w/2"/>
                                          </p:val>
                                        </p:tav>
                                        <p:tav tm="100000">
                                          <p:val>
                                            <p:strVal val="#ppt_x"/>
                                          </p:val>
                                        </p:tav>
                                      </p:tavLst>
                                    </p:anim>
                                    <p:anim calcmode="lin" valueType="num">
                                      <p:cBhvr additive="base">
                                        <p:cTn id="19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283"/>
                                        </p:tgtEl>
                                        <p:attrNameLst>
                                          <p:attrName>style.visibility</p:attrName>
                                        </p:attrNameLst>
                                      </p:cBhvr>
                                      <p:to>
                                        <p:strVal val="visible"/>
                                      </p:to>
                                    </p:set>
                                    <p:anim calcmode="lin" valueType="num">
                                      <p:cBhvr additive="base">
                                        <p:cTn id="200" dur="500" fill="hold"/>
                                        <p:tgtEl>
                                          <p:spTgt spid="283"/>
                                        </p:tgtEl>
                                        <p:attrNameLst>
                                          <p:attrName>ppt_x</p:attrName>
                                        </p:attrNameLst>
                                      </p:cBhvr>
                                      <p:tavLst>
                                        <p:tav tm="0">
                                          <p:val>
                                            <p:strVal val="0-#ppt_w/2"/>
                                          </p:val>
                                        </p:tav>
                                        <p:tav tm="100000">
                                          <p:val>
                                            <p:strVal val="#ppt_x"/>
                                          </p:val>
                                        </p:tav>
                                      </p:tavLst>
                                    </p:anim>
                                    <p:anim calcmode="lin" valueType="num">
                                      <p:cBhvr additive="base">
                                        <p:cTn id="201"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84"/>
                                        </p:tgtEl>
                                        <p:attrNameLst>
                                          <p:attrName>style.visibility</p:attrName>
                                        </p:attrNameLst>
                                      </p:cBhvr>
                                      <p:to>
                                        <p:strVal val="visible"/>
                                      </p:to>
                                    </p:set>
                                    <p:anim calcmode="lin" valueType="num">
                                      <p:cBhvr additive="base">
                                        <p:cTn id="206" dur="500" fill="hold"/>
                                        <p:tgtEl>
                                          <p:spTgt spid="284"/>
                                        </p:tgtEl>
                                        <p:attrNameLst>
                                          <p:attrName>ppt_x</p:attrName>
                                        </p:attrNameLst>
                                      </p:cBhvr>
                                      <p:tavLst>
                                        <p:tav tm="0">
                                          <p:val>
                                            <p:strVal val="0-#ppt_w/2"/>
                                          </p:val>
                                        </p:tav>
                                        <p:tav tm="100000">
                                          <p:val>
                                            <p:strVal val="#ppt_x"/>
                                          </p:val>
                                        </p:tav>
                                      </p:tavLst>
                                    </p:anim>
                                    <p:anim calcmode="lin" valueType="num">
                                      <p:cBhvr additive="base">
                                        <p:cTn id="207"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85"/>
                                        </p:tgtEl>
                                        <p:attrNameLst>
                                          <p:attrName>style.visibility</p:attrName>
                                        </p:attrNameLst>
                                      </p:cBhvr>
                                      <p:to>
                                        <p:strVal val="visible"/>
                                      </p:to>
                                    </p:set>
                                    <p:anim calcmode="lin" valueType="num">
                                      <p:cBhvr additive="base">
                                        <p:cTn id="212" dur="500" fill="hold"/>
                                        <p:tgtEl>
                                          <p:spTgt spid="285"/>
                                        </p:tgtEl>
                                        <p:attrNameLst>
                                          <p:attrName>ppt_x</p:attrName>
                                        </p:attrNameLst>
                                      </p:cBhvr>
                                      <p:tavLst>
                                        <p:tav tm="0">
                                          <p:val>
                                            <p:strVal val="0-#ppt_w/2"/>
                                          </p:val>
                                        </p:tav>
                                        <p:tav tm="100000">
                                          <p:val>
                                            <p:strVal val="#ppt_x"/>
                                          </p:val>
                                        </p:tav>
                                      </p:tavLst>
                                    </p:anim>
                                    <p:anim calcmode="lin" valueType="num">
                                      <p:cBhvr additive="base">
                                        <p:cTn id="213"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86"/>
                                        </p:tgtEl>
                                        <p:attrNameLst>
                                          <p:attrName>style.visibility</p:attrName>
                                        </p:attrNameLst>
                                      </p:cBhvr>
                                      <p:to>
                                        <p:strVal val="visible"/>
                                      </p:to>
                                    </p:set>
                                    <p:anim calcmode="lin" valueType="num">
                                      <p:cBhvr additive="base">
                                        <p:cTn id="218" dur="500" fill="hold"/>
                                        <p:tgtEl>
                                          <p:spTgt spid="286"/>
                                        </p:tgtEl>
                                        <p:attrNameLst>
                                          <p:attrName>ppt_x</p:attrName>
                                        </p:attrNameLst>
                                      </p:cBhvr>
                                      <p:tavLst>
                                        <p:tav tm="0">
                                          <p:val>
                                            <p:strVal val="0-#ppt_w/2"/>
                                          </p:val>
                                        </p:tav>
                                        <p:tav tm="100000">
                                          <p:val>
                                            <p:strVal val="#ppt_x"/>
                                          </p:val>
                                        </p:tav>
                                      </p:tavLst>
                                    </p:anim>
                                    <p:anim calcmode="lin" valueType="num">
                                      <p:cBhvr additive="base">
                                        <p:cTn id="21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87"/>
                                        </p:tgtEl>
                                        <p:attrNameLst>
                                          <p:attrName>style.visibility</p:attrName>
                                        </p:attrNameLst>
                                      </p:cBhvr>
                                      <p:to>
                                        <p:strVal val="visible"/>
                                      </p:to>
                                    </p:set>
                                    <p:anim calcmode="lin" valueType="num">
                                      <p:cBhvr additive="base">
                                        <p:cTn id="224" dur="500" fill="hold"/>
                                        <p:tgtEl>
                                          <p:spTgt spid="287"/>
                                        </p:tgtEl>
                                        <p:attrNameLst>
                                          <p:attrName>ppt_x</p:attrName>
                                        </p:attrNameLst>
                                      </p:cBhvr>
                                      <p:tavLst>
                                        <p:tav tm="0">
                                          <p:val>
                                            <p:strVal val="0-#ppt_w/2"/>
                                          </p:val>
                                        </p:tav>
                                        <p:tav tm="100000">
                                          <p:val>
                                            <p:strVal val="#ppt_x"/>
                                          </p:val>
                                        </p:tav>
                                      </p:tavLst>
                                    </p:anim>
                                    <p:anim calcmode="lin" valueType="num">
                                      <p:cBhvr additive="base">
                                        <p:cTn id="225"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92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0000"/>
                </a:solidFill>
                <a:latin typeface="Arial"/>
              </a:rPr>
              <a:t>Diagnóstico Organizacional</a:t>
            </a:r>
            <a:endParaRPr b="0" lang="en-US" sz="4400" spc="-1" strike="noStrike">
              <a:solidFill>
                <a:srgbClr val="000000"/>
              </a:solidFill>
              <a:latin typeface="Arial"/>
            </a:endParaRPr>
          </a:p>
        </p:txBody>
      </p:sp>
      <p:sp>
        <p:nvSpPr>
          <p:cNvPr id="289" name=""/>
          <p:cNvSpPr/>
          <p:nvPr/>
        </p:nvSpPr>
        <p:spPr>
          <a:xfrm>
            <a:off x="1064880" y="1533600"/>
            <a:ext cx="544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delos de análisis organizacional</a:t>
            </a:r>
            <a:endParaRPr b="0" lang="en-US" sz="2800" spc="-1" strike="noStrike">
              <a:solidFill>
                <a:srgbClr val="000000"/>
              </a:solidFill>
              <a:latin typeface="Tahoma"/>
            </a:endParaRPr>
          </a:p>
        </p:txBody>
      </p:sp>
      <p:sp>
        <p:nvSpPr>
          <p:cNvPr id="290" name=""/>
          <p:cNvSpPr/>
          <p:nvPr/>
        </p:nvSpPr>
        <p:spPr>
          <a:xfrm>
            <a:off x="971640" y="214776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7.- Constituyen parámetros del funcionamiento eficiente</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de una organización.</a:t>
            </a:r>
            <a:endParaRPr b="0" lang="en-US" sz="2600" spc="-1" strike="noStrike">
              <a:solidFill>
                <a:srgbClr val="000000"/>
              </a:solidFill>
              <a:latin typeface="Tahoma"/>
            </a:endParaRPr>
          </a:p>
        </p:txBody>
      </p:sp>
      <p:sp>
        <p:nvSpPr>
          <p:cNvPr id="291" name=""/>
          <p:cNvSpPr/>
          <p:nvPr/>
        </p:nvSpPr>
        <p:spPr>
          <a:xfrm>
            <a:off x="971640" y="300528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8.- Ofrecen una explicación, una interpretación del</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devenir organizacional.</a:t>
            </a:r>
            <a:endParaRPr b="0" lang="en-US" sz="2600" spc="-1" strike="noStrike">
              <a:solidFill>
                <a:srgbClr val="000000"/>
              </a:solidFill>
              <a:latin typeface="Tahoma"/>
            </a:endParaRPr>
          </a:p>
        </p:txBody>
      </p:sp>
      <p:sp>
        <p:nvSpPr>
          <p:cNvPr id="292" name=""/>
          <p:cNvSpPr/>
          <p:nvPr/>
        </p:nvSpPr>
        <p:spPr>
          <a:xfrm>
            <a:off x="971640" y="393876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9.- Hacen explícitos las variables y supuestos </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considerados por el análista.</a:t>
            </a:r>
            <a:endParaRPr b="0" lang="en-US" sz="2600" spc="-1" strike="noStrike">
              <a:solidFill>
                <a:srgbClr val="000000"/>
              </a:solidFill>
              <a:latin typeface="Tahoma"/>
            </a:endParaRPr>
          </a:p>
        </p:txBody>
      </p:sp>
      <p:sp>
        <p:nvSpPr>
          <p:cNvPr id="293" name=""/>
          <p:cNvSpPr/>
          <p:nvPr/>
        </p:nvSpPr>
        <p:spPr>
          <a:xfrm>
            <a:off x="971640" y="4834080"/>
            <a:ext cx="883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10.- Son prescindibles e intercambiables.</a:t>
            </a:r>
            <a:endParaRPr b="0" lang="en-US" sz="2600" spc="-1" strike="noStrike">
              <a:solidFill>
                <a:srgbClr val="000000"/>
              </a:solidFill>
              <a:latin typeface="Tahoma"/>
            </a:endParaRPr>
          </a:p>
        </p:txBody>
      </p:sp>
      <p:sp>
        <p:nvSpPr>
          <p:cNvPr id="294" name=""/>
          <p:cNvSpPr/>
          <p:nvPr/>
        </p:nvSpPr>
        <p:spPr>
          <a:xfrm>
            <a:off x="971640" y="5386320"/>
            <a:ext cx="8839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11.- Permiten hacer explícitas las perspectivas desde las</a:t>
            </a: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imes New Roman"/>
              </a:rPr>
              <a:t>cuales el observador construye el objeto de estudi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88"/>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89"/>
                                        </p:tgtEl>
                                        <p:attrNameLst>
                                          <p:attrName>style.visibility</p:attrName>
                                        </p:attrNameLst>
                                      </p:cBhvr>
                                      <p:to>
                                        <p:strVal val="visible"/>
                                      </p:to>
                                    </p:set>
                                    <p:anim calcmode="lin" valueType="num">
                                      <p:cBhvr additive="base">
                                        <p:cTn id="236" dur="500" fill="hold"/>
                                        <p:tgtEl>
                                          <p:spTgt spid="289"/>
                                        </p:tgtEl>
                                        <p:attrNameLst>
                                          <p:attrName>ppt_x</p:attrName>
                                        </p:attrNameLst>
                                      </p:cBhvr>
                                      <p:tavLst>
                                        <p:tav tm="0">
                                          <p:val>
                                            <p:strVal val="0-#ppt_w/2"/>
                                          </p:val>
                                        </p:tav>
                                        <p:tav tm="100000">
                                          <p:val>
                                            <p:strVal val="#ppt_x"/>
                                          </p:val>
                                        </p:tav>
                                      </p:tavLst>
                                    </p:anim>
                                    <p:anim calcmode="lin" valueType="num">
                                      <p:cBhvr additive="base">
                                        <p:cTn id="237"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90"/>
                                        </p:tgtEl>
                                        <p:attrNameLst>
                                          <p:attrName>style.visibility</p:attrName>
                                        </p:attrNameLst>
                                      </p:cBhvr>
                                      <p:to>
                                        <p:strVal val="visible"/>
                                      </p:to>
                                    </p:set>
                                    <p:anim calcmode="lin" valueType="num">
                                      <p:cBhvr additive="base">
                                        <p:cTn id="242" dur="500" fill="hold"/>
                                        <p:tgtEl>
                                          <p:spTgt spid="290"/>
                                        </p:tgtEl>
                                        <p:attrNameLst>
                                          <p:attrName>ppt_x</p:attrName>
                                        </p:attrNameLst>
                                      </p:cBhvr>
                                      <p:tavLst>
                                        <p:tav tm="0">
                                          <p:val>
                                            <p:strVal val="0-#ppt_w/2"/>
                                          </p:val>
                                        </p:tav>
                                        <p:tav tm="100000">
                                          <p:val>
                                            <p:strVal val="#ppt_x"/>
                                          </p:val>
                                        </p:tav>
                                      </p:tavLst>
                                    </p:anim>
                                    <p:anim calcmode="lin" valueType="num">
                                      <p:cBhvr additive="base">
                                        <p:cTn id="243"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91"/>
                                        </p:tgtEl>
                                        <p:attrNameLst>
                                          <p:attrName>style.visibility</p:attrName>
                                        </p:attrNameLst>
                                      </p:cBhvr>
                                      <p:to>
                                        <p:strVal val="visible"/>
                                      </p:to>
                                    </p:set>
                                    <p:anim calcmode="lin" valueType="num">
                                      <p:cBhvr additive="base">
                                        <p:cTn id="248" dur="500" fill="hold"/>
                                        <p:tgtEl>
                                          <p:spTgt spid="291"/>
                                        </p:tgtEl>
                                        <p:attrNameLst>
                                          <p:attrName>ppt_x</p:attrName>
                                        </p:attrNameLst>
                                      </p:cBhvr>
                                      <p:tavLst>
                                        <p:tav tm="0">
                                          <p:val>
                                            <p:strVal val="0-#ppt_w/2"/>
                                          </p:val>
                                        </p:tav>
                                        <p:tav tm="100000">
                                          <p:val>
                                            <p:strVal val="#ppt_x"/>
                                          </p:val>
                                        </p:tav>
                                      </p:tavLst>
                                    </p:anim>
                                    <p:anim calcmode="lin" valueType="num">
                                      <p:cBhvr additive="base">
                                        <p:cTn id="249"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92"/>
                                        </p:tgtEl>
                                        <p:attrNameLst>
                                          <p:attrName>style.visibility</p:attrName>
                                        </p:attrNameLst>
                                      </p:cBhvr>
                                      <p:to>
                                        <p:strVal val="visible"/>
                                      </p:to>
                                    </p:set>
                                    <p:anim calcmode="lin" valueType="num">
                                      <p:cBhvr additive="base">
                                        <p:cTn id="254" dur="500" fill="hold"/>
                                        <p:tgtEl>
                                          <p:spTgt spid="292"/>
                                        </p:tgtEl>
                                        <p:attrNameLst>
                                          <p:attrName>ppt_x</p:attrName>
                                        </p:attrNameLst>
                                      </p:cBhvr>
                                      <p:tavLst>
                                        <p:tav tm="0">
                                          <p:val>
                                            <p:strVal val="0-#ppt_w/2"/>
                                          </p:val>
                                        </p:tav>
                                        <p:tav tm="100000">
                                          <p:val>
                                            <p:strVal val="#ppt_x"/>
                                          </p:val>
                                        </p:tav>
                                      </p:tavLst>
                                    </p:anim>
                                    <p:anim calcmode="lin" valueType="num">
                                      <p:cBhvr additive="base">
                                        <p:cTn id="255"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93"/>
                                        </p:tgtEl>
                                        <p:attrNameLst>
                                          <p:attrName>style.visibility</p:attrName>
                                        </p:attrNameLst>
                                      </p:cBhvr>
                                      <p:to>
                                        <p:strVal val="visible"/>
                                      </p:to>
                                    </p:set>
                                    <p:anim calcmode="lin" valueType="num">
                                      <p:cBhvr additive="base">
                                        <p:cTn id="260" dur="500" fill="hold"/>
                                        <p:tgtEl>
                                          <p:spTgt spid="293"/>
                                        </p:tgtEl>
                                        <p:attrNameLst>
                                          <p:attrName>ppt_x</p:attrName>
                                        </p:attrNameLst>
                                      </p:cBhvr>
                                      <p:tavLst>
                                        <p:tav tm="0">
                                          <p:val>
                                            <p:strVal val="0-#ppt_w/2"/>
                                          </p:val>
                                        </p:tav>
                                        <p:tav tm="100000">
                                          <p:val>
                                            <p:strVal val="#ppt_x"/>
                                          </p:val>
                                        </p:tav>
                                      </p:tavLst>
                                    </p:anim>
                                    <p:anim calcmode="lin" valueType="num">
                                      <p:cBhvr additive="base">
                                        <p:cTn id="261"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94"/>
                                        </p:tgtEl>
                                        <p:attrNameLst>
                                          <p:attrName>style.visibility</p:attrName>
                                        </p:attrNameLst>
                                      </p:cBhvr>
                                      <p:to>
                                        <p:strVal val="visible"/>
                                      </p:to>
                                    </p:set>
                                    <p:anim calcmode="lin" valueType="num">
                                      <p:cBhvr additive="base">
                                        <p:cTn id="266" dur="500" fill="hold"/>
                                        <p:tgtEl>
                                          <p:spTgt spid="294"/>
                                        </p:tgtEl>
                                        <p:attrNameLst>
                                          <p:attrName>ppt_x</p:attrName>
                                        </p:attrNameLst>
                                      </p:cBhvr>
                                      <p:tavLst>
                                        <p:tav tm="0">
                                          <p:val>
                                            <p:strVal val="0-#ppt_w/2"/>
                                          </p:val>
                                        </p:tav>
                                        <p:tav tm="100000">
                                          <p:val>
                                            <p:strVal val="#ppt_x"/>
                                          </p:val>
                                        </p:tav>
                                      </p:tavLst>
                                    </p:anim>
                                    <p:anim calcmode="lin" valueType="num">
                                      <p:cBhvr additive="base">
                                        <p:cTn id="26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nóstico Organizacional</a:t>
            </a:r>
            <a:endParaRPr b="0" lang="en-US" sz="4400" spc="-1" strike="noStrike">
              <a:solidFill>
                <a:srgbClr val="000000"/>
              </a:solidFill>
              <a:latin typeface="Arial"/>
            </a:endParaRPr>
          </a:p>
        </p:txBody>
      </p:sp>
      <p:sp>
        <p:nvSpPr>
          <p:cNvPr id="296" name=""/>
          <p:cNvSpPr/>
          <p:nvPr/>
        </p:nvSpPr>
        <p:spPr>
          <a:xfrm>
            <a:off x="2746800" y="1184400"/>
            <a:ext cx="3435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Modelos de contingencia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de Lawrence y Lorsch</a:t>
            </a:r>
            <a:endParaRPr b="0" lang="en-US" sz="2400" spc="-1" strike="noStrike">
              <a:solidFill>
                <a:srgbClr val="000000"/>
              </a:solidFill>
              <a:latin typeface="Tahoma"/>
            </a:endParaRPr>
          </a:p>
        </p:txBody>
      </p:sp>
      <p:sp>
        <p:nvSpPr>
          <p:cNvPr id="297" name=""/>
          <p:cNvSpPr/>
          <p:nvPr/>
        </p:nvSpPr>
        <p:spPr>
          <a:xfrm>
            <a:off x="1032840" y="2079720"/>
            <a:ext cx="80676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 modelo se inspira en la Teoría General de Sistemas y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oma la idea de que la organización se construy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ferenciándose del entorno. Es aquí donde se apega a la </a:t>
            </a:r>
            <a:r>
              <a:rPr b="1" i="1" lang="es-ES_tradnl" sz="2400" spc="-1" strike="noStrike">
                <a:solidFill>
                  <a:srgbClr val="000000"/>
                </a:solidFill>
                <a:latin typeface="Times New Roman"/>
              </a:rPr>
              <a:t>Ley</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de variedad requerida (Ashby, 1958),</a:t>
            </a:r>
            <a:r>
              <a:rPr b="0" lang="es-ES_tradnl" sz="2400" spc="-1" strike="noStrike">
                <a:solidFill>
                  <a:srgbClr val="000000"/>
                </a:solidFill>
                <a:latin typeface="Times New Roman"/>
              </a:rPr>
              <a:t> que establece qu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El sistema es menos complejo que el ambiente y, para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rse con él, deberá actuar selectivamente: ser capaz d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ucir la complejidad del entorno mediante el expediente d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r relevantes sólo ciertos aspectos de ést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y dos conceptos fundamentales en la teoría: </a:t>
            </a:r>
            <a:r>
              <a:rPr b="1" i="1" lang="es-ES_tradnl" sz="2400" spc="-1" strike="noStrike">
                <a:solidFill>
                  <a:srgbClr val="000000"/>
                </a:solidFill>
                <a:latin typeface="Times New Roman"/>
              </a:rPr>
              <a:t>la diferenciació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a:t>
            </a:r>
            <a:r>
              <a:rPr b="1" i="1" lang="es-ES_tradnl" sz="2400" spc="-1" strike="noStrike">
                <a:solidFill>
                  <a:srgbClr val="000000"/>
                </a:solidFill>
                <a:latin typeface="Times New Roman"/>
              </a:rPr>
              <a:t>la integración</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9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96"/>
                                        </p:tgtEl>
                                        <p:attrNameLst>
                                          <p:attrName>style.visibility</p:attrName>
                                        </p:attrNameLst>
                                      </p:cBhvr>
                                      <p:to>
                                        <p:strVal val="visible"/>
                                      </p:to>
                                    </p:set>
                                    <p:anim calcmode="lin" valueType="num">
                                      <p:cBhvr additive="base">
                                        <p:cTn id="278" dur="500" fill="hold"/>
                                        <p:tgtEl>
                                          <p:spTgt spid="296"/>
                                        </p:tgtEl>
                                        <p:attrNameLst>
                                          <p:attrName>ppt_x</p:attrName>
                                        </p:attrNameLst>
                                      </p:cBhvr>
                                      <p:tavLst>
                                        <p:tav tm="0">
                                          <p:val>
                                            <p:strVal val="0-#ppt_w/2"/>
                                          </p:val>
                                        </p:tav>
                                        <p:tav tm="100000">
                                          <p:val>
                                            <p:strVal val="#ppt_x"/>
                                          </p:val>
                                        </p:tav>
                                      </p:tavLst>
                                    </p:anim>
                                    <p:anim calcmode="lin" valueType="num">
                                      <p:cBhvr additive="base">
                                        <p:cTn id="2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97"/>
                                        </p:tgtEl>
                                        <p:attrNameLst>
                                          <p:attrName>style.visibility</p:attrName>
                                        </p:attrNameLst>
                                      </p:cBhvr>
                                      <p:to>
                                        <p:strVal val="visible"/>
                                      </p:to>
                                    </p:set>
                                    <p:anim calcmode="lin" valueType="num">
                                      <p:cBhvr additive="base">
                                        <p:cTn id="284" dur="500" fill="hold"/>
                                        <p:tgtEl>
                                          <p:spTgt spid="297"/>
                                        </p:tgtEl>
                                        <p:attrNameLst>
                                          <p:attrName>ppt_x</p:attrName>
                                        </p:attrNameLst>
                                      </p:cBhvr>
                                      <p:tavLst>
                                        <p:tav tm="0">
                                          <p:val>
                                            <p:strVal val="0-#ppt_w/2"/>
                                          </p:val>
                                        </p:tav>
                                        <p:tav tm="100000">
                                          <p:val>
                                            <p:strVal val="#ppt_x"/>
                                          </p:val>
                                        </p:tav>
                                      </p:tavLst>
                                    </p:anim>
                                    <p:anim calcmode="lin" valueType="num">
                                      <p:cBhvr additive="base">
                                        <p:cTn id="285"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7324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nóstico Organizacional</a:t>
            </a:r>
            <a:endParaRPr b="0" lang="en-US" sz="4400" spc="-1" strike="noStrike">
              <a:solidFill>
                <a:srgbClr val="000000"/>
              </a:solidFill>
              <a:latin typeface="Arial"/>
            </a:endParaRPr>
          </a:p>
        </p:txBody>
      </p:sp>
      <p:sp>
        <p:nvSpPr>
          <p:cNvPr id="299" name=""/>
          <p:cNvSpPr/>
          <p:nvPr/>
        </p:nvSpPr>
        <p:spPr>
          <a:xfrm>
            <a:off x="3249000" y="1012680"/>
            <a:ext cx="300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La estructura de cinco</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de Henry Mintzberg</a:t>
            </a:r>
            <a:endParaRPr b="0" lang="en-US" sz="2400" spc="-1" strike="noStrike">
              <a:solidFill>
                <a:srgbClr val="000000"/>
              </a:solidFill>
              <a:latin typeface="Tahoma"/>
            </a:endParaRPr>
          </a:p>
        </p:txBody>
      </p:sp>
      <p:grpSp>
        <p:nvGrpSpPr>
          <p:cNvPr id="300" name=""/>
          <p:cNvGrpSpPr/>
          <p:nvPr/>
        </p:nvGrpSpPr>
        <p:grpSpPr>
          <a:xfrm>
            <a:off x="537840" y="2308320"/>
            <a:ext cx="5037120" cy="3902040"/>
            <a:chOff x="537840" y="2308320"/>
            <a:chExt cx="5037120" cy="3902040"/>
          </a:xfrm>
        </p:grpSpPr>
        <p:sp>
          <p:nvSpPr>
            <p:cNvPr id="301" name=""/>
            <p:cNvSpPr/>
            <p:nvPr/>
          </p:nvSpPr>
          <p:spPr>
            <a:xfrm>
              <a:off x="1249200" y="2308320"/>
              <a:ext cx="2351160" cy="3902040"/>
            </a:xfrm>
            <a:custGeom>
              <a:avLst/>
              <a:gdLst/>
              <a:ahLst/>
              <a:rect l="l" t="t" r="r" b="b"/>
              <a:pathLst>
                <a:path w="1740" h="2492">
                  <a:moveTo>
                    <a:pt x="1380" y="32"/>
                  </a:moveTo>
                  <a:cubicBezTo>
                    <a:pt x="1296" y="4"/>
                    <a:pt x="1332" y="0"/>
                    <a:pt x="1272" y="20"/>
                  </a:cubicBezTo>
                  <a:cubicBezTo>
                    <a:pt x="1085" y="7"/>
                    <a:pt x="907" y="22"/>
                    <a:pt x="720" y="32"/>
                  </a:cubicBezTo>
                  <a:cubicBezTo>
                    <a:pt x="716" y="33"/>
                    <a:pt x="598" y="52"/>
                    <a:pt x="588" y="56"/>
                  </a:cubicBezTo>
                  <a:cubicBezTo>
                    <a:pt x="562" y="68"/>
                    <a:pt x="516" y="104"/>
                    <a:pt x="516" y="104"/>
                  </a:cubicBezTo>
                  <a:cubicBezTo>
                    <a:pt x="472" y="169"/>
                    <a:pt x="507" y="181"/>
                    <a:pt x="552" y="248"/>
                  </a:cubicBezTo>
                  <a:cubicBezTo>
                    <a:pt x="596" y="314"/>
                    <a:pt x="602" y="321"/>
                    <a:pt x="672" y="368"/>
                  </a:cubicBezTo>
                  <a:cubicBezTo>
                    <a:pt x="696" y="384"/>
                    <a:pt x="717" y="407"/>
                    <a:pt x="744" y="416"/>
                  </a:cubicBezTo>
                  <a:cubicBezTo>
                    <a:pt x="796" y="433"/>
                    <a:pt x="814" y="432"/>
                    <a:pt x="852" y="464"/>
                  </a:cubicBezTo>
                  <a:cubicBezTo>
                    <a:pt x="894" y="499"/>
                    <a:pt x="903" y="522"/>
                    <a:pt x="936" y="572"/>
                  </a:cubicBezTo>
                  <a:cubicBezTo>
                    <a:pt x="950" y="593"/>
                    <a:pt x="960" y="644"/>
                    <a:pt x="960" y="644"/>
                  </a:cubicBezTo>
                  <a:cubicBezTo>
                    <a:pt x="927" y="808"/>
                    <a:pt x="897" y="972"/>
                    <a:pt x="864" y="1136"/>
                  </a:cubicBezTo>
                  <a:cubicBezTo>
                    <a:pt x="852" y="1196"/>
                    <a:pt x="847" y="1270"/>
                    <a:pt x="828" y="1328"/>
                  </a:cubicBezTo>
                  <a:cubicBezTo>
                    <a:pt x="823" y="1342"/>
                    <a:pt x="810" y="1351"/>
                    <a:pt x="804" y="1364"/>
                  </a:cubicBezTo>
                  <a:cubicBezTo>
                    <a:pt x="798" y="1375"/>
                    <a:pt x="800" y="1390"/>
                    <a:pt x="792" y="1400"/>
                  </a:cubicBezTo>
                  <a:cubicBezTo>
                    <a:pt x="783" y="1411"/>
                    <a:pt x="767" y="1415"/>
                    <a:pt x="756" y="1424"/>
                  </a:cubicBezTo>
                  <a:cubicBezTo>
                    <a:pt x="698" y="1472"/>
                    <a:pt x="639" y="1514"/>
                    <a:pt x="576" y="1556"/>
                  </a:cubicBezTo>
                  <a:cubicBezTo>
                    <a:pt x="555" y="1570"/>
                    <a:pt x="528" y="1572"/>
                    <a:pt x="504" y="1580"/>
                  </a:cubicBezTo>
                  <a:cubicBezTo>
                    <a:pt x="447" y="1599"/>
                    <a:pt x="377" y="1645"/>
                    <a:pt x="324" y="1676"/>
                  </a:cubicBezTo>
                  <a:cubicBezTo>
                    <a:pt x="209" y="1741"/>
                    <a:pt x="135" y="1877"/>
                    <a:pt x="72" y="1988"/>
                  </a:cubicBezTo>
                  <a:cubicBezTo>
                    <a:pt x="43" y="2039"/>
                    <a:pt x="48" y="2012"/>
                    <a:pt x="24" y="2072"/>
                  </a:cubicBezTo>
                  <a:cubicBezTo>
                    <a:pt x="15" y="2095"/>
                    <a:pt x="0" y="2144"/>
                    <a:pt x="0" y="2144"/>
                  </a:cubicBezTo>
                  <a:cubicBezTo>
                    <a:pt x="3" y="2165"/>
                    <a:pt x="12" y="2288"/>
                    <a:pt x="36" y="2312"/>
                  </a:cubicBezTo>
                  <a:cubicBezTo>
                    <a:pt x="43" y="2319"/>
                    <a:pt x="112" y="2397"/>
                    <a:pt x="144" y="2408"/>
                  </a:cubicBezTo>
                  <a:cubicBezTo>
                    <a:pt x="395" y="2492"/>
                    <a:pt x="677" y="2483"/>
                    <a:pt x="936" y="2492"/>
                  </a:cubicBezTo>
                  <a:cubicBezTo>
                    <a:pt x="1203" y="2480"/>
                    <a:pt x="1473" y="2480"/>
                    <a:pt x="1740" y="2480"/>
                  </a:cubicBezTo>
                  <a:lnTo>
                    <a:pt x="1668" y="2480"/>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2" name=""/>
            <p:cNvSpPr/>
            <p:nvPr/>
          </p:nvSpPr>
          <p:spPr>
            <a:xfrm flipH="1">
              <a:off x="2514600" y="2308320"/>
              <a:ext cx="2349360" cy="3902040"/>
            </a:xfrm>
            <a:custGeom>
              <a:avLst/>
              <a:gdLst/>
              <a:ahLst/>
              <a:rect l="l" t="t" r="r" b="b"/>
              <a:pathLst>
                <a:path w="1740" h="2492">
                  <a:moveTo>
                    <a:pt x="1380" y="32"/>
                  </a:moveTo>
                  <a:cubicBezTo>
                    <a:pt x="1296" y="4"/>
                    <a:pt x="1332" y="0"/>
                    <a:pt x="1272" y="20"/>
                  </a:cubicBezTo>
                  <a:cubicBezTo>
                    <a:pt x="1085" y="7"/>
                    <a:pt x="907" y="22"/>
                    <a:pt x="720" y="32"/>
                  </a:cubicBezTo>
                  <a:cubicBezTo>
                    <a:pt x="716" y="33"/>
                    <a:pt x="598" y="52"/>
                    <a:pt x="588" y="56"/>
                  </a:cubicBezTo>
                  <a:cubicBezTo>
                    <a:pt x="562" y="68"/>
                    <a:pt x="516" y="104"/>
                    <a:pt x="516" y="104"/>
                  </a:cubicBezTo>
                  <a:cubicBezTo>
                    <a:pt x="472" y="169"/>
                    <a:pt x="507" y="181"/>
                    <a:pt x="552" y="248"/>
                  </a:cubicBezTo>
                  <a:cubicBezTo>
                    <a:pt x="596" y="314"/>
                    <a:pt x="602" y="321"/>
                    <a:pt x="672" y="368"/>
                  </a:cubicBezTo>
                  <a:cubicBezTo>
                    <a:pt x="696" y="384"/>
                    <a:pt x="717" y="407"/>
                    <a:pt x="744" y="416"/>
                  </a:cubicBezTo>
                  <a:cubicBezTo>
                    <a:pt x="796" y="433"/>
                    <a:pt x="814" y="432"/>
                    <a:pt x="852" y="464"/>
                  </a:cubicBezTo>
                  <a:cubicBezTo>
                    <a:pt x="894" y="499"/>
                    <a:pt x="903" y="522"/>
                    <a:pt x="936" y="572"/>
                  </a:cubicBezTo>
                  <a:cubicBezTo>
                    <a:pt x="950" y="593"/>
                    <a:pt x="960" y="644"/>
                    <a:pt x="960" y="644"/>
                  </a:cubicBezTo>
                  <a:cubicBezTo>
                    <a:pt x="927" y="808"/>
                    <a:pt x="897" y="972"/>
                    <a:pt x="864" y="1136"/>
                  </a:cubicBezTo>
                  <a:cubicBezTo>
                    <a:pt x="852" y="1196"/>
                    <a:pt x="847" y="1270"/>
                    <a:pt x="828" y="1328"/>
                  </a:cubicBezTo>
                  <a:cubicBezTo>
                    <a:pt x="823" y="1342"/>
                    <a:pt x="810" y="1351"/>
                    <a:pt x="804" y="1364"/>
                  </a:cubicBezTo>
                  <a:cubicBezTo>
                    <a:pt x="798" y="1375"/>
                    <a:pt x="800" y="1390"/>
                    <a:pt x="792" y="1400"/>
                  </a:cubicBezTo>
                  <a:cubicBezTo>
                    <a:pt x="783" y="1411"/>
                    <a:pt x="767" y="1415"/>
                    <a:pt x="756" y="1424"/>
                  </a:cubicBezTo>
                  <a:cubicBezTo>
                    <a:pt x="698" y="1472"/>
                    <a:pt x="639" y="1514"/>
                    <a:pt x="576" y="1556"/>
                  </a:cubicBezTo>
                  <a:cubicBezTo>
                    <a:pt x="555" y="1570"/>
                    <a:pt x="528" y="1572"/>
                    <a:pt x="504" y="1580"/>
                  </a:cubicBezTo>
                  <a:cubicBezTo>
                    <a:pt x="447" y="1599"/>
                    <a:pt x="377" y="1645"/>
                    <a:pt x="324" y="1676"/>
                  </a:cubicBezTo>
                  <a:cubicBezTo>
                    <a:pt x="209" y="1741"/>
                    <a:pt x="135" y="1877"/>
                    <a:pt x="72" y="1988"/>
                  </a:cubicBezTo>
                  <a:cubicBezTo>
                    <a:pt x="43" y="2039"/>
                    <a:pt x="48" y="2012"/>
                    <a:pt x="24" y="2072"/>
                  </a:cubicBezTo>
                  <a:cubicBezTo>
                    <a:pt x="15" y="2095"/>
                    <a:pt x="0" y="2144"/>
                    <a:pt x="0" y="2144"/>
                  </a:cubicBezTo>
                  <a:cubicBezTo>
                    <a:pt x="3" y="2165"/>
                    <a:pt x="12" y="2288"/>
                    <a:pt x="36" y="2312"/>
                  </a:cubicBezTo>
                  <a:cubicBezTo>
                    <a:pt x="43" y="2319"/>
                    <a:pt x="112" y="2397"/>
                    <a:pt x="144" y="2408"/>
                  </a:cubicBezTo>
                  <a:cubicBezTo>
                    <a:pt x="395" y="2492"/>
                    <a:pt x="677" y="2483"/>
                    <a:pt x="936" y="2492"/>
                  </a:cubicBezTo>
                  <a:cubicBezTo>
                    <a:pt x="1203" y="2480"/>
                    <a:pt x="1473" y="2480"/>
                    <a:pt x="1740" y="2480"/>
                  </a:cubicBezTo>
                  <a:lnTo>
                    <a:pt x="1668" y="2480"/>
                  </a:lnTo>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3" name=""/>
            <p:cNvSpPr/>
            <p:nvPr/>
          </p:nvSpPr>
          <p:spPr>
            <a:xfrm rot="19382400">
              <a:off x="3827520" y="2809440"/>
              <a:ext cx="1182600" cy="2273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4" name=""/>
            <p:cNvSpPr/>
            <p:nvPr/>
          </p:nvSpPr>
          <p:spPr>
            <a:xfrm flipH="1" rot="2217600">
              <a:off x="1102680" y="2826720"/>
              <a:ext cx="1184040" cy="2274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5" name=""/>
            <p:cNvSpPr/>
            <p:nvPr/>
          </p:nvSpPr>
          <p:spPr>
            <a:xfrm>
              <a:off x="1963080" y="2411280"/>
              <a:ext cx="219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umbre Estratégica</a:t>
              </a:r>
              <a:endParaRPr b="0" lang="en-US" sz="2000" spc="-1" strike="noStrike">
                <a:solidFill>
                  <a:srgbClr val="000000"/>
                </a:solidFill>
                <a:latin typeface="Tahoma"/>
              </a:endParaRPr>
            </a:p>
          </p:txBody>
        </p:sp>
        <p:sp>
          <p:nvSpPr>
            <p:cNvPr id="306" name=""/>
            <p:cNvSpPr/>
            <p:nvPr/>
          </p:nvSpPr>
          <p:spPr>
            <a:xfrm>
              <a:off x="956880" y="379080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ecnoestructura</a:t>
              </a:r>
              <a:endParaRPr b="0" lang="en-US" sz="1600" spc="-1" strike="noStrike">
                <a:solidFill>
                  <a:srgbClr val="000000"/>
                </a:solidFill>
                <a:latin typeface="Tahoma"/>
              </a:endParaRPr>
            </a:p>
          </p:txBody>
        </p:sp>
        <p:sp>
          <p:nvSpPr>
            <p:cNvPr id="307" name=""/>
            <p:cNvSpPr/>
            <p:nvPr/>
          </p:nvSpPr>
          <p:spPr>
            <a:xfrm>
              <a:off x="3780000" y="377208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taff de apoyo</a:t>
              </a:r>
              <a:endParaRPr b="0" lang="en-US" sz="1600" spc="-1" strike="noStrike">
                <a:solidFill>
                  <a:srgbClr val="000000"/>
                </a:solidFill>
                <a:latin typeface="Tahoma"/>
              </a:endParaRPr>
            </a:p>
          </p:txBody>
        </p:sp>
        <p:sp>
          <p:nvSpPr>
            <p:cNvPr id="308" name=""/>
            <p:cNvSpPr/>
            <p:nvPr/>
          </p:nvSpPr>
          <p:spPr>
            <a:xfrm>
              <a:off x="2423520" y="380520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 media</a:t>
              </a:r>
              <a:endParaRPr b="0" lang="en-US" sz="1800" spc="-1" strike="noStrike">
                <a:solidFill>
                  <a:srgbClr val="000000"/>
                </a:solidFill>
                <a:latin typeface="Tahoma"/>
              </a:endParaRPr>
            </a:p>
          </p:txBody>
        </p:sp>
        <p:sp>
          <p:nvSpPr>
            <p:cNvPr id="309" name=""/>
            <p:cNvSpPr/>
            <p:nvPr/>
          </p:nvSpPr>
          <p:spPr>
            <a:xfrm>
              <a:off x="2162520" y="5513400"/>
              <a:ext cx="194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cleo operativo</a:t>
              </a:r>
              <a:endParaRPr b="0" lang="en-US" sz="2000" spc="-1" strike="noStrike">
                <a:solidFill>
                  <a:srgbClr val="000000"/>
                </a:solidFill>
                <a:latin typeface="Tahoma"/>
              </a:endParaRPr>
            </a:p>
          </p:txBody>
        </p:sp>
      </p:grpSp>
      <p:sp>
        <p:nvSpPr>
          <p:cNvPr id="310" name=""/>
          <p:cNvSpPr/>
          <p:nvPr/>
        </p:nvSpPr>
        <p:spPr>
          <a:xfrm>
            <a:off x="5461200" y="2387520"/>
            <a:ext cx="33872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juste mutu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Supervisión direct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andarización de proces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andarización de product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andarización de destrezas y</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onocimient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1" name=""/>
          <p:cNvSpPr/>
          <p:nvPr/>
        </p:nvSpPr>
        <p:spPr>
          <a:xfrm>
            <a:off x="5442120" y="1995480"/>
            <a:ext cx="314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Mecanismos coordinadores:</a:t>
            </a:r>
            <a:endParaRPr b="0" lang="en-US" sz="2000" spc="-1" strike="noStrike">
              <a:solidFill>
                <a:srgbClr val="000000"/>
              </a:solidFill>
              <a:latin typeface="Tahoma"/>
            </a:endParaRPr>
          </a:p>
        </p:txBody>
      </p:sp>
      <p:sp>
        <p:nvSpPr>
          <p:cNvPr id="312" name=""/>
          <p:cNvSpPr/>
          <p:nvPr/>
        </p:nvSpPr>
        <p:spPr>
          <a:xfrm>
            <a:off x="5519160" y="4381560"/>
            <a:ext cx="299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Modelos organizacioneles:</a:t>
            </a:r>
            <a:endParaRPr b="0" lang="en-US" sz="2000" spc="-1" strike="noStrike">
              <a:solidFill>
                <a:srgbClr val="000000"/>
              </a:solidFill>
              <a:latin typeface="Tahoma"/>
            </a:endParaRPr>
          </a:p>
        </p:txBody>
      </p:sp>
      <p:sp>
        <p:nvSpPr>
          <p:cNvPr id="313" name=""/>
          <p:cNvSpPr/>
          <p:nvPr/>
        </p:nvSpPr>
        <p:spPr>
          <a:xfrm>
            <a:off x="5520240" y="4807080"/>
            <a:ext cx="2623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ructura simpl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rocracia mécanic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rocracia profe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orma divi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dhocraci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298"/>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99"/>
                                        </p:tgtEl>
                                        <p:attrNameLst>
                                          <p:attrName>style.visibility</p:attrName>
                                        </p:attrNameLst>
                                      </p:cBhvr>
                                      <p:to>
                                        <p:strVal val="visible"/>
                                      </p:to>
                                    </p:set>
                                    <p:anim calcmode="lin" valueType="num">
                                      <p:cBhvr additive="base">
                                        <p:cTn id="296" dur="500" fill="hold"/>
                                        <p:tgtEl>
                                          <p:spTgt spid="299"/>
                                        </p:tgtEl>
                                        <p:attrNameLst>
                                          <p:attrName>ppt_x</p:attrName>
                                        </p:attrNameLst>
                                      </p:cBhvr>
                                      <p:tavLst>
                                        <p:tav tm="0">
                                          <p:val>
                                            <p:strVal val="0-#ppt_w/2"/>
                                          </p:val>
                                        </p:tav>
                                        <p:tav tm="100000">
                                          <p:val>
                                            <p:strVal val="#ppt_x"/>
                                          </p:val>
                                        </p:tav>
                                      </p:tavLst>
                                    </p:anim>
                                    <p:anim calcmode="lin" valueType="num">
                                      <p:cBhvr additive="base">
                                        <p:cTn id="29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9" presetSubtype="10">
                                  <p:stCondLst>
                                    <p:cond delay="0"/>
                                  </p:stCondLst>
                                  <p:childTnLst>
                                    <p:set>
                                      <p:cBhvr>
                                        <p:cTn id="301" dur="1" fill="hold">
                                          <p:stCondLst>
                                            <p:cond delay="0"/>
                                          </p:stCondLst>
                                        </p:cTn>
                                        <p:tgtEl>
                                          <p:spTgt spid="300"/>
                                        </p:tgtEl>
                                        <p:attrNameLst>
                                          <p:attrName>style.visibility</p:attrName>
                                        </p:attrNameLst>
                                      </p:cBhvr>
                                      <p:to>
                                        <p:strVal val="visible"/>
                                      </p:to>
                                    </p:set>
                                    <p:anim calcmode="lin" valueType="num">
                                      <p:cBhvr additive="repl">
                                        <p:cTn id="302" dur="5000" fill="hold"/>
                                        <p:tgtEl>
                                          <p:spTgt spid="300"/>
                                        </p:tgtEl>
                                        <p:attrNameLst>
                                          <p:attrName>ppt_w</p:attrName>
                                        </p:attrNameLst>
                                      </p:cBhvr>
                                      <p:tavLst>
                                        <p:tav fmla="width*sin(2.5*pi*$)" tm="0">
                                          <p:val>
                                            <p:fltVal val="0"/>
                                          </p:val>
                                        </p:tav>
                                        <p:tav fmla="width*sin(2.5*pi*$)" tm="100000">
                                          <p:val>
                                            <p:fltVal val="1"/>
                                          </p:val>
                                        </p:tav>
                                      </p:tavLst>
                                    </p:anim>
                                    <p:anim calcmode="lin" valueType="num">
                                      <p:cBhvr additive="repl">
                                        <p:cTn id="303" dur="5000" fill="hold"/>
                                        <p:tgtEl>
                                          <p:spTgt spid="300"/>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311"/>
                                        </p:tgtEl>
                                        <p:attrNameLst>
                                          <p:attrName>style.visibility</p:attrName>
                                        </p:attrNameLst>
                                      </p:cBhvr>
                                      <p:to>
                                        <p:strVal val="visible"/>
                                      </p:to>
                                    </p:set>
                                    <p:anim calcmode="lin" valueType="num">
                                      <p:cBhvr additive="base">
                                        <p:cTn id="308" dur="500" fill="hold"/>
                                        <p:tgtEl>
                                          <p:spTgt spid="311"/>
                                        </p:tgtEl>
                                        <p:attrNameLst>
                                          <p:attrName>ppt_x</p:attrName>
                                        </p:attrNameLst>
                                      </p:cBhvr>
                                      <p:tavLst>
                                        <p:tav tm="0">
                                          <p:val>
                                            <p:strVal val="0-#ppt_w/2"/>
                                          </p:val>
                                        </p:tav>
                                        <p:tav tm="100000">
                                          <p:val>
                                            <p:strVal val="#ppt_x"/>
                                          </p:val>
                                        </p:tav>
                                      </p:tavLst>
                                    </p:anim>
                                    <p:anim calcmode="lin" valueType="num">
                                      <p:cBhvr additive="base">
                                        <p:cTn id="309"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310"/>
                                        </p:tgtEl>
                                        <p:attrNameLst>
                                          <p:attrName>style.visibility</p:attrName>
                                        </p:attrNameLst>
                                      </p:cBhvr>
                                      <p:to>
                                        <p:strVal val="visible"/>
                                      </p:to>
                                    </p:set>
                                    <p:anim calcmode="lin" valueType="num">
                                      <p:cBhvr additive="base">
                                        <p:cTn id="314" dur="500" fill="hold"/>
                                        <p:tgtEl>
                                          <p:spTgt spid="310"/>
                                        </p:tgtEl>
                                        <p:attrNameLst>
                                          <p:attrName>ppt_x</p:attrName>
                                        </p:attrNameLst>
                                      </p:cBhvr>
                                      <p:tavLst>
                                        <p:tav tm="0">
                                          <p:val>
                                            <p:strVal val="0-#ppt_w/2"/>
                                          </p:val>
                                        </p:tav>
                                        <p:tav tm="100000">
                                          <p:val>
                                            <p:strVal val="#ppt_x"/>
                                          </p:val>
                                        </p:tav>
                                      </p:tavLst>
                                    </p:anim>
                                    <p:anim calcmode="lin" valueType="num">
                                      <p:cBhvr additive="base">
                                        <p:cTn id="315"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312"/>
                                        </p:tgtEl>
                                        <p:attrNameLst>
                                          <p:attrName>style.visibility</p:attrName>
                                        </p:attrNameLst>
                                      </p:cBhvr>
                                      <p:to>
                                        <p:strVal val="visible"/>
                                      </p:to>
                                    </p:set>
                                    <p:anim calcmode="lin" valueType="num">
                                      <p:cBhvr additive="base">
                                        <p:cTn id="320" dur="500" fill="hold"/>
                                        <p:tgtEl>
                                          <p:spTgt spid="312"/>
                                        </p:tgtEl>
                                        <p:attrNameLst>
                                          <p:attrName>ppt_x</p:attrName>
                                        </p:attrNameLst>
                                      </p:cBhvr>
                                      <p:tavLst>
                                        <p:tav tm="0">
                                          <p:val>
                                            <p:strVal val="0-#ppt_w/2"/>
                                          </p:val>
                                        </p:tav>
                                        <p:tav tm="100000">
                                          <p:val>
                                            <p:strVal val="#ppt_x"/>
                                          </p:val>
                                        </p:tav>
                                      </p:tavLst>
                                    </p:anim>
                                    <p:anim calcmode="lin" valueType="num">
                                      <p:cBhvr additive="base">
                                        <p:cTn id="32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313"/>
                                        </p:tgtEl>
                                        <p:attrNameLst>
                                          <p:attrName>style.visibility</p:attrName>
                                        </p:attrNameLst>
                                      </p:cBhvr>
                                      <p:to>
                                        <p:strVal val="visible"/>
                                      </p:to>
                                    </p:set>
                                    <p:anim calcmode="lin" valueType="num">
                                      <p:cBhvr additive="base">
                                        <p:cTn id="326" dur="500" fill="hold"/>
                                        <p:tgtEl>
                                          <p:spTgt spid="313"/>
                                        </p:tgtEl>
                                        <p:attrNameLst>
                                          <p:attrName>ppt_x</p:attrName>
                                        </p:attrNameLst>
                                      </p:cBhvr>
                                      <p:tavLst>
                                        <p:tav tm="0">
                                          <p:val>
                                            <p:strVal val="0-#ppt_w/2"/>
                                          </p:val>
                                        </p:tav>
                                        <p:tav tm="100000">
                                          <p:val>
                                            <p:strVal val="#ppt_x"/>
                                          </p:val>
                                        </p:tav>
                                      </p:tavLst>
                                    </p:anim>
                                    <p:anim calcmode="lin" valueType="num">
                                      <p:cBhvr additive="base">
                                        <p:cTn id="327" dur="500" fill="hold"/>
                                        <p:tgtEl>
                                          <p:spTgt spid="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1173240" y="456840"/>
            <a:ext cx="7772400" cy="5638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00"/>
                </a:solidFill>
                <a:latin typeface="Arial"/>
              </a:rPr>
              <a:t>Modelos de Diagnostico Organizacional</a:t>
            </a:r>
            <a:r>
              <a:rPr b="0" lang="es-MX" sz="2400" spc="-1" strike="noStrike">
                <a:solidFill>
                  <a:srgbClr val="800000"/>
                </a:solidFill>
                <a:latin typeface="Arial"/>
              </a:rPr>
              <a:t> </a:t>
            </a:r>
            <a:br>
              <a:rPr sz="2400"/>
            </a:br>
            <a:br>
              <a:rPr sz="2400"/>
            </a:br>
            <a:r>
              <a:rPr b="0" lang="es-MX" sz="2400" spc="-1" strike="noStrike" u="sng">
                <a:solidFill>
                  <a:srgbClr val="009999"/>
                </a:solidFill>
                <a:uFillTx/>
                <a:latin typeface="Times New Roman"/>
                <a:hlinkClick r:id="rId1"/>
              </a:rPr>
              <a:t>Burke - </a:t>
            </a:r>
            <a:r>
              <a:rPr b="0" lang="es-MX" sz="2400" spc="-1" strike="noStrike" u="sng">
                <a:solidFill>
                  <a:srgbClr val="009999"/>
                </a:solidFill>
                <a:uFillTx/>
                <a:latin typeface="Times New Roman"/>
                <a:hlinkClick r:id="rId2"/>
              </a:rPr>
              <a:t>Litwin</a:t>
            </a:r>
            <a:r>
              <a:rPr b="0" lang="es-MX" sz="2400" spc="-1" strike="noStrike">
                <a:solidFill>
                  <a:srgbClr val="000000"/>
                </a:solidFill>
                <a:latin typeface="Times New Roman"/>
              </a:rPr>
              <a:t> </a:t>
            </a:r>
            <a:br>
              <a:rPr sz="2400"/>
            </a:br>
            <a:br>
              <a:rPr sz="2400"/>
            </a:br>
            <a:r>
              <a:rPr b="0" lang="es-MX" sz="2400" spc="-1" strike="noStrike" u="sng">
                <a:solidFill>
                  <a:srgbClr val="009999"/>
                </a:solidFill>
                <a:uFillTx/>
                <a:latin typeface="Times New Roman"/>
                <a:hlinkClick r:id="rId3"/>
              </a:rPr>
              <a:t>French</a:t>
            </a:r>
            <a:r>
              <a:rPr b="0" lang="es-MX" sz="2400" spc="-1" strike="noStrike" u="sng">
                <a:solidFill>
                  <a:srgbClr val="009999"/>
                </a:solidFill>
                <a:uFillTx/>
                <a:latin typeface="Times New Roman"/>
                <a:hlinkClick r:id="rId4"/>
              </a:rPr>
              <a:t> y Bell</a:t>
            </a:r>
            <a:r>
              <a:rPr b="0" lang="es-MX" sz="2400" spc="-1" strike="noStrike">
                <a:solidFill>
                  <a:srgbClr val="000000"/>
                </a:solidFill>
                <a:latin typeface="Times New Roman"/>
              </a:rPr>
              <a:t> </a:t>
            </a:r>
            <a:br>
              <a:rPr sz="2400"/>
            </a:br>
            <a:br>
              <a:rPr sz="2400"/>
            </a:br>
            <a:r>
              <a:rPr b="0" lang="es-MX" sz="2400" spc="-1" strike="noStrike" u="sng">
                <a:solidFill>
                  <a:srgbClr val="009999"/>
                </a:solidFill>
                <a:uFillTx/>
                <a:latin typeface="Times New Roman"/>
                <a:hlinkClick r:id="rId5"/>
              </a:rPr>
              <a:t>David P. Hanna</a:t>
            </a:r>
            <a:r>
              <a:rPr b="0" lang="es-MX" sz="2400" spc="-1" strike="noStrike">
                <a:solidFill>
                  <a:srgbClr val="000000"/>
                </a:solidFill>
                <a:latin typeface="Times New Roman"/>
              </a:rPr>
              <a:t> </a:t>
            </a:r>
            <a:br>
              <a:rPr sz="2400"/>
            </a:br>
            <a:br>
              <a:rPr sz="2400"/>
            </a:br>
            <a:r>
              <a:rPr b="0" lang="es-MX" sz="2400" spc="-1" strike="noStrike" u="sng">
                <a:solidFill>
                  <a:srgbClr val="009999"/>
                </a:solidFill>
                <a:uFillTx/>
                <a:latin typeface="Times New Roman"/>
                <a:hlinkClick r:id="rId6"/>
              </a:rPr>
              <a:t>Kurt Lewin</a:t>
            </a:r>
            <a:r>
              <a:rPr b="0" lang="es-MX" sz="2400" spc="-1" strike="noStrike">
                <a:solidFill>
                  <a:srgbClr val="000000"/>
                </a:solidFill>
                <a:latin typeface="Times New Roman"/>
              </a:rPr>
              <a:t> </a:t>
            </a:r>
            <a:br>
              <a:rPr sz="2400"/>
            </a:br>
            <a:br>
              <a:rPr sz="2400"/>
            </a:br>
            <a:r>
              <a:rPr b="0" lang="es-MX" sz="2400" spc="-1" strike="noStrike" u="sng">
                <a:solidFill>
                  <a:srgbClr val="009999"/>
                </a:solidFill>
                <a:uFillTx/>
                <a:latin typeface="Times New Roman"/>
                <a:hlinkClick r:id="rId7"/>
              </a:rPr>
              <a:t>Modelo de Alineación Organizacional</a:t>
            </a:r>
            <a:r>
              <a:rPr b="0" lang="es-MX" sz="2400" spc="-1" strike="noStrike">
                <a:solidFill>
                  <a:srgbClr val="000000"/>
                </a:solidFill>
                <a:latin typeface="Times New Roman"/>
              </a:rPr>
              <a:t> </a:t>
            </a:r>
            <a:br>
              <a:rPr sz="2400"/>
            </a:br>
            <a:br>
              <a:rPr sz="2400"/>
            </a:br>
            <a:r>
              <a:rPr b="0" lang="es-MX" sz="2400" spc="-1" strike="noStrike" u="sng">
                <a:solidFill>
                  <a:srgbClr val="009999"/>
                </a:solidFill>
                <a:uFillTx/>
                <a:latin typeface="Times New Roman"/>
                <a:hlinkClick r:id="rId8"/>
              </a:rPr>
              <a:t>Leonard </a:t>
            </a:r>
            <a:r>
              <a:rPr b="0" lang="es-MX" sz="2400" spc="-1" strike="noStrike" u="sng">
                <a:solidFill>
                  <a:srgbClr val="009999"/>
                </a:solidFill>
                <a:uFillTx/>
                <a:latin typeface="Times New Roman"/>
                <a:hlinkClick r:id="rId9"/>
              </a:rPr>
              <a:t>Schiesinger</a:t>
            </a:r>
            <a:r>
              <a:rPr b="0" lang="es-MX" sz="2400" spc="-1" strike="noStrike">
                <a:solidFill>
                  <a:srgbClr val="000000"/>
                </a:solidFill>
                <a:latin typeface="Times New Roman"/>
              </a:rPr>
              <a:t> </a:t>
            </a:r>
            <a:br>
              <a:rPr sz="2400"/>
            </a:br>
            <a:br>
              <a:rPr sz="2400"/>
            </a:br>
            <a:r>
              <a:rPr b="0" lang="es-MX" sz="2400" spc="-1" strike="noStrike" u="sng">
                <a:solidFill>
                  <a:srgbClr val="009999"/>
                </a:solidFill>
                <a:uFillTx/>
                <a:latin typeface="Times New Roman"/>
                <a:hlinkClick r:id="rId10"/>
              </a:rPr>
              <a:t>Pat Williams</a:t>
            </a:r>
            <a:r>
              <a:rPr b="0" lang="es-MX" sz="2400" spc="-1" strike="noStrike">
                <a:solidFill>
                  <a:srgbClr val="000000"/>
                </a:solidFill>
                <a:latin typeface="Times New Roman"/>
              </a:rPr>
              <a:t> </a:t>
            </a:r>
            <a:br>
              <a:rPr sz="2400"/>
            </a:br>
            <a:br>
              <a:rPr sz="2400"/>
            </a:br>
            <a:r>
              <a:rPr b="0" lang="es-MX" sz="2400" spc="-1" strike="noStrike" u="sng">
                <a:solidFill>
                  <a:srgbClr val="009999"/>
                </a:solidFill>
                <a:uFillTx/>
                <a:latin typeface="Times New Roman"/>
                <a:hlinkClick r:id="rId11"/>
              </a:rPr>
              <a:t>Porras y Robertson</a:t>
            </a:r>
            <a:r>
              <a:rPr b="0" lang="es-MX" sz="2400" spc="-1" strike="noStrike">
                <a:solidFill>
                  <a:srgbClr val="000000"/>
                </a:solidFill>
                <a:latin typeface="Times New Roman"/>
              </a:rPr>
              <a:t> </a:t>
            </a:r>
            <a:br>
              <a:rPr sz="2400"/>
            </a:br>
            <a:br>
              <a:rPr sz="2400"/>
            </a:br>
            <a:r>
              <a:rPr b="0" lang="es-MX" sz="2400" spc="-1" strike="noStrike" u="sng">
                <a:solidFill>
                  <a:srgbClr val="009999"/>
                </a:solidFill>
                <a:uFillTx/>
                <a:latin typeface="Times New Roman"/>
                <a:hlinkClick r:id="rId12"/>
              </a:rPr>
              <a:t>Weisbord</a:t>
            </a:r>
            <a:r>
              <a:rPr b="0" lang="es-MX" sz="2400" spc="-1" strike="noStrike">
                <a:solidFill>
                  <a:srgbClr val="000000"/>
                </a:solidFill>
                <a:latin typeface="Times New Roman"/>
              </a:rPr>
              <a:t> </a:t>
            </a:r>
            <a:br>
              <a:rPr sz="2400"/>
            </a:br>
            <a:r>
              <a:rPr b="0" lang="es-MX"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384200" y="523800"/>
            <a:ext cx="6540480" cy="5959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1252440" y="957240"/>
            <a:ext cx="6639120" cy="494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882720" y="885960"/>
            <a:ext cx="7281720" cy="5019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642960" y="271440"/>
            <a:ext cx="7858080" cy="631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Organización</a:t>
            </a:r>
            <a:endParaRPr b="0" lang="en-US" sz="4400" spc="-1" strike="noStrike">
              <a:solidFill>
                <a:srgbClr val="000000"/>
              </a:solidFill>
              <a:latin typeface="Arial"/>
            </a:endParaRPr>
          </a:p>
        </p:txBody>
      </p:sp>
      <p:sp>
        <p:nvSpPr>
          <p:cNvPr id="97" name="PlaceHolder 2"/>
          <p:cNvSpPr>
            <a:spLocks noGrp="1"/>
          </p:cNvSpPr>
          <p:nvPr>
            <p:ph/>
          </p:nvPr>
        </p:nvSpPr>
        <p:spPr>
          <a:xfrm>
            <a:off x="468360" y="1341360"/>
            <a:ext cx="8229600" cy="4741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n sistema social compuesto por individuos o grupos de ellos que, teniendo valores compartidos, se interrelacionan y utilizan recursos con los que desarrollan actividades tendientes al logro de objetivos comu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Es un sistema abierto, ya que intercambian información, materiales y energía con su medio ambiente o contex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181160" y="857160"/>
            <a:ext cx="6781680" cy="5143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214280" y="1033560"/>
            <a:ext cx="6715440" cy="4790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1481040" y="985680"/>
            <a:ext cx="6181920" cy="488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24000" y="692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95280" y="836640"/>
            <a:ext cx="8280360" cy="5472000"/>
          </a:xfrm>
          <a:prstGeom prst="rect">
            <a:avLst/>
          </a:prstGeom>
          <a:ln w="0">
            <a:noFill/>
          </a:ln>
        </p:spPr>
      </p:pic>
      <p:sp>
        <p:nvSpPr>
          <p:cNvPr id="324" name=""/>
          <p:cNvSpPr/>
          <p:nvPr/>
        </p:nvSpPr>
        <p:spPr>
          <a:xfrm>
            <a:off x="2610000" y="6405480"/>
            <a:ext cx="63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ttp://www.edgardorobledo.com/Modelos.htm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25892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nóstico Organizacional</a:t>
            </a:r>
            <a:endParaRPr b="0" lang="en-US" sz="4400" spc="-1" strike="noStrike">
              <a:solidFill>
                <a:srgbClr val="000000"/>
              </a:solidFill>
              <a:latin typeface="Arial"/>
            </a:endParaRPr>
          </a:p>
        </p:txBody>
      </p:sp>
      <p:sp>
        <p:nvSpPr>
          <p:cNvPr id="326" name=""/>
          <p:cNvSpPr/>
          <p:nvPr/>
        </p:nvSpPr>
        <p:spPr>
          <a:xfrm>
            <a:off x="1753560" y="1438200"/>
            <a:ext cx="577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Elementos para un diagnóstico propio</a:t>
            </a:r>
            <a:endParaRPr b="0" lang="en-US" sz="2800" spc="-1" strike="noStrike">
              <a:solidFill>
                <a:srgbClr val="000000"/>
              </a:solidFill>
              <a:latin typeface="Tahoma"/>
            </a:endParaRPr>
          </a:p>
        </p:txBody>
      </p:sp>
      <p:sp>
        <p:nvSpPr>
          <p:cNvPr id="327" name=""/>
          <p:cNvSpPr/>
          <p:nvPr/>
        </p:nvSpPr>
        <p:spPr>
          <a:xfrm>
            <a:off x="1050480" y="1927080"/>
            <a:ext cx="354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I.- Organización Ambiente</a:t>
            </a:r>
            <a:endParaRPr b="0" lang="en-US" sz="2400" spc="-1" strike="noStrike">
              <a:solidFill>
                <a:srgbClr val="000000"/>
              </a:solidFill>
              <a:latin typeface="Tahoma"/>
            </a:endParaRPr>
          </a:p>
        </p:txBody>
      </p:sp>
      <p:sp>
        <p:nvSpPr>
          <p:cNvPr id="328" name=""/>
          <p:cNvSpPr/>
          <p:nvPr/>
        </p:nvSpPr>
        <p:spPr>
          <a:xfrm>
            <a:off x="1011960" y="2384280"/>
            <a:ext cx="48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II.- Cultura y cultura organizacional</a:t>
            </a:r>
            <a:endParaRPr b="0" lang="en-US" sz="2400" spc="-1" strike="noStrike">
              <a:solidFill>
                <a:srgbClr val="000000"/>
              </a:solidFill>
              <a:latin typeface="Tahoma"/>
            </a:endParaRPr>
          </a:p>
        </p:txBody>
      </p:sp>
      <p:sp>
        <p:nvSpPr>
          <p:cNvPr id="329" name=""/>
          <p:cNvSpPr/>
          <p:nvPr/>
        </p:nvSpPr>
        <p:spPr>
          <a:xfrm>
            <a:off x="1014120" y="2841480"/>
            <a:ext cx="214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III.- Estructura</a:t>
            </a:r>
            <a:endParaRPr b="0" lang="en-US" sz="2400" spc="-1" strike="noStrike">
              <a:solidFill>
                <a:srgbClr val="000000"/>
              </a:solidFill>
              <a:latin typeface="Tahoma"/>
            </a:endParaRPr>
          </a:p>
        </p:txBody>
      </p:sp>
      <p:sp>
        <p:nvSpPr>
          <p:cNvPr id="330" name=""/>
          <p:cNvSpPr/>
          <p:nvPr/>
        </p:nvSpPr>
        <p:spPr>
          <a:xfrm>
            <a:off x="1032120" y="328464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IV.- Comunicaciones</a:t>
            </a:r>
            <a:endParaRPr b="0" lang="en-US" sz="2400" spc="-1" strike="noStrike">
              <a:solidFill>
                <a:srgbClr val="000000"/>
              </a:solidFill>
              <a:latin typeface="Tahoma"/>
            </a:endParaRPr>
          </a:p>
        </p:txBody>
      </p:sp>
      <p:sp>
        <p:nvSpPr>
          <p:cNvPr id="331" name=""/>
          <p:cNvSpPr/>
          <p:nvPr/>
        </p:nvSpPr>
        <p:spPr>
          <a:xfrm>
            <a:off x="1049760" y="3741840"/>
            <a:ext cx="419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 Poder, autoridad y liderazgo</a:t>
            </a:r>
            <a:endParaRPr b="0" lang="en-US" sz="2400" spc="-1" strike="noStrike">
              <a:solidFill>
                <a:srgbClr val="000000"/>
              </a:solidFill>
              <a:latin typeface="Tahoma"/>
            </a:endParaRPr>
          </a:p>
        </p:txBody>
      </p:sp>
      <p:sp>
        <p:nvSpPr>
          <p:cNvPr id="332" name=""/>
          <p:cNvSpPr/>
          <p:nvPr/>
        </p:nvSpPr>
        <p:spPr>
          <a:xfrm>
            <a:off x="1012680" y="417996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I.- Conflicto</a:t>
            </a:r>
            <a:endParaRPr b="0" lang="en-US" sz="2400" spc="-1" strike="noStrike">
              <a:solidFill>
                <a:srgbClr val="000000"/>
              </a:solidFill>
              <a:latin typeface="Tahoma"/>
            </a:endParaRPr>
          </a:p>
        </p:txBody>
      </p:sp>
      <p:sp>
        <p:nvSpPr>
          <p:cNvPr id="333" name=""/>
          <p:cNvSpPr/>
          <p:nvPr/>
        </p:nvSpPr>
        <p:spPr>
          <a:xfrm>
            <a:off x="1029240" y="4637160"/>
            <a:ext cx="685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II.- Descripción, evaluación de cargos y desempeño</a:t>
            </a:r>
            <a:endParaRPr b="0" lang="en-US" sz="2400" spc="-1" strike="noStrike">
              <a:solidFill>
                <a:srgbClr val="000000"/>
              </a:solidFill>
              <a:latin typeface="Tahoma"/>
            </a:endParaRPr>
          </a:p>
        </p:txBody>
      </p:sp>
      <p:sp>
        <p:nvSpPr>
          <p:cNvPr id="334" name=""/>
          <p:cNvSpPr/>
          <p:nvPr/>
        </p:nvSpPr>
        <p:spPr>
          <a:xfrm>
            <a:off x="1012680" y="4998960"/>
            <a:ext cx="24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VIII.- Motivación</a:t>
            </a:r>
            <a:endParaRPr b="0" lang="en-US" sz="2400" spc="-1" strike="noStrike">
              <a:solidFill>
                <a:srgbClr val="000000"/>
              </a:solidFill>
              <a:latin typeface="Tahoma"/>
            </a:endParaRPr>
          </a:p>
        </p:txBody>
      </p:sp>
      <p:sp>
        <p:nvSpPr>
          <p:cNvPr id="335" name=""/>
          <p:cNvSpPr/>
          <p:nvPr/>
        </p:nvSpPr>
        <p:spPr>
          <a:xfrm>
            <a:off x="1032120" y="5398920"/>
            <a:ext cx="206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IX.- Sindicatos</a:t>
            </a:r>
            <a:endParaRPr b="0" lang="en-US" sz="2400" spc="-1" strike="noStrike">
              <a:solidFill>
                <a:srgbClr val="000000"/>
              </a:solidFill>
              <a:latin typeface="Tahoma"/>
            </a:endParaRPr>
          </a:p>
        </p:txBody>
      </p:sp>
      <p:sp>
        <p:nvSpPr>
          <p:cNvPr id="336" name=""/>
          <p:cNvSpPr/>
          <p:nvPr/>
        </p:nvSpPr>
        <p:spPr>
          <a:xfrm>
            <a:off x="1031040" y="5780160"/>
            <a:ext cx="23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X.- Clima laboral</a:t>
            </a:r>
            <a:endParaRPr b="0" lang="en-US" sz="2400" spc="-1" strike="noStrike">
              <a:solidFill>
                <a:srgbClr val="000000"/>
              </a:solidFill>
              <a:latin typeface="Tahoma"/>
            </a:endParaRPr>
          </a:p>
        </p:txBody>
      </p:sp>
      <p:sp>
        <p:nvSpPr>
          <p:cNvPr id="337" name=""/>
          <p:cNvSpPr/>
          <p:nvPr/>
        </p:nvSpPr>
        <p:spPr>
          <a:xfrm>
            <a:off x="1031040" y="6161040"/>
            <a:ext cx="32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XI.- Toma de decisio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26920" y="4508640"/>
            <a:ext cx="7772400" cy="164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Arial"/>
              </a:rPr>
              <a:t>GERENTE SIN RUMBO </a:t>
            </a:r>
            <a:br>
              <a:rPr sz="4200"/>
            </a:br>
            <a:r>
              <a:rPr b="0" lang="en-US" sz="4200" spc="-1" strike="noStrike">
                <a:solidFill>
                  <a:srgbClr val="0000ff"/>
                </a:solidFill>
                <a:latin typeface="Arial"/>
              </a:rPr>
              <a:t>NO ES GERENTE</a:t>
            </a:r>
            <a:br>
              <a:rPr sz="4200"/>
            </a:br>
            <a:endParaRPr b="0" lang="en-US" sz="4200" spc="-1" strike="noStrike">
              <a:solidFill>
                <a:srgbClr val="000000"/>
              </a:solidFill>
              <a:latin typeface="Arial"/>
            </a:endParaRPr>
          </a:p>
        </p:txBody>
      </p:sp>
      <p:sp>
        <p:nvSpPr>
          <p:cNvPr id="339" name="Text Box 4"/>
          <p:cNvSpPr/>
          <p:nvPr/>
        </p:nvSpPr>
        <p:spPr>
          <a:xfrm>
            <a:off x="5580000" y="765000"/>
            <a:ext cx="2895840" cy="253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600" spc="-1" strike="noStrike">
                <a:solidFill>
                  <a:srgbClr val="000000"/>
                </a:solidFill>
                <a:latin typeface="Arial Black"/>
              </a:rPr>
              <a:t>“</a:t>
            </a:r>
            <a:r>
              <a:rPr b="0" lang="es-DO" sz="2600" spc="-1" strike="noStrike">
                <a:solidFill>
                  <a:srgbClr val="000000"/>
                </a:solidFill>
                <a:latin typeface="Arial Black"/>
              </a:rPr>
              <a:t>Si usted no sabe hacia donde va, cualquier camino puede parecer bueno” </a:t>
            </a:r>
            <a:endParaRPr b="0" lang="en-US" sz="26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000000"/>
                </a:solidFill>
                <a:latin typeface="Tahoma"/>
              </a:rPr>
              <a:t>Robbins S. 1999</a:t>
            </a:r>
            <a:endParaRPr b="0" lang="en-US" sz="2000" spc="-1" strike="noStrike">
              <a:solidFill>
                <a:srgbClr val="000000"/>
              </a:solidFill>
              <a:latin typeface="Tahoma"/>
            </a:endParaRPr>
          </a:p>
        </p:txBody>
      </p:sp>
      <p:pic>
        <p:nvPicPr>
          <p:cNvPr id="340" name="Picture 5" descr="bd07175_"/>
          <p:cNvPicPr/>
          <p:nvPr/>
        </p:nvPicPr>
        <p:blipFill>
          <a:blip r:embed="rId1"/>
          <a:stretch/>
        </p:blipFill>
        <p:spPr>
          <a:xfrm>
            <a:off x="826920" y="549360"/>
            <a:ext cx="4267440" cy="3303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920" y="263520"/>
            <a:ext cx="7345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ORGANIZACIÓN</a:t>
            </a:r>
            <a:endParaRPr b="0" lang="en-US" sz="4000" spc="-1" strike="noStrike">
              <a:solidFill>
                <a:srgbClr val="000000"/>
              </a:solidFill>
              <a:latin typeface="Arial"/>
            </a:endParaRPr>
          </a:p>
        </p:txBody>
      </p:sp>
      <p:sp>
        <p:nvSpPr>
          <p:cNvPr id="99"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Organización: </a:t>
            </a:r>
            <a:r>
              <a:rPr b="0" lang="es-ES" sz="3200" spc="-1" strike="noStrike">
                <a:solidFill>
                  <a:srgbClr val="000066"/>
                </a:solidFill>
                <a:latin typeface="Arial"/>
              </a:rPr>
              <a:t>La palabra organización viene del griego "organon", que significa: instrumen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Organización es la estructuración técnica de las relaciones que deben existir entre las funciones, niveles y actividades de los elementos materiales y humanos de un organismo social, con el fin de lograr su máxima eficiencia dentro de los planes y objetivos señal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00" name=""/>
          <p:cNvSpPr/>
          <p:nvPr/>
        </p:nvSpPr>
        <p:spPr>
          <a:xfrm>
            <a:off x="3352680" y="533520"/>
            <a:ext cx="2590920" cy="581400"/>
          </a:xfrm>
          <a:prstGeom prst="rect">
            <a:avLst/>
          </a:prstGeom>
          <a:solidFill>
            <a:srgbClr val="0099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OBJETIVOS</a:t>
            </a:r>
            <a:endParaRPr b="0" lang="en-US" sz="3200" spc="-1" strike="noStrike">
              <a:solidFill>
                <a:srgbClr val="000000"/>
              </a:solidFill>
              <a:latin typeface="Tahoma"/>
            </a:endParaRPr>
          </a:p>
        </p:txBody>
      </p:sp>
      <p:sp>
        <p:nvSpPr>
          <p:cNvPr id="101" name=""/>
          <p:cNvSpPr/>
          <p:nvPr/>
        </p:nvSpPr>
        <p:spPr>
          <a:xfrm>
            <a:off x="3809880" y="5791320"/>
            <a:ext cx="1752840" cy="3988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SONAS</a:t>
            </a:r>
            <a:endParaRPr b="0" lang="en-US" sz="2000" spc="-1" strike="noStrike">
              <a:solidFill>
                <a:srgbClr val="000000"/>
              </a:solidFill>
              <a:latin typeface="Tahoma"/>
            </a:endParaRPr>
          </a:p>
        </p:txBody>
      </p:sp>
      <p:grpSp>
        <p:nvGrpSpPr>
          <p:cNvPr id="102" name=""/>
          <p:cNvGrpSpPr/>
          <p:nvPr/>
        </p:nvGrpSpPr>
        <p:grpSpPr>
          <a:xfrm>
            <a:off x="2438280" y="4343400"/>
            <a:ext cx="4140000" cy="1364760"/>
            <a:chOff x="2438280" y="4343400"/>
            <a:chExt cx="4140000" cy="1364760"/>
          </a:xfrm>
        </p:grpSpPr>
        <p:grpSp>
          <p:nvGrpSpPr>
            <p:cNvPr id="103" name=""/>
            <p:cNvGrpSpPr/>
            <p:nvPr/>
          </p:nvGrpSpPr>
          <p:grpSpPr>
            <a:xfrm>
              <a:off x="2438280" y="4343400"/>
              <a:ext cx="633240" cy="1364760"/>
              <a:chOff x="2438280" y="4343400"/>
              <a:chExt cx="633240" cy="1364760"/>
            </a:xfrm>
          </p:grpSpPr>
          <p:sp>
            <p:nvSpPr>
              <p:cNvPr id="104" name=""/>
              <p:cNvSpPr/>
              <p:nvPr/>
            </p:nvSpPr>
            <p:spPr>
              <a:xfrm>
                <a:off x="2438280" y="4343400"/>
                <a:ext cx="63324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
              <p:cNvSpPr/>
              <p:nvPr/>
            </p:nvSpPr>
            <p:spPr>
              <a:xfrm>
                <a:off x="2438280" y="4343400"/>
                <a:ext cx="63324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6" name=""/>
            <p:cNvGrpSpPr/>
            <p:nvPr/>
          </p:nvGrpSpPr>
          <p:grpSpPr>
            <a:xfrm>
              <a:off x="3139920" y="4343400"/>
              <a:ext cx="633240" cy="1364760"/>
              <a:chOff x="3139920" y="4343400"/>
              <a:chExt cx="633240" cy="1364760"/>
            </a:xfrm>
          </p:grpSpPr>
          <p:sp>
            <p:nvSpPr>
              <p:cNvPr id="107" name=""/>
              <p:cNvSpPr/>
              <p:nvPr/>
            </p:nvSpPr>
            <p:spPr>
              <a:xfrm>
                <a:off x="3139920" y="4343400"/>
                <a:ext cx="63324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 name=""/>
              <p:cNvSpPr/>
              <p:nvPr/>
            </p:nvSpPr>
            <p:spPr>
              <a:xfrm>
                <a:off x="3139920" y="4343400"/>
                <a:ext cx="63324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9" name=""/>
            <p:cNvGrpSpPr/>
            <p:nvPr/>
          </p:nvGrpSpPr>
          <p:grpSpPr>
            <a:xfrm>
              <a:off x="3835440" y="4343400"/>
              <a:ext cx="633600" cy="1364760"/>
              <a:chOff x="3835440" y="4343400"/>
              <a:chExt cx="633600" cy="1364760"/>
            </a:xfrm>
          </p:grpSpPr>
          <p:sp>
            <p:nvSpPr>
              <p:cNvPr id="110" name=""/>
              <p:cNvSpPr/>
              <p:nvPr/>
            </p:nvSpPr>
            <p:spPr>
              <a:xfrm>
                <a:off x="3835440" y="4343400"/>
                <a:ext cx="63360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 name=""/>
              <p:cNvSpPr/>
              <p:nvPr/>
            </p:nvSpPr>
            <p:spPr>
              <a:xfrm>
                <a:off x="3835440" y="4343400"/>
                <a:ext cx="63360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2" name=""/>
            <p:cNvGrpSpPr/>
            <p:nvPr/>
          </p:nvGrpSpPr>
          <p:grpSpPr>
            <a:xfrm>
              <a:off x="4532760" y="4343400"/>
              <a:ext cx="633600" cy="1364760"/>
              <a:chOff x="4532760" y="4343400"/>
              <a:chExt cx="633600" cy="1364760"/>
            </a:xfrm>
          </p:grpSpPr>
          <p:sp>
            <p:nvSpPr>
              <p:cNvPr id="113" name=""/>
              <p:cNvSpPr/>
              <p:nvPr/>
            </p:nvSpPr>
            <p:spPr>
              <a:xfrm>
                <a:off x="4532760" y="4343400"/>
                <a:ext cx="63360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 name=""/>
              <p:cNvSpPr/>
              <p:nvPr/>
            </p:nvSpPr>
            <p:spPr>
              <a:xfrm>
                <a:off x="4532760" y="4343400"/>
                <a:ext cx="63360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5" name=""/>
            <p:cNvGrpSpPr/>
            <p:nvPr/>
          </p:nvGrpSpPr>
          <p:grpSpPr>
            <a:xfrm>
              <a:off x="5236560" y="4343400"/>
              <a:ext cx="633240" cy="1364760"/>
              <a:chOff x="5236560" y="4343400"/>
              <a:chExt cx="633240" cy="1364760"/>
            </a:xfrm>
          </p:grpSpPr>
          <p:sp>
            <p:nvSpPr>
              <p:cNvPr id="116" name=""/>
              <p:cNvSpPr/>
              <p:nvPr/>
            </p:nvSpPr>
            <p:spPr>
              <a:xfrm>
                <a:off x="5236560" y="4343400"/>
                <a:ext cx="63324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
              <p:cNvSpPr/>
              <p:nvPr/>
            </p:nvSpPr>
            <p:spPr>
              <a:xfrm>
                <a:off x="5236560" y="4343400"/>
                <a:ext cx="63324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8" name=""/>
            <p:cNvGrpSpPr/>
            <p:nvPr/>
          </p:nvGrpSpPr>
          <p:grpSpPr>
            <a:xfrm>
              <a:off x="5944680" y="4343400"/>
              <a:ext cx="633600" cy="1364760"/>
              <a:chOff x="5944680" y="4343400"/>
              <a:chExt cx="633600" cy="1364760"/>
            </a:xfrm>
          </p:grpSpPr>
          <p:sp>
            <p:nvSpPr>
              <p:cNvPr id="119" name=""/>
              <p:cNvSpPr/>
              <p:nvPr/>
            </p:nvSpPr>
            <p:spPr>
              <a:xfrm>
                <a:off x="5944680" y="4343400"/>
                <a:ext cx="63360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397"/>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 name=""/>
              <p:cNvSpPr/>
              <p:nvPr/>
            </p:nvSpPr>
            <p:spPr>
              <a:xfrm>
                <a:off x="5944680" y="4343400"/>
                <a:ext cx="633600" cy="13647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397"/>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121" name=""/>
          <p:cNvSpPr/>
          <p:nvPr/>
        </p:nvSpPr>
        <p:spPr>
          <a:xfrm rot="16200000">
            <a:off x="3314880" y="2324160"/>
            <a:ext cx="2666880" cy="914400"/>
          </a:xfrm>
          <a:custGeom>
            <a:avLst/>
            <a:gdLst>
              <a:gd name="textAreaLeft" fmla="*/ 333360 w 2666880"/>
              <a:gd name="textAreaRight" fmla="*/ 2333520 w 2666880"/>
              <a:gd name="textAreaTop" fmla="*/ 228600 h 914400"/>
              <a:gd name="textAreaBottom" fmla="*/ 685800 h 914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2" name=""/>
          <p:cNvSpPr/>
          <p:nvPr/>
        </p:nvSpPr>
        <p:spPr>
          <a:xfrm>
            <a:off x="5107320" y="3086280"/>
            <a:ext cx="1834200" cy="398880"/>
          </a:xfrm>
          <a:prstGeom prst="rect">
            <a:avLst/>
          </a:prstGeom>
          <a:solidFill>
            <a:srgbClr val="0099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ATERIALES</a:t>
            </a:r>
            <a:endParaRPr b="0" lang="en-US" sz="2000" spc="-1" strike="noStrike">
              <a:solidFill>
                <a:srgbClr val="000000"/>
              </a:solidFill>
              <a:latin typeface="Tahoma"/>
            </a:endParaRPr>
          </a:p>
        </p:txBody>
      </p:sp>
      <p:sp>
        <p:nvSpPr>
          <p:cNvPr id="123" name=""/>
          <p:cNvSpPr/>
          <p:nvPr/>
        </p:nvSpPr>
        <p:spPr>
          <a:xfrm>
            <a:off x="2286720" y="3009960"/>
            <a:ext cx="1935000" cy="398880"/>
          </a:xfrm>
          <a:prstGeom prst="rect">
            <a:avLst/>
          </a:prstGeom>
          <a:solidFill>
            <a:srgbClr val="0099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INANCIEROS</a:t>
            </a:r>
            <a:endParaRPr b="0" lang="en-US" sz="2000" spc="-1" strike="noStrike">
              <a:solidFill>
                <a:srgbClr val="000000"/>
              </a:solidFill>
              <a:latin typeface="Tahoma"/>
            </a:endParaRPr>
          </a:p>
        </p:txBody>
      </p:sp>
      <p:sp>
        <p:nvSpPr>
          <p:cNvPr id="124" name=""/>
          <p:cNvSpPr/>
          <p:nvPr/>
        </p:nvSpPr>
        <p:spPr>
          <a:xfrm>
            <a:off x="5105160" y="2133720"/>
            <a:ext cx="2245680" cy="398880"/>
          </a:xfrm>
          <a:prstGeom prst="rect">
            <a:avLst/>
          </a:prstGeom>
          <a:solidFill>
            <a:srgbClr val="0099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CNOLOGIC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repl">
                                        <p:cTn id="7" dur="500" fill="hold"/>
                                        <p:tgtEl>
                                          <p:spTgt spid="121"/>
                                        </p:tgtEl>
                                        <p:attrNameLst>
                                          <p:attrName>ppt_x</p:attrName>
                                        </p:attrNameLst>
                                      </p:cBhvr>
                                      <p:tavLst>
                                        <p:tav tm="0">
                                          <p:val>
                                            <p:strVal val="#ppt_x"/>
                                          </p:val>
                                        </p:tav>
                                        <p:tav tm="100000">
                                          <p:val>
                                            <p:strVal val="#ppt_x"/>
                                          </p:val>
                                        </p:tav>
                                      </p:tavLst>
                                    </p:anim>
                                    <p:anim calcmode="lin" valueType="num">
                                      <p:cBhvr additive="repl">
                                        <p:cTn id="8" dur="500" fill="hold"/>
                                        <p:tgtEl>
                                          <p:spTgt spid="121"/>
                                        </p:tgtEl>
                                        <p:attrNameLst>
                                          <p:attrName>ppt_y</p:attrName>
                                        </p:attrNameLst>
                                      </p:cBhvr>
                                      <p:tavLst>
                                        <p:tav tm="0">
                                          <p:val>
                                            <p:strVal val="#ppt_y+#ppt_h/2"/>
                                          </p:val>
                                        </p:tav>
                                        <p:tav tm="100000">
                                          <p:val>
                                            <p:strVal val="#ppt_y"/>
                                          </p:val>
                                        </p:tav>
                                      </p:tavLst>
                                    </p:anim>
                                    <p:anim calcmode="lin" valueType="num">
                                      <p:cBhvr additive="repl">
                                        <p:cTn id="9" dur="500" fill="hold"/>
                                        <p:tgtEl>
                                          <p:spTgt spid="121"/>
                                        </p:tgtEl>
                                        <p:attrNameLst>
                                          <p:attrName>ppt_w</p:attrName>
                                        </p:attrNameLst>
                                      </p:cBhvr>
                                      <p:tavLst>
                                        <p:tav tm="0">
                                          <p:val>
                                            <p:strVal val="#ppt_w"/>
                                          </p:val>
                                        </p:tav>
                                        <p:tav tm="100000">
                                          <p:val>
                                            <p:strVal val="#ppt_w"/>
                                          </p:val>
                                        </p:tav>
                                      </p:tavLst>
                                    </p:anim>
                                    <p:anim calcmode="lin" valueType="num">
                                      <p:cBhvr additive="repl">
                                        <p:cTn id="10"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00"/>
                                        </p:tgtEl>
                                        <p:attrNameLst>
                                          <p:attrName>style.visibility</p:attrName>
                                        </p:attrNameLst>
                                      </p:cBhvr>
                                      <p:to>
                                        <p:strVal val="visible"/>
                                      </p:to>
                                    </p:set>
                                    <p:animEffect filter="blinds(horizontal)" transition="in">
                                      <p:cBhvr additive="repl">
                                        <p:cTn id="15" dur="500"/>
                                        <p:tgtEl>
                                          <p:spTgt spid="10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2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23"/>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pSp>
        <p:nvGrpSpPr>
          <p:cNvPr id="125" name=""/>
          <p:cNvGrpSpPr/>
          <p:nvPr/>
        </p:nvGrpSpPr>
        <p:grpSpPr>
          <a:xfrm>
            <a:off x="229680" y="914400"/>
            <a:ext cx="8481960" cy="1295280"/>
            <a:chOff x="229680" y="914400"/>
            <a:chExt cx="8481960" cy="1295280"/>
          </a:xfrm>
        </p:grpSpPr>
        <p:sp>
          <p:nvSpPr>
            <p:cNvPr id="126" name=""/>
            <p:cNvSpPr/>
            <p:nvPr/>
          </p:nvSpPr>
          <p:spPr>
            <a:xfrm>
              <a:off x="229680" y="1523880"/>
              <a:ext cx="512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No hay organización sin personas</a:t>
              </a:r>
              <a:endParaRPr b="0" lang="en-US" sz="2400" spc="-1" strike="noStrike">
                <a:solidFill>
                  <a:srgbClr val="000000"/>
                </a:solidFill>
                <a:latin typeface="Tahoma"/>
              </a:endParaRPr>
            </a:p>
          </p:txBody>
        </p:sp>
        <p:grpSp>
          <p:nvGrpSpPr>
            <p:cNvPr id="127" name=""/>
            <p:cNvGrpSpPr/>
            <p:nvPr/>
          </p:nvGrpSpPr>
          <p:grpSpPr>
            <a:xfrm>
              <a:off x="5487480" y="914400"/>
              <a:ext cx="3224160" cy="1295280"/>
              <a:chOff x="5487480" y="914400"/>
              <a:chExt cx="3224160" cy="1295280"/>
            </a:xfrm>
          </p:grpSpPr>
          <p:grpSp>
            <p:nvGrpSpPr>
              <p:cNvPr id="128" name=""/>
              <p:cNvGrpSpPr/>
              <p:nvPr/>
            </p:nvGrpSpPr>
            <p:grpSpPr>
              <a:xfrm>
                <a:off x="5487480" y="914400"/>
                <a:ext cx="493200" cy="1295280"/>
                <a:chOff x="5487480" y="914400"/>
                <a:chExt cx="493200" cy="1295280"/>
              </a:xfrm>
            </p:grpSpPr>
            <p:sp>
              <p:nvSpPr>
                <p:cNvPr id="129" name=""/>
                <p:cNvSpPr/>
                <p:nvPr/>
              </p:nvSpPr>
              <p:spPr>
                <a:xfrm>
                  <a:off x="5487480" y="914400"/>
                  <a:ext cx="49320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sp>
              <p:nvSpPr>
                <p:cNvPr id="130" name=""/>
                <p:cNvSpPr/>
                <p:nvPr/>
              </p:nvSpPr>
              <p:spPr>
                <a:xfrm>
                  <a:off x="5487480" y="914400"/>
                  <a:ext cx="49320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grpSp>
          <p:grpSp>
            <p:nvGrpSpPr>
              <p:cNvPr id="131" name=""/>
              <p:cNvGrpSpPr/>
              <p:nvPr/>
            </p:nvGrpSpPr>
            <p:grpSpPr>
              <a:xfrm>
                <a:off x="6033960" y="914400"/>
                <a:ext cx="493200" cy="1295280"/>
                <a:chOff x="6033960" y="914400"/>
                <a:chExt cx="493200" cy="1295280"/>
              </a:xfrm>
            </p:grpSpPr>
            <p:sp>
              <p:nvSpPr>
                <p:cNvPr id="132" name=""/>
                <p:cNvSpPr/>
                <p:nvPr/>
              </p:nvSpPr>
              <p:spPr>
                <a:xfrm>
                  <a:off x="6033960" y="914400"/>
                  <a:ext cx="49320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sp>
              <p:nvSpPr>
                <p:cNvPr id="133" name=""/>
                <p:cNvSpPr/>
                <p:nvPr/>
              </p:nvSpPr>
              <p:spPr>
                <a:xfrm>
                  <a:off x="6033960" y="914400"/>
                  <a:ext cx="49320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grpSp>
          <p:grpSp>
            <p:nvGrpSpPr>
              <p:cNvPr id="134" name=""/>
              <p:cNvGrpSpPr/>
              <p:nvPr/>
            </p:nvGrpSpPr>
            <p:grpSpPr>
              <a:xfrm>
                <a:off x="6575760" y="914400"/>
                <a:ext cx="493560" cy="1295280"/>
                <a:chOff x="6575760" y="914400"/>
                <a:chExt cx="493560" cy="1295280"/>
              </a:xfrm>
            </p:grpSpPr>
            <p:sp>
              <p:nvSpPr>
                <p:cNvPr id="135" name=""/>
                <p:cNvSpPr/>
                <p:nvPr/>
              </p:nvSpPr>
              <p:spPr>
                <a:xfrm>
                  <a:off x="6575760" y="914400"/>
                  <a:ext cx="49356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sp>
              <p:nvSpPr>
                <p:cNvPr id="136" name=""/>
                <p:cNvSpPr/>
                <p:nvPr/>
              </p:nvSpPr>
              <p:spPr>
                <a:xfrm>
                  <a:off x="6575760" y="914400"/>
                  <a:ext cx="49356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grpSp>
          <p:grpSp>
            <p:nvGrpSpPr>
              <p:cNvPr id="137" name=""/>
              <p:cNvGrpSpPr/>
              <p:nvPr/>
            </p:nvGrpSpPr>
            <p:grpSpPr>
              <a:xfrm>
                <a:off x="7118640" y="914400"/>
                <a:ext cx="493560" cy="1295280"/>
                <a:chOff x="7118640" y="914400"/>
                <a:chExt cx="493560" cy="1295280"/>
              </a:xfrm>
            </p:grpSpPr>
            <p:sp>
              <p:nvSpPr>
                <p:cNvPr id="138" name=""/>
                <p:cNvSpPr/>
                <p:nvPr/>
              </p:nvSpPr>
              <p:spPr>
                <a:xfrm>
                  <a:off x="7118640" y="914400"/>
                  <a:ext cx="49356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sp>
              <p:nvSpPr>
                <p:cNvPr id="139" name=""/>
                <p:cNvSpPr/>
                <p:nvPr/>
              </p:nvSpPr>
              <p:spPr>
                <a:xfrm>
                  <a:off x="7118640" y="914400"/>
                  <a:ext cx="49356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grpSp>
          <p:grpSp>
            <p:nvGrpSpPr>
              <p:cNvPr id="140" name=""/>
              <p:cNvGrpSpPr/>
              <p:nvPr/>
            </p:nvGrpSpPr>
            <p:grpSpPr>
              <a:xfrm>
                <a:off x="7666920" y="914400"/>
                <a:ext cx="493200" cy="1295280"/>
                <a:chOff x="7666920" y="914400"/>
                <a:chExt cx="493200" cy="1295280"/>
              </a:xfrm>
            </p:grpSpPr>
            <p:sp>
              <p:nvSpPr>
                <p:cNvPr id="141" name=""/>
                <p:cNvSpPr/>
                <p:nvPr/>
              </p:nvSpPr>
              <p:spPr>
                <a:xfrm>
                  <a:off x="7666920" y="914400"/>
                  <a:ext cx="49320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sp>
              <p:nvSpPr>
                <p:cNvPr id="142" name=""/>
                <p:cNvSpPr/>
                <p:nvPr/>
              </p:nvSpPr>
              <p:spPr>
                <a:xfrm>
                  <a:off x="7666920" y="914400"/>
                  <a:ext cx="49320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grpSp>
          <p:grpSp>
            <p:nvGrpSpPr>
              <p:cNvPr id="143" name=""/>
              <p:cNvGrpSpPr/>
              <p:nvPr/>
            </p:nvGrpSpPr>
            <p:grpSpPr>
              <a:xfrm>
                <a:off x="8218080" y="914400"/>
                <a:ext cx="493560" cy="1295280"/>
                <a:chOff x="8218080" y="914400"/>
                <a:chExt cx="493560" cy="1295280"/>
              </a:xfrm>
            </p:grpSpPr>
            <p:sp>
              <p:nvSpPr>
                <p:cNvPr id="144" name=""/>
                <p:cNvSpPr/>
                <p:nvPr/>
              </p:nvSpPr>
              <p:spPr>
                <a:xfrm>
                  <a:off x="8218080" y="914400"/>
                  <a:ext cx="49356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397"/>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sp>
              <p:nvSpPr>
                <p:cNvPr id="145" name=""/>
                <p:cNvSpPr/>
                <p:nvPr/>
              </p:nvSpPr>
              <p:spPr>
                <a:xfrm>
                  <a:off x="8218080" y="914400"/>
                  <a:ext cx="493560" cy="129528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397"/>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wrap="none" lIns="45720" rIns="45720" tIns="22680" bIns="22680" anchor="t">
                  <a:spAutoFit/>
                </a:bodyPr>
                <a:p>
                  <a:endParaRPr b="0" lang="en-US" sz="1800" spc="-1" strike="noStrike">
                    <a:solidFill>
                      <a:srgbClr val="000000"/>
                    </a:solidFill>
                    <a:latin typeface="Tahoma"/>
                  </a:endParaRPr>
                </a:p>
              </p:txBody>
            </p:sp>
          </p:grpSp>
        </p:grpSp>
      </p:grpSp>
      <p:grpSp>
        <p:nvGrpSpPr>
          <p:cNvPr id="146" name=""/>
          <p:cNvGrpSpPr/>
          <p:nvPr/>
        </p:nvGrpSpPr>
        <p:grpSpPr>
          <a:xfrm>
            <a:off x="380880" y="3200400"/>
            <a:ext cx="8321400" cy="2757960"/>
            <a:chOff x="380880" y="3200400"/>
            <a:chExt cx="8321400" cy="2757960"/>
          </a:xfrm>
        </p:grpSpPr>
        <p:sp>
          <p:nvSpPr>
            <p:cNvPr id="147" name=""/>
            <p:cNvSpPr/>
            <p:nvPr/>
          </p:nvSpPr>
          <p:spPr>
            <a:xfrm>
              <a:off x="5257440" y="3200400"/>
              <a:ext cx="3444840" cy="14691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s organizaciones no existen simplemente para tener personas.</a:t>
              </a:r>
              <a:endParaRPr b="0" lang="en-US" sz="2400" spc="-1" strike="noStrike">
                <a:solidFill>
                  <a:srgbClr val="000000"/>
                </a:solidFill>
                <a:latin typeface="Tahoma"/>
              </a:endParaRPr>
            </a:p>
          </p:txBody>
        </p:sp>
        <p:grpSp>
          <p:nvGrpSpPr>
            <p:cNvPr id="148" name=""/>
            <p:cNvGrpSpPr/>
            <p:nvPr/>
          </p:nvGrpSpPr>
          <p:grpSpPr>
            <a:xfrm>
              <a:off x="380880" y="3276720"/>
              <a:ext cx="4572000" cy="2681640"/>
              <a:chOff x="380880" y="3276720"/>
              <a:chExt cx="4572000" cy="2681640"/>
            </a:xfrm>
          </p:grpSpPr>
          <p:grpSp>
            <p:nvGrpSpPr>
              <p:cNvPr id="149" name=""/>
              <p:cNvGrpSpPr/>
              <p:nvPr/>
            </p:nvGrpSpPr>
            <p:grpSpPr>
              <a:xfrm>
                <a:off x="380880" y="3276720"/>
                <a:ext cx="4572000" cy="2681640"/>
                <a:chOff x="380880" y="3276720"/>
                <a:chExt cx="4572000" cy="2681640"/>
              </a:xfrm>
            </p:grpSpPr>
            <p:sp>
              <p:nvSpPr>
                <p:cNvPr id="150" name=""/>
                <p:cNvSpPr/>
                <p:nvPr/>
              </p:nvSpPr>
              <p:spPr>
                <a:xfrm>
                  <a:off x="2422080" y="3301200"/>
                  <a:ext cx="1175400" cy="2110320"/>
                </a:xfrm>
                <a:custGeom>
                  <a:avLst/>
                  <a:gdLst/>
                  <a:ahLst/>
                  <a:rect l="l" t="t" r="r" b="b"/>
                  <a:pathLst>
                    <a:path w="1154" h="1187">
                      <a:moveTo>
                        <a:pt x="0" y="76"/>
                      </a:moveTo>
                      <a:lnTo>
                        <a:pt x="1154" y="0"/>
                      </a:lnTo>
                      <a:lnTo>
                        <a:pt x="1154" y="1187"/>
                      </a:lnTo>
                      <a:lnTo>
                        <a:pt x="0" y="1100"/>
                      </a:lnTo>
                      <a:lnTo>
                        <a:pt x="0" y="76"/>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51" name=""/>
                <p:cNvSpPr/>
                <p:nvPr/>
              </p:nvSpPr>
              <p:spPr>
                <a:xfrm>
                  <a:off x="3485520" y="3301200"/>
                  <a:ext cx="133200" cy="2110320"/>
                </a:xfrm>
                <a:custGeom>
                  <a:avLst/>
                  <a:gdLst/>
                  <a:ahLst/>
                  <a:rect l="l" t="t" r="r" b="b"/>
                  <a:pathLst>
                    <a:path w="131" h="1187">
                      <a:moveTo>
                        <a:pt x="0" y="0"/>
                      </a:moveTo>
                      <a:lnTo>
                        <a:pt x="128" y="11"/>
                      </a:lnTo>
                      <a:lnTo>
                        <a:pt x="131" y="1163"/>
                      </a:lnTo>
                      <a:lnTo>
                        <a:pt x="0" y="1187"/>
                      </a:lnTo>
                      <a:lnTo>
                        <a:pt x="0" y="0"/>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nvGrpSpPr>
                <p:cNvPr id="152" name=""/>
                <p:cNvGrpSpPr/>
                <p:nvPr/>
              </p:nvGrpSpPr>
              <p:grpSpPr>
                <a:xfrm>
                  <a:off x="3604320" y="3286080"/>
                  <a:ext cx="859680" cy="2125080"/>
                  <a:chOff x="3604320" y="3286080"/>
                  <a:chExt cx="859680" cy="2125080"/>
                </a:xfrm>
              </p:grpSpPr>
              <p:sp>
                <p:nvSpPr>
                  <p:cNvPr id="153" name=""/>
                  <p:cNvSpPr/>
                  <p:nvPr/>
                </p:nvSpPr>
                <p:spPr>
                  <a:xfrm>
                    <a:off x="3604320" y="3286080"/>
                    <a:ext cx="196200" cy="2123280"/>
                  </a:xfrm>
                  <a:custGeom>
                    <a:avLst/>
                    <a:gdLst/>
                    <a:ahLst/>
                    <a:rect l="l" t="t" r="r" b="b"/>
                    <a:pathLst>
                      <a:path w="193" h="1194">
                        <a:moveTo>
                          <a:pt x="0" y="19"/>
                        </a:moveTo>
                        <a:lnTo>
                          <a:pt x="193" y="0"/>
                        </a:lnTo>
                        <a:lnTo>
                          <a:pt x="193" y="1194"/>
                        </a:lnTo>
                        <a:lnTo>
                          <a:pt x="0" y="1169"/>
                        </a:lnTo>
                        <a:lnTo>
                          <a:pt x="0" y="19"/>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54" name=""/>
                  <p:cNvSpPr/>
                  <p:nvPr/>
                </p:nvSpPr>
                <p:spPr>
                  <a:xfrm>
                    <a:off x="3800520" y="3289680"/>
                    <a:ext cx="663480" cy="2121480"/>
                  </a:xfrm>
                  <a:custGeom>
                    <a:avLst/>
                    <a:gdLst/>
                    <a:ahLst/>
                    <a:rect l="l" t="t" r="r" b="b"/>
                    <a:pathLst>
                      <a:path w="652" h="1193">
                        <a:moveTo>
                          <a:pt x="1" y="0"/>
                        </a:moveTo>
                        <a:lnTo>
                          <a:pt x="652" y="82"/>
                        </a:lnTo>
                        <a:lnTo>
                          <a:pt x="652" y="1144"/>
                        </a:lnTo>
                        <a:lnTo>
                          <a:pt x="0" y="1193"/>
                        </a:lnTo>
                        <a:lnTo>
                          <a:pt x="1" y="0"/>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sp>
              <p:nvSpPr>
                <p:cNvPr id="155" name=""/>
                <p:cNvSpPr/>
                <p:nvPr/>
              </p:nvSpPr>
              <p:spPr>
                <a:xfrm>
                  <a:off x="708840" y="3527280"/>
                  <a:ext cx="654840" cy="1694160"/>
                </a:xfrm>
                <a:prstGeom prst="rect">
                  <a:avLst/>
                </a:prstGeom>
                <a:solidFill>
                  <a:srgbClr val="ffcc99">
                    <a:alpha val="50000"/>
                  </a:srgbClr>
                </a:solidFill>
                <a:ln w="12600">
                  <a:solidFill>
                    <a:srgbClr val="000000"/>
                  </a:solidFill>
                  <a:miter/>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56" name=""/>
                <p:cNvSpPr/>
                <p:nvPr/>
              </p:nvSpPr>
              <p:spPr>
                <a:xfrm>
                  <a:off x="1694520" y="3276720"/>
                  <a:ext cx="808920" cy="2144520"/>
                </a:xfrm>
                <a:custGeom>
                  <a:avLst/>
                  <a:gdLst/>
                  <a:ahLst/>
                  <a:rect l="l" t="t" r="r" b="b"/>
                  <a:pathLst>
                    <a:path w="794" h="1206">
                      <a:moveTo>
                        <a:pt x="794" y="88"/>
                      </a:moveTo>
                      <a:lnTo>
                        <a:pt x="0" y="0"/>
                      </a:lnTo>
                      <a:lnTo>
                        <a:pt x="0" y="1206"/>
                      </a:lnTo>
                      <a:lnTo>
                        <a:pt x="794" y="1104"/>
                      </a:lnTo>
                      <a:lnTo>
                        <a:pt x="794" y="88"/>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57" name=""/>
                <p:cNvSpPr/>
                <p:nvPr/>
              </p:nvSpPr>
              <p:spPr>
                <a:xfrm>
                  <a:off x="1304640" y="3283200"/>
                  <a:ext cx="432000" cy="2128320"/>
                </a:xfrm>
                <a:custGeom>
                  <a:avLst/>
                  <a:gdLst/>
                  <a:ahLst/>
                  <a:rect l="l" t="t" r="r" b="b"/>
                  <a:pathLst>
                    <a:path w="424" h="1197">
                      <a:moveTo>
                        <a:pt x="0" y="24"/>
                      </a:moveTo>
                      <a:lnTo>
                        <a:pt x="424" y="0"/>
                      </a:lnTo>
                      <a:lnTo>
                        <a:pt x="423" y="1197"/>
                      </a:lnTo>
                      <a:lnTo>
                        <a:pt x="0" y="1148"/>
                      </a:lnTo>
                      <a:lnTo>
                        <a:pt x="0" y="24"/>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nvGrpSpPr>
                <p:cNvPr id="158" name=""/>
                <p:cNvGrpSpPr/>
                <p:nvPr/>
              </p:nvGrpSpPr>
              <p:grpSpPr>
                <a:xfrm>
                  <a:off x="380880" y="4908240"/>
                  <a:ext cx="4572000" cy="1050120"/>
                  <a:chOff x="380880" y="4908240"/>
                  <a:chExt cx="4572000" cy="1050120"/>
                </a:xfrm>
              </p:grpSpPr>
              <p:sp>
                <p:nvSpPr>
                  <p:cNvPr id="159" name=""/>
                  <p:cNvSpPr/>
                  <p:nvPr/>
                </p:nvSpPr>
                <p:spPr>
                  <a:xfrm>
                    <a:off x="380880" y="5327640"/>
                    <a:ext cx="4572000" cy="630720"/>
                  </a:xfrm>
                  <a:prstGeom prst="rect">
                    <a:avLst/>
                  </a:prstGeom>
                  <a:solidFill>
                    <a:srgbClr val="c0c0ff">
                      <a:alpha val="50000"/>
                    </a:srgbClr>
                  </a:solidFill>
                  <a:ln w="12600">
                    <a:solidFill>
                      <a:srgbClr val="000000"/>
                    </a:solidFill>
                    <a:miter/>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60" name=""/>
                  <p:cNvSpPr/>
                  <p:nvPr/>
                </p:nvSpPr>
                <p:spPr>
                  <a:xfrm>
                    <a:off x="384480" y="5171400"/>
                    <a:ext cx="4556160" cy="544320"/>
                  </a:xfrm>
                  <a:custGeom>
                    <a:avLst/>
                    <a:gdLst/>
                    <a:ahLst/>
                    <a:rect l="l" t="t" r="r" b="b"/>
                    <a:pathLst>
                      <a:path w="4946" h="513">
                        <a:moveTo>
                          <a:pt x="0" y="38"/>
                        </a:moveTo>
                        <a:lnTo>
                          <a:pt x="0" y="401"/>
                        </a:lnTo>
                        <a:lnTo>
                          <a:pt x="140" y="388"/>
                        </a:lnTo>
                        <a:lnTo>
                          <a:pt x="251" y="325"/>
                        </a:lnTo>
                        <a:lnTo>
                          <a:pt x="271" y="312"/>
                        </a:lnTo>
                        <a:lnTo>
                          <a:pt x="361" y="301"/>
                        </a:lnTo>
                        <a:lnTo>
                          <a:pt x="440" y="312"/>
                        </a:lnTo>
                        <a:lnTo>
                          <a:pt x="511" y="325"/>
                        </a:lnTo>
                        <a:lnTo>
                          <a:pt x="611" y="375"/>
                        </a:lnTo>
                        <a:lnTo>
                          <a:pt x="652" y="401"/>
                        </a:lnTo>
                        <a:lnTo>
                          <a:pt x="772" y="450"/>
                        </a:lnTo>
                        <a:lnTo>
                          <a:pt x="841" y="450"/>
                        </a:lnTo>
                        <a:lnTo>
                          <a:pt x="953" y="450"/>
                        </a:lnTo>
                        <a:lnTo>
                          <a:pt x="972" y="450"/>
                        </a:lnTo>
                        <a:lnTo>
                          <a:pt x="1033" y="437"/>
                        </a:lnTo>
                        <a:lnTo>
                          <a:pt x="1060" y="423"/>
                        </a:lnTo>
                        <a:lnTo>
                          <a:pt x="1122" y="424"/>
                        </a:lnTo>
                        <a:lnTo>
                          <a:pt x="1143" y="424"/>
                        </a:lnTo>
                        <a:lnTo>
                          <a:pt x="1243" y="475"/>
                        </a:lnTo>
                        <a:lnTo>
                          <a:pt x="1283" y="488"/>
                        </a:lnTo>
                        <a:lnTo>
                          <a:pt x="1303" y="488"/>
                        </a:lnTo>
                        <a:lnTo>
                          <a:pt x="1364" y="500"/>
                        </a:lnTo>
                        <a:lnTo>
                          <a:pt x="1413" y="500"/>
                        </a:lnTo>
                        <a:lnTo>
                          <a:pt x="1434" y="500"/>
                        </a:lnTo>
                        <a:lnTo>
                          <a:pt x="1505" y="500"/>
                        </a:lnTo>
                        <a:lnTo>
                          <a:pt x="1635" y="500"/>
                        </a:lnTo>
                        <a:lnTo>
                          <a:pt x="1785" y="500"/>
                        </a:lnTo>
                        <a:lnTo>
                          <a:pt x="1895" y="513"/>
                        </a:lnTo>
                        <a:lnTo>
                          <a:pt x="2156" y="500"/>
                        </a:lnTo>
                        <a:lnTo>
                          <a:pt x="2266" y="475"/>
                        </a:lnTo>
                        <a:lnTo>
                          <a:pt x="2307" y="462"/>
                        </a:lnTo>
                        <a:lnTo>
                          <a:pt x="2417" y="424"/>
                        </a:lnTo>
                        <a:lnTo>
                          <a:pt x="2508" y="375"/>
                        </a:lnTo>
                        <a:lnTo>
                          <a:pt x="2628" y="337"/>
                        </a:lnTo>
                        <a:lnTo>
                          <a:pt x="2709" y="337"/>
                        </a:lnTo>
                        <a:lnTo>
                          <a:pt x="2809" y="363"/>
                        </a:lnTo>
                        <a:lnTo>
                          <a:pt x="2859" y="375"/>
                        </a:lnTo>
                        <a:lnTo>
                          <a:pt x="2980" y="388"/>
                        </a:lnTo>
                        <a:lnTo>
                          <a:pt x="3029" y="388"/>
                        </a:lnTo>
                        <a:lnTo>
                          <a:pt x="3080" y="401"/>
                        </a:lnTo>
                        <a:lnTo>
                          <a:pt x="3200" y="413"/>
                        </a:lnTo>
                        <a:lnTo>
                          <a:pt x="3271" y="413"/>
                        </a:lnTo>
                        <a:lnTo>
                          <a:pt x="3340" y="413"/>
                        </a:lnTo>
                        <a:lnTo>
                          <a:pt x="3401" y="413"/>
                        </a:lnTo>
                        <a:lnTo>
                          <a:pt x="3481" y="450"/>
                        </a:lnTo>
                        <a:lnTo>
                          <a:pt x="3541" y="462"/>
                        </a:lnTo>
                        <a:lnTo>
                          <a:pt x="3672" y="475"/>
                        </a:lnTo>
                        <a:lnTo>
                          <a:pt x="3752" y="475"/>
                        </a:lnTo>
                        <a:lnTo>
                          <a:pt x="3832" y="475"/>
                        </a:lnTo>
                        <a:lnTo>
                          <a:pt x="3943" y="462"/>
                        </a:lnTo>
                        <a:lnTo>
                          <a:pt x="4043" y="462"/>
                        </a:lnTo>
                        <a:lnTo>
                          <a:pt x="4113" y="462"/>
                        </a:lnTo>
                        <a:lnTo>
                          <a:pt x="4173" y="462"/>
                        </a:lnTo>
                        <a:lnTo>
                          <a:pt x="4334" y="462"/>
                        </a:lnTo>
                        <a:lnTo>
                          <a:pt x="4364" y="462"/>
                        </a:lnTo>
                        <a:lnTo>
                          <a:pt x="4464" y="450"/>
                        </a:lnTo>
                        <a:lnTo>
                          <a:pt x="4525" y="424"/>
                        </a:lnTo>
                        <a:lnTo>
                          <a:pt x="4574" y="413"/>
                        </a:lnTo>
                        <a:lnTo>
                          <a:pt x="4665" y="401"/>
                        </a:lnTo>
                        <a:lnTo>
                          <a:pt x="4714" y="388"/>
                        </a:lnTo>
                        <a:lnTo>
                          <a:pt x="4775" y="401"/>
                        </a:lnTo>
                        <a:lnTo>
                          <a:pt x="4814" y="401"/>
                        </a:lnTo>
                        <a:lnTo>
                          <a:pt x="4926" y="363"/>
                        </a:lnTo>
                        <a:lnTo>
                          <a:pt x="4946" y="350"/>
                        </a:lnTo>
                        <a:lnTo>
                          <a:pt x="4946" y="125"/>
                        </a:lnTo>
                        <a:lnTo>
                          <a:pt x="4444" y="51"/>
                        </a:lnTo>
                        <a:lnTo>
                          <a:pt x="3000" y="0"/>
                        </a:lnTo>
                        <a:lnTo>
                          <a:pt x="1985" y="76"/>
                        </a:lnTo>
                        <a:lnTo>
                          <a:pt x="1122" y="176"/>
                        </a:lnTo>
                        <a:lnTo>
                          <a:pt x="872" y="76"/>
                        </a:lnTo>
                        <a:lnTo>
                          <a:pt x="159" y="0"/>
                        </a:lnTo>
                        <a:lnTo>
                          <a:pt x="0" y="38"/>
                        </a:lnTo>
                        <a:close/>
                      </a:path>
                    </a:pathLst>
                  </a:custGeom>
                  <a:solidFill>
                    <a:srgbClr val="ffe0c0">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61" name=""/>
                  <p:cNvSpPr/>
                  <p:nvPr/>
                </p:nvSpPr>
                <p:spPr>
                  <a:xfrm>
                    <a:off x="384480" y="4908240"/>
                    <a:ext cx="4558680" cy="569880"/>
                  </a:xfrm>
                  <a:custGeom>
                    <a:avLst/>
                    <a:gdLst/>
                    <a:ahLst/>
                    <a:rect l="l" t="t" r="r" b="b"/>
                    <a:pathLst>
                      <a:path w="4949" h="537">
                        <a:moveTo>
                          <a:pt x="0" y="22"/>
                        </a:moveTo>
                        <a:lnTo>
                          <a:pt x="49" y="0"/>
                        </a:lnTo>
                        <a:lnTo>
                          <a:pt x="70" y="0"/>
                        </a:lnTo>
                        <a:lnTo>
                          <a:pt x="159" y="0"/>
                        </a:lnTo>
                        <a:lnTo>
                          <a:pt x="190" y="0"/>
                        </a:lnTo>
                        <a:lnTo>
                          <a:pt x="230" y="25"/>
                        </a:lnTo>
                        <a:lnTo>
                          <a:pt x="261" y="25"/>
                        </a:lnTo>
                        <a:lnTo>
                          <a:pt x="290" y="36"/>
                        </a:lnTo>
                        <a:lnTo>
                          <a:pt x="310" y="62"/>
                        </a:lnTo>
                        <a:lnTo>
                          <a:pt x="310" y="87"/>
                        </a:lnTo>
                        <a:lnTo>
                          <a:pt x="330" y="87"/>
                        </a:lnTo>
                        <a:lnTo>
                          <a:pt x="361" y="112"/>
                        </a:lnTo>
                        <a:lnTo>
                          <a:pt x="371" y="136"/>
                        </a:lnTo>
                        <a:lnTo>
                          <a:pt x="411" y="149"/>
                        </a:lnTo>
                        <a:lnTo>
                          <a:pt x="461" y="149"/>
                        </a:lnTo>
                        <a:lnTo>
                          <a:pt x="481" y="149"/>
                        </a:lnTo>
                        <a:lnTo>
                          <a:pt x="521" y="162"/>
                        </a:lnTo>
                        <a:lnTo>
                          <a:pt x="581" y="162"/>
                        </a:lnTo>
                        <a:lnTo>
                          <a:pt x="621" y="174"/>
                        </a:lnTo>
                        <a:lnTo>
                          <a:pt x="662" y="200"/>
                        </a:lnTo>
                        <a:lnTo>
                          <a:pt x="682" y="212"/>
                        </a:lnTo>
                        <a:lnTo>
                          <a:pt x="711" y="238"/>
                        </a:lnTo>
                        <a:lnTo>
                          <a:pt x="741" y="249"/>
                        </a:lnTo>
                        <a:lnTo>
                          <a:pt x="762" y="249"/>
                        </a:lnTo>
                        <a:lnTo>
                          <a:pt x="792" y="249"/>
                        </a:lnTo>
                        <a:lnTo>
                          <a:pt x="822" y="261"/>
                        </a:lnTo>
                        <a:lnTo>
                          <a:pt x="841" y="261"/>
                        </a:lnTo>
                        <a:lnTo>
                          <a:pt x="862" y="261"/>
                        </a:lnTo>
                        <a:lnTo>
                          <a:pt x="882" y="249"/>
                        </a:lnTo>
                        <a:lnTo>
                          <a:pt x="902" y="249"/>
                        </a:lnTo>
                        <a:lnTo>
                          <a:pt x="922" y="249"/>
                        </a:lnTo>
                        <a:lnTo>
                          <a:pt x="943" y="261"/>
                        </a:lnTo>
                        <a:lnTo>
                          <a:pt x="982" y="274"/>
                        </a:lnTo>
                        <a:lnTo>
                          <a:pt x="1022" y="287"/>
                        </a:lnTo>
                        <a:lnTo>
                          <a:pt x="1073" y="287"/>
                        </a:lnTo>
                        <a:lnTo>
                          <a:pt x="1122" y="299"/>
                        </a:lnTo>
                        <a:lnTo>
                          <a:pt x="1142" y="312"/>
                        </a:lnTo>
                        <a:lnTo>
                          <a:pt x="1163" y="312"/>
                        </a:lnTo>
                        <a:lnTo>
                          <a:pt x="1223" y="337"/>
                        </a:lnTo>
                        <a:lnTo>
                          <a:pt x="1242" y="337"/>
                        </a:lnTo>
                        <a:lnTo>
                          <a:pt x="1263" y="348"/>
                        </a:lnTo>
                        <a:lnTo>
                          <a:pt x="1303" y="325"/>
                        </a:lnTo>
                        <a:lnTo>
                          <a:pt x="1344" y="325"/>
                        </a:lnTo>
                        <a:lnTo>
                          <a:pt x="1383" y="299"/>
                        </a:lnTo>
                        <a:lnTo>
                          <a:pt x="1423" y="299"/>
                        </a:lnTo>
                        <a:lnTo>
                          <a:pt x="1454" y="299"/>
                        </a:lnTo>
                        <a:lnTo>
                          <a:pt x="1504" y="274"/>
                        </a:lnTo>
                        <a:lnTo>
                          <a:pt x="1523" y="274"/>
                        </a:lnTo>
                        <a:lnTo>
                          <a:pt x="1543" y="274"/>
                        </a:lnTo>
                        <a:lnTo>
                          <a:pt x="1564" y="274"/>
                        </a:lnTo>
                        <a:lnTo>
                          <a:pt x="1594" y="249"/>
                        </a:lnTo>
                        <a:lnTo>
                          <a:pt x="1614" y="238"/>
                        </a:lnTo>
                        <a:lnTo>
                          <a:pt x="1635" y="212"/>
                        </a:lnTo>
                        <a:lnTo>
                          <a:pt x="1654" y="174"/>
                        </a:lnTo>
                        <a:lnTo>
                          <a:pt x="1724" y="162"/>
                        </a:lnTo>
                        <a:lnTo>
                          <a:pt x="1765" y="162"/>
                        </a:lnTo>
                        <a:lnTo>
                          <a:pt x="1785" y="174"/>
                        </a:lnTo>
                        <a:lnTo>
                          <a:pt x="1834" y="174"/>
                        </a:lnTo>
                        <a:lnTo>
                          <a:pt x="1885" y="174"/>
                        </a:lnTo>
                        <a:lnTo>
                          <a:pt x="1905" y="162"/>
                        </a:lnTo>
                        <a:lnTo>
                          <a:pt x="1965" y="149"/>
                        </a:lnTo>
                        <a:lnTo>
                          <a:pt x="1985" y="149"/>
                        </a:lnTo>
                        <a:lnTo>
                          <a:pt x="2026" y="149"/>
                        </a:lnTo>
                        <a:lnTo>
                          <a:pt x="2046" y="162"/>
                        </a:lnTo>
                        <a:lnTo>
                          <a:pt x="2065" y="187"/>
                        </a:lnTo>
                        <a:lnTo>
                          <a:pt x="2085" y="187"/>
                        </a:lnTo>
                        <a:lnTo>
                          <a:pt x="2105" y="187"/>
                        </a:lnTo>
                        <a:lnTo>
                          <a:pt x="2136" y="187"/>
                        </a:lnTo>
                        <a:lnTo>
                          <a:pt x="2176" y="187"/>
                        </a:lnTo>
                        <a:lnTo>
                          <a:pt x="2196" y="174"/>
                        </a:lnTo>
                        <a:lnTo>
                          <a:pt x="2236" y="174"/>
                        </a:lnTo>
                        <a:lnTo>
                          <a:pt x="2286" y="174"/>
                        </a:lnTo>
                        <a:lnTo>
                          <a:pt x="2306" y="162"/>
                        </a:lnTo>
                        <a:lnTo>
                          <a:pt x="2327" y="149"/>
                        </a:lnTo>
                        <a:lnTo>
                          <a:pt x="2386" y="136"/>
                        </a:lnTo>
                        <a:lnTo>
                          <a:pt x="2477" y="125"/>
                        </a:lnTo>
                        <a:lnTo>
                          <a:pt x="2528" y="136"/>
                        </a:lnTo>
                        <a:lnTo>
                          <a:pt x="2548" y="149"/>
                        </a:lnTo>
                        <a:lnTo>
                          <a:pt x="2568" y="149"/>
                        </a:lnTo>
                        <a:lnTo>
                          <a:pt x="2588" y="149"/>
                        </a:lnTo>
                        <a:lnTo>
                          <a:pt x="2608" y="149"/>
                        </a:lnTo>
                        <a:lnTo>
                          <a:pt x="2627" y="162"/>
                        </a:lnTo>
                        <a:lnTo>
                          <a:pt x="2648" y="174"/>
                        </a:lnTo>
                        <a:lnTo>
                          <a:pt x="2688" y="174"/>
                        </a:lnTo>
                        <a:lnTo>
                          <a:pt x="2708" y="187"/>
                        </a:lnTo>
                        <a:lnTo>
                          <a:pt x="2739" y="187"/>
                        </a:lnTo>
                        <a:lnTo>
                          <a:pt x="2758" y="187"/>
                        </a:lnTo>
                        <a:lnTo>
                          <a:pt x="2788" y="187"/>
                        </a:lnTo>
                        <a:lnTo>
                          <a:pt x="2808" y="187"/>
                        </a:lnTo>
                        <a:lnTo>
                          <a:pt x="2829" y="187"/>
                        </a:lnTo>
                        <a:lnTo>
                          <a:pt x="2859" y="187"/>
                        </a:lnTo>
                        <a:lnTo>
                          <a:pt x="2889" y="187"/>
                        </a:lnTo>
                        <a:lnTo>
                          <a:pt x="2918" y="187"/>
                        </a:lnTo>
                        <a:lnTo>
                          <a:pt x="2949" y="187"/>
                        </a:lnTo>
                        <a:lnTo>
                          <a:pt x="2969" y="187"/>
                        </a:lnTo>
                        <a:lnTo>
                          <a:pt x="2999" y="200"/>
                        </a:lnTo>
                        <a:lnTo>
                          <a:pt x="3029" y="200"/>
                        </a:lnTo>
                        <a:lnTo>
                          <a:pt x="3059" y="200"/>
                        </a:lnTo>
                        <a:lnTo>
                          <a:pt x="3079" y="200"/>
                        </a:lnTo>
                        <a:lnTo>
                          <a:pt x="3099" y="200"/>
                        </a:lnTo>
                        <a:lnTo>
                          <a:pt x="3120" y="200"/>
                        </a:lnTo>
                        <a:lnTo>
                          <a:pt x="3140" y="200"/>
                        </a:lnTo>
                        <a:lnTo>
                          <a:pt x="3160" y="187"/>
                        </a:lnTo>
                        <a:lnTo>
                          <a:pt x="3179" y="174"/>
                        </a:lnTo>
                        <a:lnTo>
                          <a:pt x="3199" y="174"/>
                        </a:lnTo>
                        <a:lnTo>
                          <a:pt x="3220" y="174"/>
                        </a:lnTo>
                        <a:lnTo>
                          <a:pt x="3240" y="174"/>
                        </a:lnTo>
                        <a:lnTo>
                          <a:pt x="3280" y="174"/>
                        </a:lnTo>
                        <a:lnTo>
                          <a:pt x="3301" y="187"/>
                        </a:lnTo>
                        <a:lnTo>
                          <a:pt x="3360" y="212"/>
                        </a:lnTo>
                        <a:lnTo>
                          <a:pt x="3390" y="212"/>
                        </a:lnTo>
                        <a:lnTo>
                          <a:pt x="3431" y="225"/>
                        </a:lnTo>
                        <a:lnTo>
                          <a:pt x="3450" y="225"/>
                        </a:lnTo>
                        <a:lnTo>
                          <a:pt x="3521" y="212"/>
                        </a:lnTo>
                        <a:lnTo>
                          <a:pt x="3541" y="200"/>
                        </a:lnTo>
                        <a:lnTo>
                          <a:pt x="3580" y="187"/>
                        </a:lnTo>
                        <a:lnTo>
                          <a:pt x="3651" y="187"/>
                        </a:lnTo>
                        <a:lnTo>
                          <a:pt x="3681" y="187"/>
                        </a:lnTo>
                        <a:lnTo>
                          <a:pt x="3721" y="200"/>
                        </a:lnTo>
                        <a:lnTo>
                          <a:pt x="3741" y="200"/>
                        </a:lnTo>
                        <a:lnTo>
                          <a:pt x="3761" y="212"/>
                        </a:lnTo>
                        <a:lnTo>
                          <a:pt x="3812" y="225"/>
                        </a:lnTo>
                        <a:lnTo>
                          <a:pt x="3851" y="225"/>
                        </a:lnTo>
                        <a:lnTo>
                          <a:pt x="3891" y="238"/>
                        </a:lnTo>
                        <a:lnTo>
                          <a:pt x="3912" y="238"/>
                        </a:lnTo>
                        <a:lnTo>
                          <a:pt x="3972" y="238"/>
                        </a:lnTo>
                        <a:lnTo>
                          <a:pt x="4042" y="238"/>
                        </a:lnTo>
                        <a:lnTo>
                          <a:pt x="4062" y="238"/>
                        </a:lnTo>
                        <a:lnTo>
                          <a:pt x="4142" y="212"/>
                        </a:lnTo>
                        <a:lnTo>
                          <a:pt x="4262" y="174"/>
                        </a:lnTo>
                        <a:lnTo>
                          <a:pt x="4282" y="162"/>
                        </a:lnTo>
                        <a:lnTo>
                          <a:pt x="4343" y="162"/>
                        </a:lnTo>
                        <a:lnTo>
                          <a:pt x="4363" y="174"/>
                        </a:lnTo>
                        <a:lnTo>
                          <a:pt x="4383" y="187"/>
                        </a:lnTo>
                        <a:lnTo>
                          <a:pt x="4402" y="187"/>
                        </a:lnTo>
                        <a:lnTo>
                          <a:pt x="4423" y="200"/>
                        </a:lnTo>
                        <a:lnTo>
                          <a:pt x="4453" y="212"/>
                        </a:lnTo>
                        <a:lnTo>
                          <a:pt x="4494" y="238"/>
                        </a:lnTo>
                        <a:lnTo>
                          <a:pt x="4534" y="238"/>
                        </a:lnTo>
                        <a:lnTo>
                          <a:pt x="4593" y="249"/>
                        </a:lnTo>
                        <a:lnTo>
                          <a:pt x="4614" y="261"/>
                        </a:lnTo>
                        <a:lnTo>
                          <a:pt x="4664" y="261"/>
                        </a:lnTo>
                        <a:lnTo>
                          <a:pt x="4683" y="274"/>
                        </a:lnTo>
                        <a:lnTo>
                          <a:pt x="4734" y="287"/>
                        </a:lnTo>
                        <a:lnTo>
                          <a:pt x="4785" y="287"/>
                        </a:lnTo>
                        <a:lnTo>
                          <a:pt x="4844" y="312"/>
                        </a:lnTo>
                        <a:lnTo>
                          <a:pt x="4884" y="325"/>
                        </a:lnTo>
                        <a:lnTo>
                          <a:pt x="4905" y="325"/>
                        </a:lnTo>
                        <a:lnTo>
                          <a:pt x="4949" y="328"/>
                        </a:lnTo>
                        <a:lnTo>
                          <a:pt x="4949" y="434"/>
                        </a:lnTo>
                        <a:lnTo>
                          <a:pt x="4734" y="425"/>
                        </a:lnTo>
                        <a:lnTo>
                          <a:pt x="4683" y="425"/>
                        </a:lnTo>
                        <a:lnTo>
                          <a:pt x="4604" y="361"/>
                        </a:lnTo>
                        <a:lnTo>
                          <a:pt x="4583" y="361"/>
                        </a:lnTo>
                        <a:lnTo>
                          <a:pt x="4494" y="374"/>
                        </a:lnTo>
                        <a:lnTo>
                          <a:pt x="4453" y="399"/>
                        </a:lnTo>
                        <a:lnTo>
                          <a:pt x="4433" y="399"/>
                        </a:lnTo>
                        <a:lnTo>
                          <a:pt x="4373" y="425"/>
                        </a:lnTo>
                        <a:lnTo>
                          <a:pt x="4353" y="437"/>
                        </a:lnTo>
                        <a:lnTo>
                          <a:pt x="4313" y="450"/>
                        </a:lnTo>
                        <a:lnTo>
                          <a:pt x="4272" y="450"/>
                        </a:lnTo>
                        <a:lnTo>
                          <a:pt x="4182" y="450"/>
                        </a:lnTo>
                        <a:lnTo>
                          <a:pt x="4123" y="461"/>
                        </a:lnTo>
                        <a:lnTo>
                          <a:pt x="4082" y="461"/>
                        </a:lnTo>
                        <a:lnTo>
                          <a:pt x="4062" y="450"/>
                        </a:lnTo>
                        <a:lnTo>
                          <a:pt x="3982" y="450"/>
                        </a:lnTo>
                        <a:lnTo>
                          <a:pt x="3962" y="450"/>
                        </a:lnTo>
                        <a:lnTo>
                          <a:pt x="3922" y="450"/>
                        </a:lnTo>
                        <a:lnTo>
                          <a:pt x="3881" y="461"/>
                        </a:lnTo>
                        <a:lnTo>
                          <a:pt x="3842" y="461"/>
                        </a:lnTo>
                        <a:lnTo>
                          <a:pt x="3822" y="450"/>
                        </a:lnTo>
                        <a:lnTo>
                          <a:pt x="3761" y="437"/>
                        </a:lnTo>
                        <a:lnTo>
                          <a:pt x="3702" y="437"/>
                        </a:lnTo>
                        <a:lnTo>
                          <a:pt x="3641" y="437"/>
                        </a:lnTo>
                        <a:lnTo>
                          <a:pt x="3621" y="450"/>
                        </a:lnTo>
                        <a:lnTo>
                          <a:pt x="3561" y="450"/>
                        </a:lnTo>
                        <a:lnTo>
                          <a:pt x="3531" y="450"/>
                        </a:lnTo>
                        <a:lnTo>
                          <a:pt x="3480" y="437"/>
                        </a:lnTo>
                        <a:lnTo>
                          <a:pt x="3460" y="437"/>
                        </a:lnTo>
                        <a:lnTo>
                          <a:pt x="3350" y="474"/>
                        </a:lnTo>
                        <a:lnTo>
                          <a:pt x="3290" y="474"/>
                        </a:lnTo>
                        <a:lnTo>
                          <a:pt x="3230" y="425"/>
                        </a:lnTo>
                        <a:lnTo>
                          <a:pt x="3209" y="425"/>
                        </a:lnTo>
                        <a:lnTo>
                          <a:pt x="3169" y="412"/>
                        </a:lnTo>
                        <a:lnTo>
                          <a:pt x="3130" y="399"/>
                        </a:lnTo>
                        <a:lnTo>
                          <a:pt x="3069" y="387"/>
                        </a:lnTo>
                        <a:lnTo>
                          <a:pt x="3020" y="374"/>
                        </a:lnTo>
                        <a:lnTo>
                          <a:pt x="2979" y="374"/>
                        </a:lnTo>
                        <a:lnTo>
                          <a:pt x="2898" y="348"/>
                        </a:lnTo>
                        <a:lnTo>
                          <a:pt x="2869" y="348"/>
                        </a:lnTo>
                        <a:lnTo>
                          <a:pt x="2849" y="337"/>
                        </a:lnTo>
                        <a:lnTo>
                          <a:pt x="2829" y="337"/>
                        </a:lnTo>
                        <a:lnTo>
                          <a:pt x="2808" y="337"/>
                        </a:lnTo>
                        <a:lnTo>
                          <a:pt x="2778" y="337"/>
                        </a:lnTo>
                        <a:lnTo>
                          <a:pt x="2758" y="337"/>
                        </a:lnTo>
                        <a:lnTo>
                          <a:pt x="2739" y="348"/>
                        </a:lnTo>
                        <a:lnTo>
                          <a:pt x="2719" y="374"/>
                        </a:lnTo>
                        <a:lnTo>
                          <a:pt x="2698" y="387"/>
                        </a:lnTo>
                        <a:lnTo>
                          <a:pt x="2668" y="399"/>
                        </a:lnTo>
                        <a:lnTo>
                          <a:pt x="2648" y="412"/>
                        </a:lnTo>
                        <a:lnTo>
                          <a:pt x="2627" y="425"/>
                        </a:lnTo>
                        <a:lnTo>
                          <a:pt x="2608" y="437"/>
                        </a:lnTo>
                        <a:lnTo>
                          <a:pt x="2588" y="437"/>
                        </a:lnTo>
                        <a:lnTo>
                          <a:pt x="2568" y="437"/>
                        </a:lnTo>
                        <a:lnTo>
                          <a:pt x="2548" y="450"/>
                        </a:lnTo>
                        <a:lnTo>
                          <a:pt x="2528" y="450"/>
                        </a:lnTo>
                        <a:lnTo>
                          <a:pt x="2507" y="450"/>
                        </a:lnTo>
                        <a:lnTo>
                          <a:pt x="2487" y="450"/>
                        </a:lnTo>
                        <a:lnTo>
                          <a:pt x="2467" y="437"/>
                        </a:lnTo>
                        <a:lnTo>
                          <a:pt x="2427" y="437"/>
                        </a:lnTo>
                        <a:lnTo>
                          <a:pt x="2406" y="437"/>
                        </a:lnTo>
                        <a:lnTo>
                          <a:pt x="2366" y="437"/>
                        </a:lnTo>
                        <a:lnTo>
                          <a:pt x="2346" y="437"/>
                        </a:lnTo>
                        <a:lnTo>
                          <a:pt x="2327" y="412"/>
                        </a:lnTo>
                        <a:lnTo>
                          <a:pt x="2306" y="399"/>
                        </a:lnTo>
                        <a:lnTo>
                          <a:pt x="2286" y="387"/>
                        </a:lnTo>
                        <a:lnTo>
                          <a:pt x="2236" y="387"/>
                        </a:lnTo>
                        <a:lnTo>
                          <a:pt x="2196" y="387"/>
                        </a:lnTo>
                        <a:lnTo>
                          <a:pt x="2156" y="387"/>
                        </a:lnTo>
                        <a:lnTo>
                          <a:pt x="2105" y="399"/>
                        </a:lnTo>
                        <a:lnTo>
                          <a:pt x="2075" y="399"/>
                        </a:lnTo>
                        <a:lnTo>
                          <a:pt x="2036" y="437"/>
                        </a:lnTo>
                        <a:lnTo>
                          <a:pt x="2015" y="450"/>
                        </a:lnTo>
                        <a:lnTo>
                          <a:pt x="1995" y="474"/>
                        </a:lnTo>
                        <a:lnTo>
                          <a:pt x="1985" y="499"/>
                        </a:lnTo>
                        <a:lnTo>
                          <a:pt x="1965" y="499"/>
                        </a:lnTo>
                        <a:lnTo>
                          <a:pt x="1945" y="524"/>
                        </a:lnTo>
                        <a:lnTo>
                          <a:pt x="1926" y="524"/>
                        </a:lnTo>
                        <a:lnTo>
                          <a:pt x="1905" y="524"/>
                        </a:lnTo>
                        <a:lnTo>
                          <a:pt x="1845" y="537"/>
                        </a:lnTo>
                        <a:lnTo>
                          <a:pt x="1824" y="537"/>
                        </a:lnTo>
                        <a:lnTo>
                          <a:pt x="1735" y="537"/>
                        </a:lnTo>
                        <a:lnTo>
                          <a:pt x="1684" y="537"/>
                        </a:lnTo>
                        <a:lnTo>
                          <a:pt x="1645" y="524"/>
                        </a:lnTo>
                        <a:lnTo>
                          <a:pt x="1614" y="524"/>
                        </a:lnTo>
                        <a:lnTo>
                          <a:pt x="1584" y="512"/>
                        </a:lnTo>
                        <a:lnTo>
                          <a:pt x="1564" y="512"/>
                        </a:lnTo>
                        <a:lnTo>
                          <a:pt x="1543" y="499"/>
                        </a:lnTo>
                        <a:lnTo>
                          <a:pt x="1523" y="499"/>
                        </a:lnTo>
                        <a:lnTo>
                          <a:pt x="1454" y="499"/>
                        </a:lnTo>
                        <a:lnTo>
                          <a:pt x="1403" y="499"/>
                        </a:lnTo>
                        <a:lnTo>
                          <a:pt x="1283" y="499"/>
                        </a:lnTo>
                        <a:lnTo>
                          <a:pt x="1203" y="486"/>
                        </a:lnTo>
                        <a:lnTo>
                          <a:pt x="1163" y="474"/>
                        </a:lnTo>
                        <a:lnTo>
                          <a:pt x="1132" y="474"/>
                        </a:lnTo>
                        <a:lnTo>
                          <a:pt x="1093" y="474"/>
                        </a:lnTo>
                        <a:lnTo>
                          <a:pt x="1053" y="437"/>
                        </a:lnTo>
                        <a:lnTo>
                          <a:pt x="1032" y="425"/>
                        </a:lnTo>
                        <a:lnTo>
                          <a:pt x="1012" y="412"/>
                        </a:lnTo>
                        <a:lnTo>
                          <a:pt x="992" y="387"/>
                        </a:lnTo>
                        <a:lnTo>
                          <a:pt x="972" y="387"/>
                        </a:lnTo>
                        <a:lnTo>
                          <a:pt x="953" y="374"/>
                        </a:lnTo>
                        <a:lnTo>
                          <a:pt x="922" y="374"/>
                        </a:lnTo>
                        <a:lnTo>
                          <a:pt x="892" y="374"/>
                        </a:lnTo>
                        <a:lnTo>
                          <a:pt x="862" y="374"/>
                        </a:lnTo>
                        <a:lnTo>
                          <a:pt x="841" y="374"/>
                        </a:lnTo>
                        <a:lnTo>
                          <a:pt x="812" y="387"/>
                        </a:lnTo>
                        <a:lnTo>
                          <a:pt x="782" y="399"/>
                        </a:lnTo>
                        <a:lnTo>
                          <a:pt x="741" y="399"/>
                        </a:lnTo>
                        <a:lnTo>
                          <a:pt x="701" y="412"/>
                        </a:lnTo>
                        <a:lnTo>
                          <a:pt x="672" y="425"/>
                        </a:lnTo>
                        <a:lnTo>
                          <a:pt x="631" y="425"/>
                        </a:lnTo>
                        <a:lnTo>
                          <a:pt x="560" y="425"/>
                        </a:lnTo>
                        <a:lnTo>
                          <a:pt x="491" y="425"/>
                        </a:lnTo>
                        <a:lnTo>
                          <a:pt x="461" y="412"/>
                        </a:lnTo>
                        <a:lnTo>
                          <a:pt x="440" y="412"/>
                        </a:lnTo>
                        <a:lnTo>
                          <a:pt x="391" y="399"/>
                        </a:lnTo>
                        <a:lnTo>
                          <a:pt x="371" y="399"/>
                        </a:lnTo>
                        <a:lnTo>
                          <a:pt x="350" y="412"/>
                        </a:lnTo>
                        <a:lnTo>
                          <a:pt x="281" y="461"/>
                        </a:lnTo>
                        <a:lnTo>
                          <a:pt x="261" y="474"/>
                        </a:lnTo>
                        <a:lnTo>
                          <a:pt x="210" y="474"/>
                        </a:lnTo>
                        <a:lnTo>
                          <a:pt x="190" y="474"/>
                        </a:lnTo>
                        <a:lnTo>
                          <a:pt x="170" y="486"/>
                        </a:lnTo>
                        <a:lnTo>
                          <a:pt x="130" y="461"/>
                        </a:lnTo>
                        <a:lnTo>
                          <a:pt x="90" y="450"/>
                        </a:lnTo>
                        <a:lnTo>
                          <a:pt x="70" y="437"/>
                        </a:lnTo>
                        <a:lnTo>
                          <a:pt x="39" y="412"/>
                        </a:lnTo>
                        <a:lnTo>
                          <a:pt x="19" y="399"/>
                        </a:lnTo>
                        <a:lnTo>
                          <a:pt x="0" y="374"/>
                        </a:lnTo>
                        <a:lnTo>
                          <a:pt x="0" y="22"/>
                        </a:lnTo>
                        <a:close/>
                      </a:path>
                    </a:pathLst>
                  </a:custGeom>
                  <a:solidFill>
                    <a:srgbClr val="00a000">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sp>
            <p:nvSpPr>
              <p:cNvPr id="162" name=""/>
              <p:cNvSpPr/>
              <p:nvPr/>
            </p:nvSpPr>
            <p:spPr>
              <a:xfrm>
                <a:off x="2057040" y="5425200"/>
                <a:ext cx="1143000" cy="158400"/>
              </a:xfrm>
              <a:prstGeom prst="rect">
                <a:avLst/>
              </a:prstGeom>
              <a:solidFill>
                <a:srgbClr val="009999"/>
              </a:solidFill>
              <a:ln w="0">
                <a:noFill/>
              </a:ln>
            </p:spPr>
            <p:style>
              <a:lnRef idx="0"/>
              <a:fillRef idx="0"/>
              <a:effectRef idx="0"/>
              <a:fontRef idx="minor"/>
            </p:style>
            <p:txBody>
              <a:bodyPr lIns="5760" rIns="5760" tIns="2880" bIns="28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ERSONAS</a:t>
                </a:r>
                <a:endParaRPr b="0" lang="en-US" sz="1000" spc="-1" strike="noStrike">
                  <a:solidFill>
                    <a:srgbClr val="000000"/>
                  </a:solidFill>
                  <a:latin typeface="Tahoma"/>
                </a:endParaRPr>
              </a:p>
            </p:txBody>
          </p:sp>
          <p:grpSp>
            <p:nvGrpSpPr>
              <p:cNvPr id="163" name=""/>
              <p:cNvGrpSpPr/>
              <p:nvPr/>
            </p:nvGrpSpPr>
            <p:grpSpPr>
              <a:xfrm>
                <a:off x="1599840" y="4746960"/>
                <a:ext cx="2070000" cy="657360"/>
                <a:chOff x="1599840" y="4746960"/>
                <a:chExt cx="2070000" cy="657360"/>
              </a:xfrm>
            </p:grpSpPr>
            <p:grpSp>
              <p:nvGrpSpPr>
                <p:cNvPr id="164" name=""/>
                <p:cNvGrpSpPr/>
                <p:nvPr/>
              </p:nvGrpSpPr>
              <p:grpSpPr>
                <a:xfrm>
                  <a:off x="1599840" y="4746960"/>
                  <a:ext cx="316800" cy="657360"/>
                  <a:chOff x="1599840" y="4746960"/>
                  <a:chExt cx="316800" cy="657360"/>
                </a:xfrm>
              </p:grpSpPr>
              <p:sp>
                <p:nvSpPr>
                  <p:cNvPr id="165" name=""/>
                  <p:cNvSpPr/>
                  <p:nvPr/>
                </p:nvSpPr>
                <p:spPr>
                  <a:xfrm>
                    <a:off x="159984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66" name=""/>
                  <p:cNvSpPr/>
                  <p:nvPr/>
                </p:nvSpPr>
                <p:spPr>
                  <a:xfrm>
                    <a:off x="159984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167" name=""/>
                <p:cNvGrpSpPr/>
                <p:nvPr/>
              </p:nvGrpSpPr>
              <p:grpSpPr>
                <a:xfrm>
                  <a:off x="1950840" y="4746960"/>
                  <a:ext cx="316800" cy="657360"/>
                  <a:chOff x="1950840" y="4746960"/>
                  <a:chExt cx="316800" cy="657360"/>
                </a:xfrm>
              </p:grpSpPr>
              <p:sp>
                <p:nvSpPr>
                  <p:cNvPr id="168" name=""/>
                  <p:cNvSpPr/>
                  <p:nvPr/>
                </p:nvSpPr>
                <p:spPr>
                  <a:xfrm>
                    <a:off x="195084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69" name=""/>
                  <p:cNvSpPr/>
                  <p:nvPr/>
                </p:nvSpPr>
                <p:spPr>
                  <a:xfrm>
                    <a:off x="195084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170" name=""/>
                <p:cNvGrpSpPr/>
                <p:nvPr/>
              </p:nvGrpSpPr>
              <p:grpSpPr>
                <a:xfrm>
                  <a:off x="2298600" y="4746960"/>
                  <a:ext cx="316800" cy="657360"/>
                  <a:chOff x="2298600" y="4746960"/>
                  <a:chExt cx="316800" cy="657360"/>
                </a:xfrm>
              </p:grpSpPr>
              <p:sp>
                <p:nvSpPr>
                  <p:cNvPr id="171" name=""/>
                  <p:cNvSpPr/>
                  <p:nvPr/>
                </p:nvSpPr>
                <p:spPr>
                  <a:xfrm>
                    <a:off x="229860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72" name=""/>
                  <p:cNvSpPr/>
                  <p:nvPr/>
                </p:nvSpPr>
                <p:spPr>
                  <a:xfrm>
                    <a:off x="229860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173" name=""/>
                <p:cNvGrpSpPr/>
                <p:nvPr/>
              </p:nvGrpSpPr>
              <p:grpSpPr>
                <a:xfrm>
                  <a:off x="2647080" y="4746960"/>
                  <a:ext cx="316800" cy="657360"/>
                  <a:chOff x="2647080" y="4746960"/>
                  <a:chExt cx="316800" cy="657360"/>
                </a:xfrm>
              </p:grpSpPr>
              <p:sp>
                <p:nvSpPr>
                  <p:cNvPr id="174" name=""/>
                  <p:cNvSpPr/>
                  <p:nvPr/>
                </p:nvSpPr>
                <p:spPr>
                  <a:xfrm>
                    <a:off x="264708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75" name=""/>
                  <p:cNvSpPr/>
                  <p:nvPr/>
                </p:nvSpPr>
                <p:spPr>
                  <a:xfrm>
                    <a:off x="264708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176" name=""/>
                <p:cNvGrpSpPr/>
                <p:nvPr/>
              </p:nvGrpSpPr>
              <p:grpSpPr>
                <a:xfrm>
                  <a:off x="2999160" y="4746960"/>
                  <a:ext cx="316800" cy="657360"/>
                  <a:chOff x="2999160" y="4746960"/>
                  <a:chExt cx="316800" cy="657360"/>
                </a:xfrm>
              </p:grpSpPr>
              <p:sp>
                <p:nvSpPr>
                  <p:cNvPr id="177" name=""/>
                  <p:cNvSpPr/>
                  <p:nvPr/>
                </p:nvSpPr>
                <p:spPr>
                  <a:xfrm>
                    <a:off x="299916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78" name=""/>
                  <p:cNvSpPr/>
                  <p:nvPr/>
                </p:nvSpPr>
                <p:spPr>
                  <a:xfrm>
                    <a:off x="299916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179" name=""/>
                <p:cNvGrpSpPr/>
                <p:nvPr/>
              </p:nvGrpSpPr>
              <p:grpSpPr>
                <a:xfrm>
                  <a:off x="3353040" y="4746960"/>
                  <a:ext cx="316800" cy="657360"/>
                  <a:chOff x="3353040" y="4746960"/>
                  <a:chExt cx="316800" cy="657360"/>
                </a:xfrm>
              </p:grpSpPr>
              <p:sp>
                <p:nvSpPr>
                  <p:cNvPr id="180" name=""/>
                  <p:cNvSpPr/>
                  <p:nvPr/>
                </p:nvSpPr>
                <p:spPr>
                  <a:xfrm>
                    <a:off x="335304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397"/>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81" name=""/>
                  <p:cNvSpPr/>
                  <p:nvPr/>
                </p:nvSpPr>
                <p:spPr>
                  <a:xfrm>
                    <a:off x="3353040" y="4746960"/>
                    <a:ext cx="316800" cy="6573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397"/>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sp>
            <p:nvSpPr>
              <p:cNvPr id="182" name=""/>
              <p:cNvSpPr/>
              <p:nvPr/>
            </p:nvSpPr>
            <p:spPr>
              <a:xfrm>
                <a:off x="2933640" y="4262760"/>
                <a:ext cx="1009440" cy="158400"/>
              </a:xfrm>
              <a:prstGeom prst="rect">
                <a:avLst/>
              </a:prstGeom>
              <a:solidFill>
                <a:srgbClr val="009999">
                  <a:alpha val="50000"/>
                </a:srgbClr>
              </a:solidFill>
              <a:ln w="0">
                <a:noFill/>
              </a:ln>
            </p:spPr>
            <p:style>
              <a:lnRef idx="0"/>
              <a:fillRef idx="0"/>
              <a:effectRef idx="0"/>
              <a:fontRef idx="minor"/>
            </p:style>
            <p:txBody>
              <a:bodyPr lIns="5760" rIns="5760" tIns="2880" bIns="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TERIALES</a:t>
                </a:r>
                <a:endParaRPr b="0" lang="en-US" sz="1000" spc="-1" strike="noStrike">
                  <a:solidFill>
                    <a:srgbClr val="000000"/>
                  </a:solidFill>
                  <a:latin typeface="Tahoma"/>
                </a:endParaRPr>
              </a:p>
            </p:txBody>
          </p:sp>
          <p:sp>
            <p:nvSpPr>
              <p:cNvPr id="183" name=""/>
              <p:cNvSpPr/>
              <p:nvPr/>
            </p:nvSpPr>
            <p:spPr>
              <a:xfrm>
                <a:off x="1523880" y="4226400"/>
                <a:ext cx="1058760" cy="158400"/>
              </a:xfrm>
              <a:prstGeom prst="rect">
                <a:avLst/>
              </a:prstGeom>
              <a:solidFill>
                <a:srgbClr val="009999">
                  <a:alpha val="50000"/>
                </a:srgbClr>
              </a:solidFill>
              <a:ln w="0">
                <a:noFill/>
              </a:ln>
            </p:spPr>
            <p:style>
              <a:lnRef idx="0"/>
              <a:fillRef idx="0"/>
              <a:effectRef idx="0"/>
              <a:fontRef idx="minor"/>
            </p:style>
            <p:txBody>
              <a:bodyPr lIns="5760" rIns="5760" tIns="2880" bIns="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FINANCIEROS</a:t>
                </a:r>
                <a:endParaRPr b="0" lang="en-US" sz="1000" spc="-1" strike="noStrike">
                  <a:solidFill>
                    <a:srgbClr val="000000"/>
                  </a:solidFill>
                  <a:latin typeface="Tahoma"/>
                </a:endParaRPr>
              </a:p>
            </p:txBody>
          </p:sp>
          <p:sp>
            <p:nvSpPr>
              <p:cNvPr id="184" name=""/>
              <p:cNvSpPr/>
              <p:nvPr/>
            </p:nvSpPr>
            <p:spPr>
              <a:xfrm>
                <a:off x="2933640" y="3805200"/>
                <a:ext cx="1212840" cy="158400"/>
              </a:xfrm>
              <a:prstGeom prst="rect">
                <a:avLst/>
              </a:prstGeom>
              <a:solidFill>
                <a:srgbClr val="009999">
                  <a:alpha val="50000"/>
                </a:srgbClr>
              </a:solidFill>
              <a:ln w="0">
                <a:noFill/>
              </a:ln>
            </p:spPr>
            <p:style>
              <a:lnRef idx="0"/>
              <a:fillRef idx="0"/>
              <a:effectRef idx="0"/>
              <a:fontRef idx="minor"/>
            </p:style>
            <p:txBody>
              <a:bodyPr lIns="5760" rIns="5760" tIns="2880" bIns="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ECNOLOGICOS</a:t>
                </a:r>
                <a:endParaRPr b="0" lang="en-US" sz="1000" spc="-1" strike="noStrike">
                  <a:solidFill>
                    <a:srgbClr val="000000"/>
                  </a:solidFill>
                  <a:latin typeface="Tahoma"/>
                </a:endParaRPr>
              </a:p>
            </p:txBody>
          </p:sp>
        </p:grpSp>
      </p:grpSp>
      <p:sp>
        <p:nvSpPr>
          <p:cNvPr id="185" name=""/>
          <p:cNvSpPr/>
          <p:nvPr/>
        </p:nvSpPr>
        <p:spPr>
          <a:xfrm>
            <a:off x="1053360" y="2254320"/>
            <a:ext cx="33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sin embarg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25"/>
                                        </p:tgtEl>
                                        <p:attrNameLst>
                                          <p:attrName>style.visibility</p:attrName>
                                        </p:attrNameLst>
                                      </p:cBhvr>
                                      <p:to>
                                        <p:strVal val="visible"/>
                                      </p:to>
                                    </p:set>
                                    <p:anim calcmode="lin" valueType="num">
                                      <p:cBhvr additive="base">
                                        <p:cTn id="34" dur="500" fill="hold"/>
                                        <p:tgtEl>
                                          <p:spTgt spid="125"/>
                                        </p:tgtEl>
                                        <p:attrNameLst>
                                          <p:attrName>ppt_x</p:attrName>
                                        </p:attrNameLst>
                                      </p:cBhvr>
                                      <p:tavLst>
                                        <p:tav tm="0">
                                          <p:val>
                                            <p:strVal val="0-#ppt_w/2"/>
                                          </p:val>
                                        </p:tav>
                                        <p:tav tm="100000">
                                          <p:val>
                                            <p:strVal val="#ppt_x"/>
                                          </p:val>
                                        </p:tav>
                                      </p:tavLst>
                                    </p:anim>
                                    <p:anim calcmode="lin" valueType="num">
                                      <p:cBhvr additive="base">
                                        <p:cTn id="3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gtEl>
                                        <p:attrNameLst>
                                          <p:attrName>style.visibility</p:attrName>
                                        </p:attrNameLst>
                                      </p:cBhvr>
                                      <p:to>
                                        <p:strVal val="visible"/>
                                      </p:to>
                                    </p:set>
                                    <p:anim calcmode="lin" valueType="num">
                                      <p:cBhvr additive="base">
                                        <p:cTn id="40" dur="500" fill="hold"/>
                                        <p:tgtEl>
                                          <p:spTgt spid="146"/>
                                        </p:tgtEl>
                                        <p:attrNameLst>
                                          <p:attrName>ppt_x</p:attrName>
                                        </p:attrNameLst>
                                      </p:cBhvr>
                                      <p:tavLst>
                                        <p:tav tm="0">
                                          <p:val>
                                            <p:strVal val="#ppt_x"/>
                                          </p:val>
                                        </p:tav>
                                        <p:tav tm="100000">
                                          <p:val>
                                            <p:strVal val="#ppt_x"/>
                                          </p:val>
                                        </p:tav>
                                      </p:tavLst>
                                    </p:anim>
                                    <p:anim calcmode="lin" valueType="num">
                                      <p:cBhvr additive="base">
                                        <p:cTn id="4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86" name=""/>
          <p:cNvSpPr/>
          <p:nvPr/>
        </p:nvSpPr>
        <p:spPr>
          <a:xfrm>
            <a:off x="380880" y="1752480"/>
            <a:ext cx="3581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 organización debe alcanzar sus objetivos, valiéndose para ello del desempeño de las personas.</a:t>
            </a:r>
            <a:endParaRPr b="0" lang="en-US" sz="2400" spc="-1" strike="noStrike">
              <a:solidFill>
                <a:srgbClr val="000000"/>
              </a:solidFill>
              <a:latin typeface="Tahoma"/>
            </a:endParaRPr>
          </a:p>
        </p:txBody>
      </p:sp>
      <p:sp>
        <p:nvSpPr>
          <p:cNvPr id="187" name=""/>
          <p:cNvSpPr/>
          <p:nvPr/>
        </p:nvSpPr>
        <p:spPr>
          <a:xfrm>
            <a:off x="1600200" y="495288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Todas los demás recursos, necesitan de las personas para ser procesados.</a:t>
            </a:r>
            <a:endParaRPr b="0" lang="en-US" sz="2400" spc="-1" strike="noStrike">
              <a:solidFill>
                <a:srgbClr val="000000"/>
              </a:solidFill>
              <a:latin typeface="Tahoma"/>
            </a:endParaRPr>
          </a:p>
        </p:txBody>
      </p:sp>
      <p:grpSp>
        <p:nvGrpSpPr>
          <p:cNvPr id="188" name=""/>
          <p:cNvGrpSpPr/>
          <p:nvPr/>
        </p:nvGrpSpPr>
        <p:grpSpPr>
          <a:xfrm>
            <a:off x="4038480" y="838080"/>
            <a:ext cx="4800600" cy="3428640"/>
            <a:chOff x="4038480" y="838080"/>
            <a:chExt cx="4800600" cy="3428640"/>
          </a:xfrm>
        </p:grpSpPr>
        <p:grpSp>
          <p:nvGrpSpPr>
            <p:cNvPr id="189" name=""/>
            <p:cNvGrpSpPr/>
            <p:nvPr/>
          </p:nvGrpSpPr>
          <p:grpSpPr>
            <a:xfrm>
              <a:off x="4038480" y="1266840"/>
              <a:ext cx="4800600" cy="2999880"/>
              <a:chOff x="4038480" y="1266840"/>
              <a:chExt cx="4800600" cy="2999880"/>
            </a:xfrm>
          </p:grpSpPr>
          <p:sp>
            <p:nvSpPr>
              <p:cNvPr id="190" name=""/>
              <p:cNvSpPr/>
              <p:nvPr/>
            </p:nvSpPr>
            <p:spPr>
              <a:xfrm>
                <a:off x="6181920" y="1294200"/>
                <a:ext cx="1234080" cy="2360880"/>
              </a:xfrm>
              <a:custGeom>
                <a:avLst/>
                <a:gdLst/>
                <a:ahLst/>
                <a:rect l="l" t="t" r="r" b="b"/>
                <a:pathLst>
                  <a:path w="1154" h="1187">
                    <a:moveTo>
                      <a:pt x="0" y="76"/>
                    </a:moveTo>
                    <a:lnTo>
                      <a:pt x="1154" y="0"/>
                    </a:lnTo>
                    <a:lnTo>
                      <a:pt x="1154" y="1187"/>
                    </a:lnTo>
                    <a:lnTo>
                      <a:pt x="0" y="1100"/>
                    </a:lnTo>
                    <a:lnTo>
                      <a:pt x="0" y="76"/>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91" name=""/>
              <p:cNvSpPr/>
              <p:nvPr/>
            </p:nvSpPr>
            <p:spPr>
              <a:xfrm>
                <a:off x="7298280" y="1294200"/>
                <a:ext cx="140040" cy="2360880"/>
              </a:xfrm>
              <a:custGeom>
                <a:avLst/>
                <a:gdLst/>
                <a:ahLst/>
                <a:rect l="l" t="t" r="r" b="b"/>
                <a:pathLst>
                  <a:path w="131" h="1187">
                    <a:moveTo>
                      <a:pt x="0" y="0"/>
                    </a:moveTo>
                    <a:lnTo>
                      <a:pt x="128" y="11"/>
                    </a:lnTo>
                    <a:lnTo>
                      <a:pt x="131" y="1163"/>
                    </a:lnTo>
                    <a:lnTo>
                      <a:pt x="0" y="1187"/>
                    </a:lnTo>
                    <a:lnTo>
                      <a:pt x="0" y="0"/>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nvGrpSpPr>
              <p:cNvPr id="192" name=""/>
              <p:cNvGrpSpPr/>
              <p:nvPr/>
            </p:nvGrpSpPr>
            <p:grpSpPr>
              <a:xfrm>
                <a:off x="7423200" y="1277280"/>
                <a:ext cx="903240" cy="2377080"/>
                <a:chOff x="7423200" y="1277280"/>
                <a:chExt cx="903240" cy="2377080"/>
              </a:xfrm>
            </p:grpSpPr>
            <p:sp>
              <p:nvSpPr>
                <p:cNvPr id="193" name=""/>
                <p:cNvSpPr/>
                <p:nvPr/>
              </p:nvSpPr>
              <p:spPr>
                <a:xfrm>
                  <a:off x="7423200" y="1277280"/>
                  <a:ext cx="206280" cy="2374920"/>
                </a:xfrm>
                <a:custGeom>
                  <a:avLst/>
                  <a:gdLst/>
                  <a:ahLst/>
                  <a:rect l="l" t="t" r="r" b="b"/>
                  <a:pathLst>
                    <a:path w="193" h="1194">
                      <a:moveTo>
                        <a:pt x="0" y="19"/>
                      </a:moveTo>
                      <a:lnTo>
                        <a:pt x="193" y="0"/>
                      </a:lnTo>
                      <a:lnTo>
                        <a:pt x="193" y="1194"/>
                      </a:lnTo>
                      <a:lnTo>
                        <a:pt x="0" y="1169"/>
                      </a:lnTo>
                      <a:lnTo>
                        <a:pt x="0" y="19"/>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94" name=""/>
                <p:cNvSpPr/>
                <p:nvPr/>
              </p:nvSpPr>
              <p:spPr>
                <a:xfrm>
                  <a:off x="7629480" y="1281240"/>
                  <a:ext cx="696960" cy="2373120"/>
                </a:xfrm>
                <a:custGeom>
                  <a:avLst/>
                  <a:gdLst/>
                  <a:ahLst/>
                  <a:rect l="l" t="t" r="r" b="b"/>
                  <a:pathLst>
                    <a:path w="652" h="1193">
                      <a:moveTo>
                        <a:pt x="1" y="0"/>
                      </a:moveTo>
                      <a:lnTo>
                        <a:pt x="652" y="82"/>
                      </a:lnTo>
                      <a:lnTo>
                        <a:pt x="652" y="1144"/>
                      </a:lnTo>
                      <a:lnTo>
                        <a:pt x="0" y="1193"/>
                      </a:lnTo>
                      <a:lnTo>
                        <a:pt x="1" y="0"/>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sp>
            <p:nvSpPr>
              <p:cNvPr id="195" name=""/>
              <p:cNvSpPr/>
              <p:nvPr/>
            </p:nvSpPr>
            <p:spPr>
              <a:xfrm>
                <a:off x="4382640" y="1547280"/>
                <a:ext cx="687600" cy="1895040"/>
              </a:xfrm>
              <a:prstGeom prst="rect">
                <a:avLst/>
              </a:prstGeom>
              <a:solidFill>
                <a:srgbClr val="ffcc99">
                  <a:alpha val="50000"/>
                </a:srgbClr>
              </a:solidFill>
              <a:ln w="12600">
                <a:solidFill>
                  <a:srgbClr val="000000"/>
                </a:solidFill>
                <a:miter/>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96" name=""/>
              <p:cNvSpPr/>
              <p:nvPr/>
            </p:nvSpPr>
            <p:spPr>
              <a:xfrm>
                <a:off x="5417640" y="1266840"/>
                <a:ext cx="849240" cy="2399040"/>
              </a:xfrm>
              <a:custGeom>
                <a:avLst/>
                <a:gdLst/>
                <a:ahLst/>
                <a:rect l="l" t="t" r="r" b="b"/>
                <a:pathLst>
                  <a:path w="794" h="1206">
                    <a:moveTo>
                      <a:pt x="794" y="88"/>
                    </a:moveTo>
                    <a:lnTo>
                      <a:pt x="0" y="0"/>
                    </a:lnTo>
                    <a:lnTo>
                      <a:pt x="0" y="1206"/>
                    </a:lnTo>
                    <a:lnTo>
                      <a:pt x="794" y="1104"/>
                    </a:lnTo>
                    <a:lnTo>
                      <a:pt x="794" y="88"/>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197" name=""/>
              <p:cNvSpPr/>
              <p:nvPr/>
            </p:nvSpPr>
            <p:spPr>
              <a:xfrm>
                <a:off x="5008680" y="1274040"/>
                <a:ext cx="453600" cy="2381040"/>
              </a:xfrm>
              <a:custGeom>
                <a:avLst/>
                <a:gdLst/>
                <a:ahLst/>
                <a:rect l="l" t="t" r="r" b="b"/>
                <a:pathLst>
                  <a:path w="424" h="1197">
                    <a:moveTo>
                      <a:pt x="0" y="24"/>
                    </a:moveTo>
                    <a:lnTo>
                      <a:pt x="424" y="0"/>
                    </a:lnTo>
                    <a:lnTo>
                      <a:pt x="423" y="1197"/>
                    </a:lnTo>
                    <a:lnTo>
                      <a:pt x="0" y="1148"/>
                    </a:lnTo>
                    <a:lnTo>
                      <a:pt x="0" y="24"/>
                    </a:lnTo>
                    <a:close/>
                  </a:path>
                </a:pathLst>
              </a:custGeom>
              <a:solidFill>
                <a:srgbClr val="ffcc99">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nvGrpSpPr>
              <p:cNvPr id="198" name=""/>
              <p:cNvGrpSpPr/>
              <p:nvPr/>
            </p:nvGrpSpPr>
            <p:grpSpPr>
              <a:xfrm>
                <a:off x="4038480" y="3092040"/>
                <a:ext cx="4800600" cy="1174680"/>
                <a:chOff x="4038480" y="3092040"/>
                <a:chExt cx="4800600" cy="1174680"/>
              </a:xfrm>
            </p:grpSpPr>
            <p:sp>
              <p:nvSpPr>
                <p:cNvPr id="199" name=""/>
                <p:cNvSpPr/>
                <p:nvPr/>
              </p:nvSpPr>
              <p:spPr>
                <a:xfrm>
                  <a:off x="4038480" y="3561120"/>
                  <a:ext cx="4800600" cy="705600"/>
                </a:xfrm>
                <a:prstGeom prst="rect">
                  <a:avLst/>
                </a:prstGeom>
                <a:solidFill>
                  <a:srgbClr val="c0c0ff">
                    <a:alpha val="50000"/>
                  </a:srgbClr>
                </a:solidFill>
                <a:ln w="12600">
                  <a:solidFill>
                    <a:srgbClr val="000000"/>
                  </a:solidFill>
                  <a:miter/>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200" name=""/>
                <p:cNvSpPr/>
                <p:nvPr/>
              </p:nvSpPr>
              <p:spPr>
                <a:xfrm>
                  <a:off x="4042080" y="3386520"/>
                  <a:ext cx="4784040" cy="609120"/>
                </a:xfrm>
                <a:custGeom>
                  <a:avLst/>
                  <a:gdLst/>
                  <a:ahLst/>
                  <a:rect l="l" t="t" r="r" b="b"/>
                  <a:pathLst>
                    <a:path w="4946" h="513">
                      <a:moveTo>
                        <a:pt x="0" y="38"/>
                      </a:moveTo>
                      <a:lnTo>
                        <a:pt x="0" y="401"/>
                      </a:lnTo>
                      <a:lnTo>
                        <a:pt x="140" y="388"/>
                      </a:lnTo>
                      <a:lnTo>
                        <a:pt x="251" y="325"/>
                      </a:lnTo>
                      <a:lnTo>
                        <a:pt x="271" y="312"/>
                      </a:lnTo>
                      <a:lnTo>
                        <a:pt x="361" y="301"/>
                      </a:lnTo>
                      <a:lnTo>
                        <a:pt x="440" y="312"/>
                      </a:lnTo>
                      <a:lnTo>
                        <a:pt x="511" y="325"/>
                      </a:lnTo>
                      <a:lnTo>
                        <a:pt x="611" y="375"/>
                      </a:lnTo>
                      <a:lnTo>
                        <a:pt x="652" y="401"/>
                      </a:lnTo>
                      <a:lnTo>
                        <a:pt x="772" y="450"/>
                      </a:lnTo>
                      <a:lnTo>
                        <a:pt x="841" y="450"/>
                      </a:lnTo>
                      <a:lnTo>
                        <a:pt x="953" y="450"/>
                      </a:lnTo>
                      <a:lnTo>
                        <a:pt x="972" y="450"/>
                      </a:lnTo>
                      <a:lnTo>
                        <a:pt x="1033" y="437"/>
                      </a:lnTo>
                      <a:lnTo>
                        <a:pt x="1060" y="423"/>
                      </a:lnTo>
                      <a:lnTo>
                        <a:pt x="1122" y="424"/>
                      </a:lnTo>
                      <a:lnTo>
                        <a:pt x="1143" y="424"/>
                      </a:lnTo>
                      <a:lnTo>
                        <a:pt x="1243" y="475"/>
                      </a:lnTo>
                      <a:lnTo>
                        <a:pt x="1283" y="488"/>
                      </a:lnTo>
                      <a:lnTo>
                        <a:pt x="1303" y="488"/>
                      </a:lnTo>
                      <a:lnTo>
                        <a:pt x="1364" y="500"/>
                      </a:lnTo>
                      <a:lnTo>
                        <a:pt x="1413" y="500"/>
                      </a:lnTo>
                      <a:lnTo>
                        <a:pt x="1434" y="500"/>
                      </a:lnTo>
                      <a:lnTo>
                        <a:pt x="1505" y="500"/>
                      </a:lnTo>
                      <a:lnTo>
                        <a:pt x="1635" y="500"/>
                      </a:lnTo>
                      <a:lnTo>
                        <a:pt x="1785" y="500"/>
                      </a:lnTo>
                      <a:lnTo>
                        <a:pt x="1895" y="513"/>
                      </a:lnTo>
                      <a:lnTo>
                        <a:pt x="2156" y="500"/>
                      </a:lnTo>
                      <a:lnTo>
                        <a:pt x="2266" y="475"/>
                      </a:lnTo>
                      <a:lnTo>
                        <a:pt x="2307" y="462"/>
                      </a:lnTo>
                      <a:lnTo>
                        <a:pt x="2417" y="424"/>
                      </a:lnTo>
                      <a:lnTo>
                        <a:pt x="2508" y="375"/>
                      </a:lnTo>
                      <a:lnTo>
                        <a:pt x="2628" y="337"/>
                      </a:lnTo>
                      <a:lnTo>
                        <a:pt x="2709" y="337"/>
                      </a:lnTo>
                      <a:lnTo>
                        <a:pt x="2809" y="363"/>
                      </a:lnTo>
                      <a:lnTo>
                        <a:pt x="2859" y="375"/>
                      </a:lnTo>
                      <a:lnTo>
                        <a:pt x="2980" y="388"/>
                      </a:lnTo>
                      <a:lnTo>
                        <a:pt x="3029" y="388"/>
                      </a:lnTo>
                      <a:lnTo>
                        <a:pt x="3080" y="401"/>
                      </a:lnTo>
                      <a:lnTo>
                        <a:pt x="3200" y="413"/>
                      </a:lnTo>
                      <a:lnTo>
                        <a:pt x="3271" y="413"/>
                      </a:lnTo>
                      <a:lnTo>
                        <a:pt x="3340" y="413"/>
                      </a:lnTo>
                      <a:lnTo>
                        <a:pt x="3401" y="413"/>
                      </a:lnTo>
                      <a:lnTo>
                        <a:pt x="3481" y="450"/>
                      </a:lnTo>
                      <a:lnTo>
                        <a:pt x="3541" y="462"/>
                      </a:lnTo>
                      <a:lnTo>
                        <a:pt x="3672" y="475"/>
                      </a:lnTo>
                      <a:lnTo>
                        <a:pt x="3752" y="475"/>
                      </a:lnTo>
                      <a:lnTo>
                        <a:pt x="3832" y="475"/>
                      </a:lnTo>
                      <a:lnTo>
                        <a:pt x="3943" y="462"/>
                      </a:lnTo>
                      <a:lnTo>
                        <a:pt x="4043" y="462"/>
                      </a:lnTo>
                      <a:lnTo>
                        <a:pt x="4113" y="462"/>
                      </a:lnTo>
                      <a:lnTo>
                        <a:pt x="4173" y="462"/>
                      </a:lnTo>
                      <a:lnTo>
                        <a:pt x="4334" y="462"/>
                      </a:lnTo>
                      <a:lnTo>
                        <a:pt x="4364" y="462"/>
                      </a:lnTo>
                      <a:lnTo>
                        <a:pt x="4464" y="450"/>
                      </a:lnTo>
                      <a:lnTo>
                        <a:pt x="4525" y="424"/>
                      </a:lnTo>
                      <a:lnTo>
                        <a:pt x="4574" y="413"/>
                      </a:lnTo>
                      <a:lnTo>
                        <a:pt x="4665" y="401"/>
                      </a:lnTo>
                      <a:lnTo>
                        <a:pt x="4714" y="388"/>
                      </a:lnTo>
                      <a:lnTo>
                        <a:pt x="4775" y="401"/>
                      </a:lnTo>
                      <a:lnTo>
                        <a:pt x="4814" y="401"/>
                      </a:lnTo>
                      <a:lnTo>
                        <a:pt x="4926" y="363"/>
                      </a:lnTo>
                      <a:lnTo>
                        <a:pt x="4946" y="350"/>
                      </a:lnTo>
                      <a:lnTo>
                        <a:pt x="4946" y="125"/>
                      </a:lnTo>
                      <a:lnTo>
                        <a:pt x="4444" y="51"/>
                      </a:lnTo>
                      <a:lnTo>
                        <a:pt x="3000" y="0"/>
                      </a:lnTo>
                      <a:lnTo>
                        <a:pt x="1985" y="76"/>
                      </a:lnTo>
                      <a:lnTo>
                        <a:pt x="1122" y="176"/>
                      </a:lnTo>
                      <a:lnTo>
                        <a:pt x="872" y="76"/>
                      </a:lnTo>
                      <a:lnTo>
                        <a:pt x="159" y="0"/>
                      </a:lnTo>
                      <a:lnTo>
                        <a:pt x="0" y="38"/>
                      </a:lnTo>
                      <a:close/>
                    </a:path>
                  </a:pathLst>
                </a:custGeom>
                <a:solidFill>
                  <a:srgbClr val="ffe0c0">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201" name=""/>
                <p:cNvSpPr/>
                <p:nvPr/>
              </p:nvSpPr>
              <p:spPr>
                <a:xfrm>
                  <a:off x="4042080" y="3092040"/>
                  <a:ext cx="4786920" cy="637920"/>
                </a:xfrm>
                <a:custGeom>
                  <a:avLst/>
                  <a:gdLst/>
                  <a:ahLst/>
                  <a:rect l="l" t="t" r="r" b="b"/>
                  <a:pathLst>
                    <a:path w="4949" h="537">
                      <a:moveTo>
                        <a:pt x="0" y="22"/>
                      </a:moveTo>
                      <a:lnTo>
                        <a:pt x="49" y="0"/>
                      </a:lnTo>
                      <a:lnTo>
                        <a:pt x="70" y="0"/>
                      </a:lnTo>
                      <a:lnTo>
                        <a:pt x="159" y="0"/>
                      </a:lnTo>
                      <a:lnTo>
                        <a:pt x="190" y="0"/>
                      </a:lnTo>
                      <a:lnTo>
                        <a:pt x="230" y="25"/>
                      </a:lnTo>
                      <a:lnTo>
                        <a:pt x="261" y="25"/>
                      </a:lnTo>
                      <a:lnTo>
                        <a:pt x="290" y="36"/>
                      </a:lnTo>
                      <a:lnTo>
                        <a:pt x="310" y="62"/>
                      </a:lnTo>
                      <a:lnTo>
                        <a:pt x="310" y="87"/>
                      </a:lnTo>
                      <a:lnTo>
                        <a:pt x="330" y="87"/>
                      </a:lnTo>
                      <a:lnTo>
                        <a:pt x="361" y="112"/>
                      </a:lnTo>
                      <a:lnTo>
                        <a:pt x="371" y="136"/>
                      </a:lnTo>
                      <a:lnTo>
                        <a:pt x="411" y="149"/>
                      </a:lnTo>
                      <a:lnTo>
                        <a:pt x="461" y="149"/>
                      </a:lnTo>
                      <a:lnTo>
                        <a:pt x="481" y="149"/>
                      </a:lnTo>
                      <a:lnTo>
                        <a:pt x="521" y="162"/>
                      </a:lnTo>
                      <a:lnTo>
                        <a:pt x="581" y="162"/>
                      </a:lnTo>
                      <a:lnTo>
                        <a:pt x="621" y="174"/>
                      </a:lnTo>
                      <a:lnTo>
                        <a:pt x="662" y="200"/>
                      </a:lnTo>
                      <a:lnTo>
                        <a:pt x="682" y="212"/>
                      </a:lnTo>
                      <a:lnTo>
                        <a:pt x="711" y="238"/>
                      </a:lnTo>
                      <a:lnTo>
                        <a:pt x="741" y="249"/>
                      </a:lnTo>
                      <a:lnTo>
                        <a:pt x="762" y="249"/>
                      </a:lnTo>
                      <a:lnTo>
                        <a:pt x="792" y="249"/>
                      </a:lnTo>
                      <a:lnTo>
                        <a:pt x="822" y="261"/>
                      </a:lnTo>
                      <a:lnTo>
                        <a:pt x="841" y="261"/>
                      </a:lnTo>
                      <a:lnTo>
                        <a:pt x="862" y="261"/>
                      </a:lnTo>
                      <a:lnTo>
                        <a:pt x="882" y="249"/>
                      </a:lnTo>
                      <a:lnTo>
                        <a:pt x="902" y="249"/>
                      </a:lnTo>
                      <a:lnTo>
                        <a:pt x="922" y="249"/>
                      </a:lnTo>
                      <a:lnTo>
                        <a:pt x="943" y="261"/>
                      </a:lnTo>
                      <a:lnTo>
                        <a:pt x="982" y="274"/>
                      </a:lnTo>
                      <a:lnTo>
                        <a:pt x="1022" y="287"/>
                      </a:lnTo>
                      <a:lnTo>
                        <a:pt x="1073" y="287"/>
                      </a:lnTo>
                      <a:lnTo>
                        <a:pt x="1122" y="299"/>
                      </a:lnTo>
                      <a:lnTo>
                        <a:pt x="1142" y="312"/>
                      </a:lnTo>
                      <a:lnTo>
                        <a:pt x="1163" y="312"/>
                      </a:lnTo>
                      <a:lnTo>
                        <a:pt x="1223" y="337"/>
                      </a:lnTo>
                      <a:lnTo>
                        <a:pt x="1242" y="337"/>
                      </a:lnTo>
                      <a:lnTo>
                        <a:pt x="1263" y="348"/>
                      </a:lnTo>
                      <a:lnTo>
                        <a:pt x="1303" y="325"/>
                      </a:lnTo>
                      <a:lnTo>
                        <a:pt x="1344" y="325"/>
                      </a:lnTo>
                      <a:lnTo>
                        <a:pt x="1383" y="299"/>
                      </a:lnTo>
                      <a:lnTo>
                        <a:pt x="1423" y="299"/>
                      </a:lnTo>
                      <a:lnTo>
                        <a:pt x="1454" y="299"/>
                      </a:lnTo>
                      <a:lnTo>
                        <a:pt x="1504" y="274"/>
                      </a:lnTo>
                      <a:lnTo>
                        <a:pt x="1523" y="274"/>
                      </a:lnTo>
                      <a:lnTo>
                        <a:pt x="1543" y="274"/>
                      </a:lnTo>
                      <a:lnTo>
                        <a:pt x="1564" y="274"/>
                      </a:lnTo>
                      <a:lnTo>
                        <a:pt x="1594" y="249"/>
                      </a:lnTo>
                      <a:lnTo>
                        <a:pt x="1614" y="238"/>
                      </a:lnTo>
                      <a:lnTo>
                        <a:pt x="1635" y="212"/>
                      </a:lnTo>
                      <a:lnTo>
                        <a:pt x="1654" y="174"/>
                      </a:lnTo>
                      <a:lnTo>
                        <a:pt x="1724" y="162"/>
                      </a:lnTo>
                      <a:lnTo>
                        <a:pt x="1765" y="162"/>
                      </a:lnTo>
                      <a:lnTo>
                        <a:pt x="1785" y="174"/>
                      </a:lnTo>
                      <a:lnTo>
                        <a:pt x="1834" y="174"/>
                      </a:lnTo>
                      <a:lnTo>
                        <a:pt x="1885" y="174"/>
                      </a:lnTo>
                      <a:lnTo>
                        <a:pt x="1905" y="162"/>
                      </a:lnTo>
                      <a:lnTo>
                        <a:pt x="1965" y="149"/>
                      </a:lnTo>
                      <a:lnTo>
                        <a:pt x="1985" y="149"/>
                      </a:lnTo>
                      <a:lnTo>
                        <a:pt x="2026" y="149"/>
                      </a:lnTo>
                      <a:lnTo>
                        <a:pt x="2046" y="162"/>
                      </a:lnTo>
                      <a:lnTo>
                        <a:pt x="2065" y="187"/>
                      </a:lnTo>
                      <a:lnTo>
                        <a:pt x="2085" y="187"/>
                      </a:lnTo>
                      <a:lnTo>
                        <a:pt x="2105" y="187"/>
                      </a:lnTo>
                      <a:lnTo>
                        <a:pt x="2136" y="187"/>
                      </a:lnTo>
                      <a:lnTo>
                        <a:pt x="2176" y="187"/>
                      </a:lnTo>
                      <a:lnTo>
                        <a:pt x="2196" y="174"/>
                      </a:lnTo>
                      <a:lnTo>
                        <a:pt x="2236" y="174"/>
                      </a:lnTo>
                      <a:lnTo>
                        <a:pt x="2286" y="174"/>
                      </a:lnTo>
                      <a:lnTo>
                        <a:pt x="2306" y="162"/>
                      </a:lnTo>
                      <a:lnTo>
                        <a:pt x="2327" y="149"/>
                      </a:lnTo>
                      <a:lnTo>
                        <a:pt x="2386" y="136"/>
                      </a:lnTo>
                      <a:lnTo>
                        <a:pt x="2477" y="125"/>
                      </a:lnTo>
                      <a:lnTo>
                        <a:pt x="2528" y="136"/>
                      </a:lnTo>
                      <a:lnTo>
                        <a:pt x="2548" y="149"/>
                      </a:lnTo>
                      <a:lnTo>
                        <a:pt x="2568" y="149"/>
                      </a:lnTo>
                      <a:lnTo>
                        <a:pt x="2588" y="149"/>
                      </a:lnTo>
                      <a:lnTo>
                        <a:pt x="2608" y="149"/>
                      </a:lnTo>
                      <a:lnTo>
                        <a:pt x="2627" y="162"/>
                      </a:lnTo>
                      <a:lnTo>
                        <a:pt x="2648" y="174"/>
                      </a:lnTo>
                      <a:lnTo>
                        <a:pt x="2688" y="174"/>
                      </a:lnTo>
                      <a:lnTo>
                        <a:pt x="2708" y="187"/>
                      </a:lnTo>
                      <a:lnTo>
                        <a:pt x="2739" y="187"/>
                      </a:lnTo>
                      <a:lnTo>
                        <a:pt x="2758" y="187"/>
                      </a:lnTo>
                      <a:lnTo>
                        <a:pt x="2788" y="187"/>
                      </a:lnTo>
                      <a:lnTo>
                        <a:pt x="2808" y="187"/>
                      </a:lnTo>
                      <a:lnTo>
                        <a:pt x="2829" y="187"/>
                      </a:lnTo>
                      <a:lnTo>
                        <a:pt x="2859" y="187"/>
                      </a:lnTo>
                      <a:lnTo>
                        <a:pt x="2889" y="187"/>
                      </a:lnTo>
                      <a:lnTo>
                        <a:pt x="2918" y="187"/>
                      </a:lnTo>
                      <a:lnTo>
                        <a:pt x="2949" y="187"/>
                      </a:lnTo>
                      <a:lnTo>
                        <a:pt x="2969" y="187"/>
                      </a:lnTo>
                      <a:lnTo>
                        <a:pt x="2999" y="200"/>
                      </a:lnTo>
                      <a:lnTo>
                        <a:pt x="3029" y="200"/>
                      </a:lnTo>
                      <a:lnTo>
                        <a:pt x="3059" y="200"/>
                      </a:lnTo>
                      <a:lnTo>
                        <a:pt x="3079" y="200"/>
                      </a:lnTo>
                      <a:lnTo>
                        <a:pt x="3099" y="200"/>
                      </a:lnTo>
                      <a:lnTo>
                        <a:pt x="3120" y="200"/>
                      </a:lnTo>
                      <a:lnTo>
                        <a:pt x="3140" y="200"/>
                      </a:lnTo>
                      <a:lnTo>
                        <a:pt x="3160" y="187"/>
                      </a:lnTo>
                      <a:lnTo>
                        <a:pt x="3179" y="174"/>
                      </a:lnTo>
                      <a:lnTo>
                        <a:pt x="3199" y="174"/>
                      </a:lnTo>
                      <a:lnTo>
                        <a:pt x="3220" y="174"/>
                      </a:lnTo>
                      <a:lnTo>
                        <a:pt x="3240" y="174"/>
                      </a:lnTo>
                      <a:lnTo>
                        <a:pt x="3280" y="174"/>
                      </a:lnTo>
                      <a:lnTo>
                        <a:pt x="3301" y="187"/>
                      </a:lnTo>
                      <a:lnTo>
                        <a:pt x="3360" y="212"/>
                      </a:lnTo>
                      <a:lnTo>
                        <a:pt x="3390" y="212"/>
                      </a:lnTo>
                      <a:lnTo>
                        <a:pt x="3431" y="225"/>
                      </a:lnTo>
                      <a:lnTo>
                        <a:pt x="3450" y="225"/>
                      </a:lnTo>
                      <a:lnTo>
                        <a:pt x="3521" y="212"/>
                      </a:lnTo>
                      <a:lnTo>
                        <a:pt x="3541" y="200"/>
                      </a:lnTo>
                      <a:lnTo>
                        <a:pt x="3580" y="187"/>
                      </a:lnTo>
                      <a:lnTo>
                        <a:pt x="3651" y="187"/>
                      </a:lnTo>
                      <a:lnTo>
                        <a:pt x="3681" y="187"/>
                      </a:lnTo>
                      <a:lnTo>
                        <a:pt x="3721" y="200"/>
                      </a:lnTo>
                      <a:lnTo>
                        <a:pt x="3741" y="200"/>
                      </a:lnTo>
                      <a:lnTo>
                        <a:pt x="3761" y="212"/>
                      </a:lnTo>
                      <a:lnTo>
                        <a:pt x="3812" y="225"/>
                      </a:lnTo>
                      <a:lnTo>
                        <a:pt x="3851" y="225"/>
                      </a:lnTo>
                      <a:lnTo>
                        <a:pt x="3891" y="238"/>
                      </a:lnTo>
                      <a:lnTo>
                        <a:pt x="3912" y="238"/>
                      </a:lnTo>
                      <a:lnTo>
                        <a:pt x="3972" y="238"/>
                      </a:lnTo>
                      <a:lnTo>
                        <a:pt x="4042" y="238"/>
                      </a:lnTo>
                      <a:lnTo>
                        <a:pt x="4062" y="238"/>
                      </a:lnTo>
                      <a:lnTo>
                        <a:pt x="4142" y="212"/>
                      </a:lnTo>
                      <a:lnTo>
                        <a:pt x="4262" y="174"/>
                      </a:lnTo>
                      <a:lnTo>
                        <a:pt x="4282" y="162"/>
                      </a:lnTo>
                      <a:lnTo>
                        <a:pt x="4343" y="162"/>
                      </a:lnTo>
                      <a:lnTo>
                        <a:pt x="4363" y="174"/>
                      </a:lnTo>
                      <a:lnTo>
                        <a:pt x="4383" y="187"/>
                      </a:lnTo>
                      <a:lnTo>
                        <a:pt x="4402" y="187"/>
                      </a:lnTo>
                      <a:lnTo>
                        <a:pt x="4423" y="200"/>
                      </a:lnTo>
                      <a:lnTo>
                        <a:pt x="4453" y="212"/>
                      </a:lnTo>
                      <a:lnTo>
                        <a:pt x="4494" y="238"/>
                      </a:lnTo>
                      <a:lnTo>
                        <a:pt x="4534" y="238"/>
                      </a:lnTo>
                      <a:lnTo>
                        <a:pt x="4593" y="249"/>
                      </a:lnTo>
                      <a:lnTo>
                        <a:pt x="4614" y="261"/>
                      </a:lnTo>
                      <a:lnTo>
                        <a:pt x="4664" y="261"/>
                      </a:lnTo>
                      <a:lnTo>
                        <a:pt x="4683" y="274"/>
                      </a:lnTo>
                      <a:lnTo>
                        <a:pt x="4734" y="287"/>
                      </a:lnTo>
                      <a:lnTo>
                        <a:pt x="4785" y="287"/>
                      </a:lnTo>
                      <a:lnTo>
                        <a:pt x="4844" y="312"/>
                      </a:lnTo>
                      <a:lnTo>
                        <a:pt x="4884" y="325"/>
                      </a:lnTo>
                      <a:lnTo>
                        <a:pt x="4905" y="325"/>
                      </a:lnTo>
                      <a:lnTo>
                        <a:pt x="4949" y="328"/>
                      </a:lnTo>
                      <a:lnTo>
                        <a:pt x="4949" y="434"/>
                      </a:lnTo>
                      <a:lnTo>
                        <a:pt x="4734" y="425"/>
                      </a:lnTo>
                      <a:lnTo>
                        <a:pt x="4683" y="425"/>
                      </a:lnTo>
                      <a:lnTo>
                        <a:pt x="4604" y="361"/>
                      </a:lnTo>
                      <a:lnTo>
                        <a:pt x="4583" y="361"/>
                      </a:lnTo>
                      <a:lnTo>
                        <a:pt x="4494" y="374"/>
                      </a:lnTo>
                      <a:lnTo>
                        <a:pt x="4453" y="399"/>
                      </a:lnTo>
                      <a:lnTo>
                        <a:pt x="4433" y="399"/>
                      </a:lnTo>
                      <a:lnTo>
                        <a:pt x="4373" y="425"/>
                      </a:lnTo>
                      <a:lnTo>
                        <a:pt x="4353" y="437"/>
                      </a:lnTo>
                      <a:lnTo>
                        <a:pt x="4313" y="450"/>
                      </a:lnTo>
                      <a:lnTo>
                        <a:pt x="4272" y="450"/>
                      </a:lnTo>
                      <a:lnTo>
                        <a:pt x="4182" y="450"/>
                      </a:lnTo>
                      <a:lnTo>
                        <a:pt x="4123" y="461"/>
                      </a:lnTo>
                      <a:lnTo>
                        <a:pt x="4082" y="461"/>
                      </a:lnTo>
                      <a:lnTo>
                        <a:pt x="4062" y="450"/>
                      </a:lnTo>
                      <a:lnTo>
                        <a:pt x="3982" y="450"/>
                      </a:lnTo>
                      <a:lnTo>
                        <a:pt x="3962" y="450"/>
                      </a:lnTo>
                      <a:lnTo>
                        <a:pt x="3922" y="450"/>
                      </a:lnTo>
                      <a:lnTo>
                        <a:pt x="3881" y="461"/>
                      </a:lnTo>
                      <a:lnTo>
                        <a:pt x="3842" y="461"/>
                      </a:lnTo>
                      <a:lnTo>
                        <a:pt x="3822" y="450"/>
                      </a:lnTo>
                      <a:lnTo>
                        <a:pt x="3761" y="437"/>
                      </a:lnTo>
                      <a:lnTo>
                        <a:pt x="3702" y="437"/>
                      </a:lnTo>
                      <a:lnTo>
                        <a:pt x="3641" y="437"/>
                      </a:lnTo>
                      <a:lnTo>
                        <a:pt x="3621" y="450"/>
                      </a:lnTo>
                      <a:lnTo>
                        <a:pt x="3561" y="450"/>
                      </a:lnTo>
                      <a:lnTo>
                        <a:pt x="3531" y="450"/>
                      </a:lnTo>
                      <a:lnTo>
                        <a:pt x="3480" y="437"/>
                      </a:lnTo>
                      <a:lnTo>
                        <a:pt x="3460" y="437"/>
                      </a:lnTo>
                      <a:lnTo>
                        <a:pt x="3350" y="474"/>
                      </a:lnTo>
                      <a:lnTo>
                        <a:pt x="3290" y="474"/>
                      </a:lnTo>
                      <a:lnTo>
                        <a:pt x="3230" y="425"/>
                      </a:lnTo>
                      <a:lnTo>
                        <a:pt x="3209" y="425"/>
                      </a:lnTo>
                      <a:lnTo>
                        <a:pt x="3169" y="412"/>
                      </a:lnTo>
                      <a:lnTo>
                        <a:pt x="3130" y="399"/>
                      </a:lnTo>
                      <a:lnTo>
                        <a:pt x="3069" y="387"/>
                      </a:lnTo>
                      <a:lnTo>
                        <a:pt x="3020" y="374"/>
                      </a:lnTo>
                      <a:lnTo>
                        <a:pt x="2979" y="374"/>
                      </a:lnTo>
                      <a:lnTo>
                        <a:pt x="2898" y="348"/>
                      </a:lnTo>
                      <a:lnTo>
                        <a:pt x="2869" y="348"/>
                      </a:lnTo>
                      <a:lnTo>
                        <a:pt x="2849" y="337"/>
                      </a:lnTo>
                      <a:lnTo>
                        <a:pt x="2829" y="337"/>
                      </a:lnTo>
                      <a:lnTo>
                        <a:pt x="2808" y="337"/>
                      </a:lnTo>
                      <a:lnTo>
                        <a:pt x="2778" y="337"/>
                      </a:lnTo>
                      <a:lnTo>
                        <a:pt x="2758" y="337"/>
                      </a:lnTo>
                      <a:lnTo>
                        <a:pt x="2739" y="348"/>
                      </a:lnTo>
                      <a:lnTo>
                        <a:pt x="2719" y="374"/>
                      </a:lnTo>
                      <a:lnTo>
                        <a:pt x="2698" y="387"/>
                      </a:lnTo>
                      <a:lnTo>
                        <a:pt x="2668" y="399"/>
                      </a:lnTo>
                      <a:lnTo>
                        <a:pt x="2648" y="412"/>
                      </a:lnTo>
                      <a:lnTo>
                        <a:pt x="2627" y="425"/>
                      </a:lnTo>
                      <a:lnTo>
                        <a:pt x="2608" y="437"/>
                      </a:lnTo>
                      <a:lnTo>
                        <a:pt x="2588" y="437"/>
                      </a:lnTo>
                      <a:lnTo>
                        <a:pt x="2568" y="437"/>
                      </a:lnTo>
                      <a:lnTo>
                        <a:pt x="2548" y="450"/>
                      </a:lnTo>
                      <a:lnTo>
                        <a:pt x="2528" y="450"/>
                      </a:lnTo>
                      <a:lnTo>
                        <a:pt x="2507" y="450"/>
                      </a:lnTo>
                      <a:lnTo>
                        <a:pt x="2487" y="450"/>
                      </a:lnTo>
                      <a:lnTo>
                        <a:pt x="2467" y="437"/>
                      </a:lnTo>
                      <a:lnTo>
                        <a:pt x="2427" y="437"/>
                      </a:lnTo>
                      <a:lnTo>
                        <a:pt x="2406" y="437"/>
                      </a:lnTo>
                      <a:lnTo>
                        <a:pt x="2366" y="437"/>
                      </a:lnTo>
                      <a:lnTo>
                        <a:pt x="2346" y="437"/>
                      </a:lnTo>
                      <a:lnTo>
                        <a:pt x="2327" y="412"/>
                      </a:lnTo>
                      <a:lnTo>
                        <a:pt x="2306" y="399"/>
                      </a:lnTo>
                      <a:lnTo>
                        <a:pt x="2286" y="387"/>
                      </a:lnTo>
                      <a:lnTo>
                        <a:pt x="2236" y="387"/>
                      </a:lnTo>
                      <a:lnTo>
                        <a:pt x="2196" y="387"/>
                      </a:lnTo>
                      <a:lnTo>
                        <a:pt x="2156" y="387"/>
                      </a:lnTo>
                      <a:lnTo>
                        <a:pt x="2105" y="399"/>
                      </a:lnTo>
                      <a:lnTo>
                        <a:pt x="2075" y="399"/>
                      </a:lnTo>
                      <a:lnTo>
                        <a:pt x="2036" y="437"/>
                      </a:lnTo>
                      <a:lnTo>
                        <a:pt x="2015" y="450"/>
                      </a:lnTo>
                      <a:lnTo>
                        <a:pt x="1995" y="474"/>
                      </a:lnTo>
                      <a:lnTo>
                        <a:pt x="1985" y="499"/>
                      </a:lnTo>
                      <a:lnTo>
                        <a:pt x="1965" y="499"/>
                      </a:lnTo>
                      <a:lnTo>
                        <a:pt x="1945" y="524"/>
                      </a:lnTo>
                      <a:lnTo>
                        <a:pt x="1926" y="524"/>
                      </a:lnTo>
                      <a:lnTo>
                        <a:pt x="1905" y="524"/>
                      </a:lnTo>
                      <a:lnTo>
                        <a:pt x="1845" y="537"/>
                      </a:lnTo>
                      <a:lnTo>
                        <a:pt x="1824" y="537"/>
                      </a:lnTo>
                      <a:lnTo>
                        <a:pt x="1735" y="537"/>
                      </a:lnTo>
                      <a:lnTo>
                        <a:pt x="1684" y="537"/>
                      </a:lnTo>
                      <a:lnTo>
                        <a:pt x="1645" y="524"/>
                      </a:lnTo>
                      <a:lnTo>
                        <a:pt x="1614" y="524"/>
                      </a:lnTo>
                      <a:lnTo>
                        <a:pt x="1584" y="512"/>
                      </a:lnTo>
                      <a:lnTo>
                        <a:pt x="1564" y="512"/>
                      </a:lnTo>
                      <a:lnTo>
                        <a:pt x="1543" y="499"/>
                      </a:lnTo>
                      <a:lnTo>
                        <a:pt x="1523" y="499"/>
                      </a:lnTo>
                      <a:lnTo>
                        <a:pt x="1454" y="499"/>
                      </a:lnTo>
                      <a:lnTo>
                        <a:pt x="1403" y="499"/>
                      </a:lnTo>
                      <a:lnTo>
                        <a:pt x="1283" y="499"/>
                      </a:lnTo>
                      <a:lnTo>
                        <a:pt x="1203" y="486"/>
                      </a:lnTo>
                      <a:lnTo>
                        <a:pt x="1163" y="474"/>
                      </a:lnTo>
                      <a:lnTo>
                        <a:pt x="1132" y="474"/>
                      </a:lnTo>
                      <a:lnTo>
                        <a:pt x="1093" y="474"/>
                      </a:lnTo>
                      <a:lnTo>
                        <a:pt x="1053" y="437"/>
                      </a:lnTo>
                      <a:lnTo>
                        <a:pt x="1032" y="425"/>
                      </a:lnTo>
                      <a:lnTo>
                        <a:pt x="1012" y="412"/>
                      </a:lnTo>
                      <a:lnTo>
                        <a:pt x="992" y="387"/>
                      </a:lnTo>
                      <a:lnTo>
                        <a:pt x="972" y="387"/>
                      </a:lnTo>
                      <a:lnTo>
                        <a:pt x="953" y="374"/>
                      </a:lnTo>
                      <a:lnTo>
                        <a:pt x="922" y="374"/>
                      </a:lnTo>
                      <a:lnTo>
                        <a:pt x="892" y="374"/>
                      </a:lnTo>
                      <a:lnTo>
                        <a:pt x="862" y="374"/>
                      </a:lnTo>
                      <a:lnTo>
                        <a:pt x="841" y="374"/>
                      </a:lnTo>
                      <a:lnTo>
                        <a:pt x="812" y="387"/>
                      </a:lnTo>
                      <a:lnTo>
                        <a:pt x="782" y="399"/>
                      </a:lnTo>
                      <a:lnTo>
                        <a:pt x="741" y="399"/>
                      </a:lnTo>
                      <a:lnTo>
                        <a:pt x="701" y="412"/>
                      </a:lnTo>
                      <a:lnTo>
                        <a:pt x="672" y="425"/>
                      </a:lnTo>
                      <a:lnTo>
                        <a:pt x="631" y="425"/>
                      </a:lnTo>
                      <a:lnTo>
                        <a:pt x="560" y="425"/>
                      </a:lnTo>
                      <a:lnTo>
                        <a:pt x="491" y="425"/>
                      </a:lnTo>
                      <a:lnTo>
                        <a:pt x="461" y="412"/>
                      </a:lnTo>
                      <a:lnTo>
                        <a:pt x="440" y="412"/>
                      </a:lnTo>
                      <a:lnTo>
                        <a:pt x="391" y="399"/>
                      </a:lnTo>
                      <a:lnTo>
                        <a:pt x="371" y="399"/>
                      </a:lnTo>
                      <a:lnTo>
                        <a:pt x="350" y="412"/>
                      </a:lnTo>
                      <a:lnTo>
                        <a:pt x="281" y="461"/>
                      </a:lnTo>
                      <a:lnTo>
                        <a:pt x="261" y="474"/>
                      </a:lnTo>
                      <a:lnTo>
                        <a:pt x="210" y="474"/>
                      </a:lnTo>
                      <a:lnTo>
                        <a:pt x="190" y="474"/>
                      </a:lnTo>
                      <a:lnTo>
                        <a:pt x="170" y="486"/>
                      </a:lnTo>
                      <a:lnTo>
                        <a:pt x="130" y="461"/>
                      </a:lnTo>
                      <a:lnTo>
                        <a:pt x="90" y="450"/>
                      </a:lnTo>
                      <a:lnTo>
                        <a:pt x="70" y="437"/>
                      </a:lnTo>
                      <a:lnTo>
                        <a:pt x="39" y="412"/>
                      </a:lnTo>
                      <a:lnTo>
                        <a:pt x="19" y="399"/>
                      </a:lnTo>
                      <a:lnTo>
                        <a:pt x="0" y="374"/>
                      </a:lnTo>
                      <a:lnTo>
                        <a:pt x="0" y="22"/>
                      </a:lnTo>
                      <a:close/>
                    </a:path>
                  </a:pathLst>
                </a:custGeom>
                <a:solidFill>
                  <a:srgbClr val="00a000">
                    <a:alpha val="50000"/>
                  </a:srgbClr>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sp>
          <p:nvSpPr>
            <p:cNvPr id="202" name=""/>
            <p:cNvSpPr/>
            <p:nvPr/>
          </p:nvSpPr>
          <p:spPr>
            <a:xfrm>
              <a:off x="5715000" y="838080"/>
              <a:ext cx="1359000" cy="249480"/>
            </a:xfrm>
            <a:prstGeom prst="rect">
              <a:avLst/>
            </a:prstGeom>
            <a:solidFill>
              <a:srgbClr val="0099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5760" rIns="5760" tIns="2880" bIns="28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OBJETIVOS</a:t>
              </a:r>
              <a:endParaRPr b="0" lang="en-US" sz="1600" spc="-1" strike="noStrike">
                <a:solidFill>
                  <a:srgbClr val="000000"/>
                </a:solidFill>
                <a:latin typeface="Tahoma"/>
              </a:endParaRPr>
            </a:p>
          </p:txBody>
        </p:sp>
        <p:sp>
          <p:nvSpPr>
            <p:cNvPr id="203" name=""/>
            <p:cNvSpPr/>
            <p:nvPr/>
          </p:nvSpPr>
          <p:spPr>
            <a:xfrm>
              <a:off x="5942160" y="3751200"/>
              <a:ext cx="1180800" cy="158400"/>
            </a:xfrm>
            <a:prstGeom prst="rect">
              <a:avLst/>
            </a:prstGeom>
            <a:solidFill>
              <a:srgbClr val="009999"/>
            </a:solidFill>
            <a:ln w="0">
              <a:noFill/>
            </a:ln>
          </p:spPr>
          <p:style>
            <a:lnRef idx="0"/>
            <a:fillRef idx="0"/>
            <a:effectRef idx="0"/>
            <a:fontRef idx="minor"/>
          </p:style>
          <p:txBody>
            <a:bodyPr lIns="5760" rIns="5760" tIns="2880" bIns="28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00"/>
                  </a:solidFill>
                  <a:latin typeface="Arial"/>
                </a:rPr>
                <a:t>PERSONAS</a:t>
              </a:r>
              <a:endParaRPr b="0" lang="en-US" sz="1000" spc="-1" strike="noStrike">
                <a:solidFill>
                  <a:srgbClr val="000000"/>
                </a:solidFill>
                <a:latin typeface="Tahoma"/>
              </a:endParaRPr>
            </a:p>
          </p:txBody>
        </p:sp>
        <p:grpSp>
          <p:nvGrpSpPr>
            <p:cNvPr id="204" name=""/>
            <p:cNvGrpSpPr/>
            <p:nvPr/>
          </p:nvGrpSpPr>
          <p:grpSpPr>
            <a:xfrm>
              <a:off x="5261040" y="2674800"/>
              <a:ext cx="2173320" cy="736560"/>
              <a:chOff x="5261040" y="2674800"/>
              <a:chExt cx="2173320" cy="736560"/>
            </a:xfrm>
          </p:grpSpPr>
          <p:grpSp>
            <p:nvGrpSpPr>
              <p:cNvPr id="205" name=""/>
              <p:cNvGrpSpPr/>
              <p:nvPr/>
            </p:nvGrpSpPr>
            <p:grpSpPr>
              <a:xfrm>
                <a:off x="5261040" y="2674800"/>
                <a:ext cx="332280" cy="736560"/>
                <a:chOff x="5261040" y="2674800"/>
                <a:chExt cx="332280" cy="736560"/>
              </a:xfrm>
            </p:grpSpPr>
            <p:sp>
              <p:nvSpPr>
                <p:cNvPr id="206" name=""/>
                <p:cNvSpPr/>
                <p:nvPr/>
              </p:nvSpPr>
              <p:spPr>
                <a:xfrm>
                  <a:off x="5261040" y="2674800"/>
                  <a:ext cx="33228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207" name=""/>
                <p:cNvSpPr/>
                <p:nvPr/>
              </p:nvSpPr>
              <p:spPr>
                <a:xfrm>
                  <a:off x="5261040" y="2674800"/>
                  <a:ext cx="33228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208" name=""/>
              <p:cNvGrpSpPr/>
              <p:nvPr/>
            </p:nvGrpSpPr>
            <p:grpSpPr>
              <a:xfrm>
                <a:off x="5629320" y="2674800"/>
                <a:ext cx="332280" cy="736560"/>
                <a:chOff x="5629320" y="2674800"/>
                <a:chExt cx="332280" cy="736560"/>
              </a:xfrm>
            </p:grpSpPr>
            <p:sp>
              <p:nvSpPr>
                <p:cNvPr id="209" name=""/>
                <p:cNvSpPr/>
                <p:nvPr/>
              </p:nvSpPr>
              <p:spPr>
                <a:xfrm>
                  <a:off x="5629320" y="2674800"/>
                  <a:ext cx="33228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210" name=""/>
                <p:cNvSpPr/>
                <p:nvPr/>
              </p:nvSpPr>
              <p:spPr>
                <a:xfrm>
                  <a:off x="5629320" y="2674800"/>
                  <a:ext cx="33228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211" name=""/>
              <p:cNvGrpSpPr/>
              <p:nvPr/>
            </p:nvGrpSpPr>
            <p:grpSpPr>
              <a:xfrm>
                <a:off x="5994360" y="2674800"/>
                <a:ext cx="332640" cy="736560"/>
                <a:chOff x="5994360" y="2674800"/>
                <a:chExt cx="332640" cy="736560"/>
              </a:xfrm>
            </p:grpSpPr>
            <p:sp>
              <p:nvSpPr>
                <p:cNvPr id="212" name=""/>
                <p:cNvSpPr/>
                <p:nvPr/>
              </p:nvSpPr>
              <p:spPr>
                <a:xfrm>
                  <a:off x="5994360" y="2674800"/>
                  <a:ext cx="33264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213" name=""/>
                <p:cNvSpPr/>
                <p:nvPr/>
              </p:nvSpPr>
              <p:spPr>
                <a:xfrm>
                  <a:off x="5994360" y="2674800"/>
                  <a:ext cx="33264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214" name=""/>
              <p:cNvGrpSpPr/>
              <p:nvPr/>
            </p:nvGrpSpPr>
            <p:grpSpPr>
              <a:xfrm>
                <a:off x="6360480" y="2674800"/>
                <a:ext cx="332640" cy="736560"/>
                <a:chOff x="6360480" y="2674800"/>
                <a:chExt cx="332640" cy="736560"/>
              </a:xfrm>
            </p:grpSpPr>
            <p:sp>
              <p:nvSpPr>
                <p:cNvPr id="215" name=""/>
                <p:cNvSpPr/>
                <p:nvPr/>
              </p:nvSpPr>
              <p:spPr>
                <a:xfrm>
                  <a:off x="6360480" y="2674800"/>
                  <a:ext cx="33264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216" name=""/>
                <p:cNvSpPr/>
                <p:nvPr/>
              </p:nvSpPr>
              <p:spPr>
                <a:xfrm>
                  <a:off x="6360480" y="2674800"/>
                  <a:ext cx="33264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217" name=""/>
              <p:cNvGrpSpPr/>
              <p:nvPr/>
            </p:nvGrpSpPr>
            <p:grpSpPr>
              <a:xfrm>
                <a:off x="6729840" y="2674800"/>
                <a:ext cx="332280" cy="736560"/>
                <a:chOff x="6729840" y="2674800"/>
                <a:chExt cx="332280" cy="736560"/>
              </a:xfrm>
            </p:grpSpPr>
            <p:sp>
              <p:nvSpPr>
                <p:cNvPr id="218" name=""/>
                <p:cNvSpPr/>
                <p:nvPr/>
              </p:nvSpPr>
              <p:spPr>
                <a:xfrm>
                  <a:off x="6729840" y="2674800"/>
                  <a:ext cx="33228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ff0000"/>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219" name=""/>
                <p:cNvSpPr/>
                <p:nvPr/>
              </p:nvSpPr>
              <p:spPr>
                <a:xfrm>
                  <a:off x="6729840" y="2674800"/>
                  <a:ext cx="33228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400"/>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ff0000"/>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nvGrpSpPr>
              <p:cNvPr id="220" name=""/>
              <p:cNvGrpSpPr/>
              <p:nvPr/>
            </p:nvGrpSpPr>
            <p:grpSpPr>
              <a:xfrm>
                <a:off x="7101720" y="2674800"/>
                <a:ext cx="332640" cy="736560"/>
                <a:chOff x="7101720" y="2674800"/>
                <a:chExt cx="332640" cy="736560"/>
              </a:xfrm>
            </p:grpSpPr>
            <p:sp>
              <p:nvSpPr>
                <p:cNvPr id="221" name=""/>
                <p:cNvSpPr/>
                <p:nvPr/>
              </p:nvSpPr>
              <p:spPr>
                <a:xfrm>
                  <a:off x="7101720" y="2674800"/>
                  <a:ext cx="33264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397"/>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lnTo>
                        <a:pt x="285" y="1"/>
                      </a:lnTo>
                      <a:close/>
                    </a:path>
                  </a:pathLst>
                </a:custGeom>
                <a:solidFill>
                  <a:srgbClr val="333399"/>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222" name=""/>
                <p:cNvSpPr/>
                <p:nvPr/>
              </p:nvSpPr>
              <p:spPr>
                <a:xfrm>
                  <a:off x="7101720" y="2674800"/>
                  <a:ext cx="332640" cy="736560"/>
                </a:xfrm>
                <a:custGeom>
                  <a:avLst/>
                  <a:gdLst/>
                  <a:ahLst/>
                  <a:rect l="l" t="t" r="r" b="b"/>
                  <a:pathLst>
                    <a:path w="590" h="1243">
                      <a:moveTo>
                        <a:pt x="285" y="1"/>
                      </a:moveTo>
                      <a:lnTo>
                        <a:pt x="259" y="1"/>
                      </a:lnTo>
                      <a:lnTo>
                        <a:pt x="248" y="4"/>
                      </a:lnTo>
                      <a:lnTo>
                        <a:pt x="236" y="7"/>
                      </a:lnTo>
                      <a:lnTo>
                        <a:pt x="218" y="12"/>
                      </a:lnTo>
                      <a:lnTo>
                        <a:pt x="204" y="18"/>
                      </a:lnTo>
                      <a:lnTo>
                        <a:pt x="188" y="28"/>
                      </a:lnTo>
                      <a:lnTo>
                        <a:pt x="176" y="35"/>
                      </a:lnTo>
                      <a:lnTo>
                        <a:pt x="165" y="45"/>
                      </a:lnTo>
                      <a:lnTo>
                        <a:pt x="158" y="51"/>
                      </a:lnTo>
                      <a:lnTo>
                        <a:pt x="149" y="60"/>
                      </a:lnTo>
                      <a:lnTo>
                        <a:pt x="140" y="71"/>
                      </a:lnTo>
                      <a:lnTo>
                        <a:pt x="133" y="78"/>
                      </a:lnTo>
                      <a:lnTo>
                        <a:pt x="126" y="93"/>
                      </a:lnTo>
                      <a:lnTo>
                        <a:pt x="119" y="102"/>
                      </a:lnTo>
                      <a:lnTo>
                        <a:pt x="111" y="119"/>
                      </a:lnTo>
                      <a:lnTo>
                        <a:pt x="104" y="141"/>
                      </a:lnTo>
                      <a:lnTo>
                        <a:pt x="102" y="159"/>
                      </a:lnTo>
                      <a:lnTo>
                        <a:pt x="98" y="181"/>
                      </a:lnTo>
                      <a:lnTo>
                        <a:pt x="98" y="191"/>
                      </a:lnTo>
                      <a:lnTo>
                        <a:pt x="99" y="202"/>
                      </a:lnTo>
                      <a:lnTo>
                        <a:pt x="101" y="210"/>
                      </a:lnTo>
                      <a:lnTo>
                        <a:pt x="102" y="219"/>
                      </a:lnTo>
                      <a:lnTo>
                        <a:pt x="104" y="229"/>
                      </a:lnTo>
                      <a:lnTo>
                        <a:pt x="108" y="240"/>
                      </a:lnTo>
                      <a:lnTo>
                        <a:pt x="111" y="251"/>
                      </a:lnTo>
                      <a:lnTo>
                        <a:pt x="115" y="262"/>
                      </a:lnTo>
                      <a:lnTo>
                        <a:pt x="119" y="270"/>
                      </a:lnTo>
                      <a:lnTo>
                        <a:pt x="126" y="281"/>
                      </a:lnTo>
                      <a:lnTo>
                        <a:pt x="132" y="290"/>
                      </a:lnTo>
                      <a:lnTo>
                        <a:pt x="137" y="297"/>
                      </a:lnTo>
                      <a:lnTo>
                        <a:pt x="141" y="303"/>
                      </a:lnTo>
                      <a:lnTo>
                        <a:pt x="151" y="315"/>
                      </a:lnTo>
                      <a:lnTo>
                        <a:pt x="159" y="323"/>
                      </a:lnTo>
                      <a:lnTo>
                        <a:pt x="168" y="330"/>
                      </a:lnTo>
                      <a:lnTo>
                        <a:pt x="176" y="338"/>
                      </a:lnTo>
                      <a:lnTo>
                        <a:pt x="193" y="347"/>
                      </a:lnTo>
                      <a:lnTo>
                        <a:pt x="201" y="352"/>
                      </a:lnTo>
                      <a:lnTo>
                        <a:pt x="210" y="357"/>
                      </a:lnTo>
                      <a:lnTo>
                        <a:pt x="222" y="360"/>
                      </a:lnTo>
                      <a:lnTo>
                        <a:pt x="0" y="396"/>
                      </a:lnTo>
                      <a:lnTo>
                        <a:pt x="0" y="909"/>
                      </a:lnTo>
                      <a:lnTo>
                        <a:pt x="172" y="789"/>
                      </a:lnTo>
                      <a:lnTo>
                        <a:pt x="171" y="1243"/>
                      </a:lnTo>
                      <a:lnTo>
                        <a:pt x="421" y="1243"/>
                      </a:lnTo>
                      <a:lnTo>
                        <a:pt x="421" y="787"/>
                      </a:lnTo>
                      <a:lnTo>
                        <a:pt x="590" y="908"/>
                      </a:lnTo>
                      <a:lnTo>
                        <a:pt x="590" y="397"/>
                      </a:lnTo>
                      <a:lnTo>
                        <a:pt x="349" y="364"/>
                      </a:lnTo>
                      <a:lnTo>
                        <a:pt x="373" y="352"/>
                      </a:lnTo>
                      <a:lnTo>
                        <a:pt x="383" y="347"/>
                      </a:lnTo>
                      <a:lnTo>
                        <a:pt x="391" y="342"/>
                      </a:lnTo>
                      <a:lnTo>
                        <a:pt x="400" y="336"/>
                      </a:lnTo>
                      <a:lnTo>
                        <a:pt x="408" y="330"/>
                      </a:lnTo>
                      <a:lnTo>
                        <a:pt x="418" y="322"/>
                      </a:lnTo>
                      <a:lnTo>
                        <a:pt x="428" y="311"/>
                      </a:lnTo>
                      <a:lnTo>
                        <a:pt x="440" y="297"/>
                      </a:lnTo>
                      <a:lnTo>
                        <a:pt x="451" y="282"/>
                      </a:lnTo>
                      <a:lnTo>
                        <a:pt x="460" y="265"/>
                      </a:lnTo>
                      <a:lnTo>
                        <a:pt x="469" y="246"/>
                      </a:lnTo>
                      <a:lnTo>
                        <a:pt x="472" y="231"/>
                      </a:lnTo>
                      <a:lnTo>
                        <a:pt x="477" y="209"/>
                      </a:lnTo>
                      <a:lnTo>
                        <a:pt x="477" y="181"/>
                      </a:lnTo>
                      <a:lnTo>
                        <a:pt x="476" y="167"/>
                      </a:lnTo>
                      <a:lnTo>
                        <a:pt x="472" y="145"/>
                      </a:lnTo>
                      <a:lnTo>
                        <a:pt x="466" y="125"/>
                      </a:lnTo>
                      <a:lnTo>
                        <a:pt x="460" y="109"/>
                      </a:lnTo>
                      <a:lnTo>
                        <a:pt x="456" y="100"/>
                      </a:lnTo>
                      <a:lnTo>
                        <a:pt x="448" y="85"/>
                      </a:lnTo>
                      <a:lnTo>
                        <a:pt x="441" y="76"/>
                      </a:lnTo>
                      <a:lnTo>
                        <a:pt x="432" y="65"/>
                      </a:lnTo>
                      <a:lnTo>
                        <a:pt x="422" y="54"/>
                      </a:lnTo>
                      <a:lnTo>
                        <a:pt x="410" y="43"/>
                      </a:lnTo>
                      <a:lnTo>
                        <a:pt x="400" y="35"/>
                      </a:lnTo>
                      <a:lnTo>
                        <a:pt x="388" y="27"/>
                      </a:lnTo>
                      <a:lnTo>
                        <a:pt x="378" y="22"/>
                      </a:lnTo>
                      <a:lnTo>
                        <a:pt x="371" y="18"/>
                      </a:lnTo>
                      <a:lnTo>
                        <a:pt x="362" y="15"/>
                      </a:lnTo>
                      <a:lnTo>
                        <a:pt x="347" y="9"/>
                      </a:lnTo>
                      <a:lnTo>
                        <a:pt x="337" y="6"/>
                      </a:lnTo>
                      <a:lnTo>
                        <a:pt x="325" y="4"/>
                      </a:lnTo>
                      <a:lnTo>
                        <a:pt x="308" y="0"/>
                      </a:lnTo>
                      <a:lnTo>
                        <a:pt x="288" y="1"/>
                      </a:lnTo>
                    </a:path>
                  </a:pathLst>
                </a:custGeom>
                <a:solidFill>
                  <a:srgbClr val="333399"/>
                </a:solidFill>
                <a:ln w="12600">
                  <a:solidFill>
                    <a:srgbClr val="000000"/>
                  </a:solidFill>
                  <a:round/>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grpSp>
        </p:grpSp>
        <p:sp>
          <p:nvSpPr>
            <p:cNvPr id="223" name=""/>
            <p:cNvSpPr/>
            <p:nvPr/>
          </p:nvSpPr>
          <p:spPr>
            <a:xfrm rot="16200000">
              <a:off x="5637240" y="1815840"/>
              <a:ext cx="1438200" cy="479160"/>
            </a:xfrm>
            <a:custGeom>
              <a:avLst/>
              <a:gdLst>
                <a:gd name="textAreaLeft" fmla="*/ 179640 w 1438200"/>
                <a:gd name="textAreaRight" fmla="*/ 1258560 w 1438200"/>
                <a:gd name="textAreaTop" fmla="*/ 119880 h 479160"/>
                <a:gd name="textAreaBottom" fmla="*/ 359640 h 479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0">
              <a:noFill/>
            </a:ln>
          </p:spPr>
          <p:style>
            <a:lnRef idx="0"/>
            <a:fillRef idx="0"/>
            <a:effectRef idx="0"/>
            <a:fontRef idx="minor"/>
          </p:style>
          <p:txBody>
            <a:bodyPr lIns="2520" rIns="2520" tIns="1080" bIns="1080" anchor="t">
              <a:spAutoFit/>
            </a:bodyPr>
            <a:p>
              <a:endParaRPr b="0" lang="en-US" sz="1800" spc="-1" strike="noStrike">
                <a:solidFill>
                  <a:srgbClr val="000000"/>
                </a:solidFill>
                <a:latin typeface="Tahoma"/>
              </a:endParaRPr>
            </a:p>
          </p:txBody>
        </p:sp>
        <p:sp>
          <p:nvSpPr>
            <p:cNvPr id="224" name=""/>
            <p:cNvSpPr/>
            <p:nvPr/>
          </p:nvSpPr>
          <p:spPr>
            <a:xfrm>
              <a:off x="6727680" y="2203560"/>
              <a:ext cx="1009800" cy="158400"/>
            </a:xfrm>
            <a:prstGeom prst="rect">
              <a:avLst/>
            </a:prstGeom>
            <a:solidFill>
              <a:srgbClr val="009999">
                <a:alpha val="50000"/>
              </a:srgbClr>
            </a:solidFill>
            <a:ln w="0">
              <a:noFill/>
            </a:ln>
          </p:spPr>
          <p:style>
            <a:lnRef idx="0"/>
            <a:fillRef idx="0"/>
            <a:effectRef idx="0"/>
            <a:fontRef idx="minor"/>
          </p:style>
          <p:txBody>
            <a:bodyPr lIns="5760" rIns="5760" tIns="2880" bIns="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00"/>
                  </a:solidFill>
                  <a:latin typeface="Arial"/>
                </a:rPr>
                <a:t>MATERIALES</a:t>
              </a:r>
              <a:endParaRPr b="0" lang="en-US" sz="1000" spc="-1" strike="noStrike">
                <a:solidFill>
                  <a:srgbClr val="000000"/>
                </a:solidFill>
                <a:latin typeface="Tahoma"/>
              </a:endParaRPr>
            </a:p>
          </p:txBody>
        </p:sp>
        <p:sp>
          <p:nvSpPr>
            <p:cNvPr id="225" name=""/>
            <p:cNvSpPr/>
            <p:nvPr/>
          </p:nvSpPr>
          <p:spPr>
            <a:xfrm>
              <a:off x="4829040" y="2203560"/>
              <a:ext cx="1059120" cy="158400"/>
            </a:xfrm>
            <a:prstGeom prst="rect">
              <a:avLst/>
            </a:prstGeom>
            <a:solidFill>
              <a:srgbClr val="009999">
                <a:alpha val="50000"/>
              </a:srgbClr>
            </a:solidFill>
            <a:ln w="0">
              <a:noFill/>
            </a:ln>
          </p:spPr>
          <p:style>
            <a:lnRef idx="0"/>
            <a:fillRef idx="0"/>
            <a:effectRef idx="0"/>
            <a:fontRef idx="minor"/>
          </p:style>
          <p:txBody>
            <a:bodyPr lIns="5760" rIns="5760" tIns="2880" bIns="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00"/>
                  </a:solidFill>
                  <a:latin typeface="Arial"/>
                </a:rPr>
                <a:t>FINANCIEROS</a:t>
              </a:r>
              <a:endParaRPr b="0" lang="en-US" sz="1000" spc="-1" strike="noStrike">
                <a:solidFill>
                  <a:srgbClr val="000000"/>
                </a:solidFill>
                <a:latin typeface="Tahoma"/>
              </a:endParaRPr>
            </a:p>
          </p:txBody>
        </p:sp>
        <p:sp>
          <p:nvSpPr>
            <p:cNvPr id="226" name=""/>
            <p:cNvSpPr/>
            <p:nvPr/>
          </p:nvSpPr>
          <p:spPr>
            <a:xfrm>
              <a:off x="6656400" y="1774800"/>
              <a:ext cx="1212840" cy="158400"/>
            </a:xfrm>
            <a:prstGeom prst="rect">
              <a:avLst/>
            </a:prstGeom>
            <a:solidFill>
              <a:srgbClr val="009999">
                <a:alpha val="50000"/>
              </a:srgbClr>
            </a:solidFill>
            <a:ln w="0">
              <a:noFill/>
            </a:ln>
          </p:spPr>
          <p:style>
            <a:lnRef idx="0"/>
            <a:fillRef idx="0"/>
            <a:effectRef idx="0"/>
            <a:fontRef idx="minor"/>
          </p:style>
          <p:txBody>
            <a:bodyPr lIns="5760" rIns="5760" tIns="2880" bIns="28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00"/>
                  </a:solidFill>
                  <a:latin typeface="Arial"/>
                </a:rPr>
                <a:t>TECNOLOGICOS</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00000" y="1413000"/>
            <a:ext cx="7345440" cy="4680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66"/>
                </a:solidFill>
                <a:latin typeface="Arial"/>
              </a:rPr>
              <a:t>“</a:t>
            </a:r>
            <a:r>
              <a:rPr b="1" lang="es-ES" sz="4000" spc="-1" strike="noStrike">
                <a:solidFill>
                  <a:srgbClr val="000066"/>
                </a:solidFill>
                <a:latin typeface="Arial"/>
              </a:rPr>
              <a:t>Las organizaciones son entidades sociales, dirigidas a metas, diseñadas con una estructura deliberada y con sistemas de actividad coordinados y vinculadas con el ambiente externo”</a:t>
            </a:r>
            <a:br>
              <a:rPr sz="4000"/>
            </a:br>
            <a:br>
              <a:rPr sz="4000"/>
            </a:br>
            <a:r>
              <a:rPr b="0" lang="es-ES" sz="1600" spc="-1" strike="noStrike">
                <a:solidFill>
                  <a:srgbClr val="990000"/>
                </a:solidFill>
                <a:latin typeface="Arial"/>
              </a:rPr>
              <a:t>Richard L. Daft</a:t>
            </a:r>
            <a:r>
              <a:rPr b="1" lang="es-ES" sz="1600" spc="-1" strike="noStrike">
                <a:solidFill>
                  <a:srgbClr val="990000"/>
                </a:solidFill>
                <a:latin typeface="Arial"/>
              </a:rPr>
              <a:t>, </a:t>
            </a:r>
            <a:r>
              <a:rPr b="0" i="1" lang="es-ES" sz="1600" spc="-1" strike="noStrike">
                <a:solidFill>
                  <a:srgbClr val="990000"/>
                </a:solidFill>
                <a:latin typeface="Arial"/>
              </a:rPr>
              <a:t>Teoría y diseño organizacional</a:t>
            </a:r>
            <a:r>
              <a:rPr b="0" lang="es-ES" sz="1600" spc="-1" strike="noStrike">
                <a:solidFill>
                  <a:srgbClr val="990000"/>
                </a:solidFill>
                <a:latin typeface="Arial"/>
              </a:rPr>
              <a:t>,</a:t>
            </a:r>
            <a:br>
              <a:rPr sz="1600"/>
            </a:br>
            <a:r>
              <a:rPr b="0" lang="es-ES" sz="1600" spc="-1" strike="noStrike">
                <a:solidFill>
                  <a:srgbClr val="990000"/>
                </a:solidFill>
                <a:latin typeface="Arial"/>
              </a:rPr>
              <a:t> México, Thomson, 8va Edición, 2005, p. 11</a:t>
            </a:r>
            <a:r>
              <a:rPr b="0" lang="es-ES" sz="1600" spc="-1" strike="noStrike">
                <a:solidFill>
                  <a:srgbClr val="000000"/>
                </a:solidFill>
                <a:latin typeface="Arial"/>
              </a:rPr>
              <a:t>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68360" y="1341360"/>
            <a:ext cx="8229600" cy="4741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l conjunto de relaciones entre las actividades de la organización constituyen su estructura.</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La estructura es de carácter relativamente estable en el tiemp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19:52:58Z</dcterms:created>
  <dc:creator>mlgontes</dc:creator>
  <dc:description/>
  <dc:language>en-US</dc:language>
  <cp:lastModifiedBy>francisco.molina</cp:lastModifiedBy>
  <dcterms:modified xsi:type="dcterms:W3CDTF">2013-01-18T22:11:14Z</dcterms:modified>
  <cp:revision>84</cp:revision>
  <dc:subject/>
  <dc:title>¿QUÉ HACEN LOS DIRECTIVOS Y QUÉ HABILIDADES NECESITAN PARA UN TRABAJO EFECTIVO?</dc:title>
</cp:coreProperties>
</file>